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B8C9-B6EA-4ED5-B111-28275D77A45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9DF4-3688-4151-9C7B-610F3EEB19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262-D9AC-4532-898A-922AC2CC7D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93AC-3165-4311-AF16-50674AC3B4F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3129-A2AA-48FB-8A9A-EDA5636DFEF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3F58-2DE3-4192-9934-F54F28159A3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C2EB-3AFF-48C9-875A-8D06CE53A5C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1239-696D-4975-B144-0F6F0CF3D3D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441E-70B5-4B0B-AA0E-5F9E7E27B0A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DB86-8AEE-43C1-ADC9-30BD5C138D57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773-31D5-4E6F-AF39-FC9993C63B52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14EE-276E-47AB-896D-DF57B80AD96F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FE9F2-BD5C-43D2-9263-691E964DD85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416-6C4C-4380-9A1E-D1FE2C8821A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9224-F1F2-40ED-B666-645CDAE6ED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137-BFC1-4BBF-996B-3CD39CF9512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26D8-AA70-4B69-9E18-D24EA082905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F1A5-729A-49A5-8787-1C980281B7C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160-4144-4968-A4C1-3ADC59FE77C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D3EB-5C17-4F7F-A73B-440F4EB427C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DB72-5B9C-4D71-8E49-89F5B441A56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13A7-8158-49B5-BA93-DB3B9991EC9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2B3F-2A2F-4296-9C95-6C1C1A9E291A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AE4F-3550-41AD-8723-ADCFCC3EECE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2DF1-42B2-4A46-993E-A84FF6552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FB0B-6BA6-47CA-916E-222BE200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D71-5E48-4114-A8AF-3B486AAE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72F-C1CD-4020-B373-06A46116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0619-CC4D-4381-B47D-AF040729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DEE8-0130-4697-8EC7-FFC53735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F437-A842-407D-8B8D-92A3639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355D-43B3-411E-B897-BF4FA297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AC2F-05C0-4FE2-B124-9E3670C3D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D470-493B-46DE-91C6-7D818F7B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489F-0BE8-4279-BB94-74FB98E9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F12-F732-4D73-AACB-A662C388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ABE7-5918-443D-B0AE-7005F6FE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C636-75B1-4401-9D7F-52DBC9F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63B8-C214-4DD6-A8ED-0BAFD532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F2EC-7542-46BB-BD60-5D3FCAF2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18E-C0D8-4242-9772-E9E05B2C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8304C-8BFB-4AFF-A514-7E41C2DF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2C68-38CF-4EE2-9273-10BB7283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DB35-B26A-4746-8423-DF64BA27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2430-0065-4A28-8AF5-9F648C95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C9D0-E601-4F3D-8BA2-42151EC0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C4AD-7E09-45F8-9FDB-C87A044A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AE70F-945C-4E6F-8C82-752A0CE90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FCE74-F191-4EA0-B765-5144E0CC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DB3A-4FE4-4045-BB7F-20076710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4B953-79A5-49FC-9EB3-9E1C362B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333B2-C89A-443F-BFCA-184AC023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0881B-9473-449A-8A60-DF66AAD1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86716-D623-420B-9545-76D139C1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BAC8C-0106-4225-81FF-ACC0B5D2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27477-EF56-446C-BCD9-94B8D2AE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37DF-7A43-43D2-96E9-111FF6AF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2886-AD6A-403D-9093-9BEDE1E7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1EE7C-57CF-423A-BE23-F73AD46C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DEEE5-24C5-4A0E-8FE3-43CE13745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5AE3B-EB68-4EE3-8056-7CD9E62D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2471-A431-4D86-AB23-E8DC899D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D33D-9BDF-437A-B0A3-479AC4E1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C613-0B9F-4301-9C00-AD638226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386AC-7A0C-4FF5-92AF-6721BAB2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0760-1726-42F1-BF2A-091EECC9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4B12D-FC3F-49D7-ABFA-ACD1AEAD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7C2B-1198-4CD4-86BF-AA2AB864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1C45-D625-4563-8075-7624699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EB1A7-230F-4465-97B9-D5C708A8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7FF46-AD7D-4A45-A42A-AE542A2F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F60D1-B3DF-4262-B667-D4332E4A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FE20-ED83-4140-9D99-F873E2BC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D989F-ED82-491A-913D-DFE20681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CD3DF-D83C-418C-8B7D-43A1F953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EEC47-C6BB-4BC7-BC14-D54BAA4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49204-E9EF-4AF7-8CA9-CBE5AAAB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7F97A-51FD-4C5E-8B5A-E90E3A59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5C4E-C49F-481F-9632-C95C9EE9F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C0A-BCF2-4E5C-AF2D-E7FB1D56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B4196-F609-4FA2-9628-E543FC14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7544-84B8-4865-91B1-4C3D64D4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5E948-E173-4EFE-8225-2BE66ED5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D7296-48AE-4BD6-9425-4C9B303C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7831-99E9-47DD-A137-5B3F4F54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283A1-71C0-411F-BF06-3D1C5F2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1D84-3B03-4B3B-98E4-CD19CF9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C5A62-5D52-4A94-A937-29A8B2CA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DAA64-607F-46CC-9D4A-CDD8A477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85F1-F6A9-4C6E-8E61-F82F977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7F9-079C-4C1E-B07D-A1DAF325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74AC-F017-4BC8-8140-613D8B5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F1826-2A45-48BA-88C5-2F561BFC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688FE-4CA3-410E-AD9D-FE3160DC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B3DA2-CDF2-4278-8995-D23430F5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58416-0156-464E-9226-870AC0FC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50F8-2180-407E-B86E-AEEA74FF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1F2B2-3C56-463B-AFF3-4930FF00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01C06-9FDC-48BC-8170-5D0B01C3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E8AB9-E5F0-4FE2-ACCE-0731813D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C337C-A34A-404F-80AA-0AAFAFA5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B2D-CF6E-41E5-A64D-AB37DF3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73A1A-A5BC-45F2-AEBA-6418B19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80153-96D1-43C0-8351-A4371161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9F28F-E782-4E26-9934-7CE35F4B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66803-BD57-480B-A414-46119D5E7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AC195-E6E1-4D19-A065-350A3448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4BB0-A46D-435D-A5D5-40B17F524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61C98-73CC-40E0-A232-8D45FFFC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ED5E-D09F-4225-85BD-7553667D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BD387-EC15-441D-BD16-EA66B466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CBC72-E2F7-48C4-8152-298D30AB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FE7-F22F-4B6C-9ADB-F0050C0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1903D-2811-41CD-8EA8-061E6C59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F9F18-2354-4634-9B15-E0ED324A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F1015-7B0D-4169-AFFE-0C501FFF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961CC-445C-4EE3-919E-9F7E9034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986F0-3F7D-455A-8C7E-9D4B74C0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60DFF-D2B5-472F-A573-D85BACF3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E963-8A1A-44ED-B4F0-792DA4EF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7DE8-E630-43B1-B4A7-8BD0F6604328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FB0E-79AD-433B-A25D-0BDFFAA5C428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324B-C910-43F4-9B91-FBD36C1A0C30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F0A-1E3D-4305-9D2C-EFBB0A110C3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CDB5-61C8-4941-B684-44A0EE0F781A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38FE-AC55-4D59-8EE6-C4F5AEB2DE41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643C-DC79-43A6-9B81-0B646EA569D3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B45-157E-4203-B30C-FDD971272D0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1 Título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Corbel"/>
              </a:rPr>
              <a:t>Primavera 2011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3 CuadroTexto"/>
          <p:cNvSpPr/>
          <p:nvPr/>
        </p:nvSpPr>
        <p:spPr>
          <a:xfrm>
            <a:off x="2500200" y="564372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 Bastar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ecilia@dcc.uchile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87D4-2AE6-4AF3-9D2C-EA536B22E17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BS00580_"/>
          <p:cNvPicPr/>
          <p:nvPr/>
        </p:nvPicPr>
        <p:blipFill>
          <a:blip r:embed="rId1"/>
          <a:stretch/>
        </p:blipFill>
        <p:spPr>
          <a:xfrm>
            <a:off x="6500880" y="1600200"/>
            <a:ext cx="2514600" cy="2119320"/>
          </a:xfrm>
          <a:prstGeom prst="rect">
            <a:avLst/>
          </a:prstGeom>
          <a:ln w="0">
            <a:noFill/>
          </a:ln>
        </p:spPr>
      </p:pic>
      <p:pic>
        <p:nvPicPr>
          <p:cNvPr id="382" name="Rectangle 3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7476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ciencia de la computación se ocupa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de las teorías y métodos subyacentes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a las computadoras y los sistemas de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se refiere a los problemas prácticos de producir softwar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Los ingenieros de software requieren conocimiento de ciencias de la computación para realizar su labor, pero su objetivo es pragmátic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9DF5-2AB1-4A43-8496-86818773396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de la computación para la construcción de programas de software y todos sus documentos y datos asociado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es así como se desarrolla habitualmente la práctica profesional? y ¿por qué sería conveniente que así fuera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55D9-4F47-4ED2-9E08-F0B405C72A9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ngeniería de Software es el área de la ciencia de la computación que trata con la construcción de sistemas de software que son tan grandes o complejos que son construidos por un equipo o varios equipos de ingenieros. [Ghezzi91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Construcción de un software con múltiples versiones  por múltiples personas. [Parnas87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4923-79A6-4DD4-A89A-7215042E800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993600" y="3489480"/>
            <a:ext cx="7139520" cy="2986920"/>
            <a:chOff x="993600" y="3489480"/>
            <a:chExt cx="7139520" cy="2986920"/>
          </a:xfrm>
        </p:grpSpPr>
        <p:sp>
          <p:nvSpPr>
            <p:cNvPr id="392" name="Rectangle 5"/>
            <p:cNvSpPr/>
            <p:nvPr/>
          </p:nvSpPr>
          <p:spPr>
            <a:xfrm>
              <a:off x="99360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rbel"/>
                </a:rPr>
                <a:t>CC44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6"/>
            <p:cNvSpPr/>
            <p:nvPr/>
          </p:nvSpPr>
          <p:spPr>
            <a:xfrm>
              <a:off x="358452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5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7"/>
            <p:cNvSpPr/>
            <p:nvPr/>
          </p:nvSpPr>
          <p:spPr>
            <a:xfrm>
              <a:off x="6175440" y="3489480"/>
              <a:ext cx="1828800" cy="114300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rbel"/>
                </a:rPr>
                <a:t>CC61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AutoShape 8"/>
            <p:cNvSpPr/>
            <p:nvPr/>
          </p:nvSpPr>
          <p:spPr>
            <a:xfrm>
              <a:off x="289872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AutoShape 9"/>
            <p:cNvSpPr/>
            <p:nvPr/>
          </p:nvSpPr>
          <p:spPr>
            <a:xfrm>
              <a:off x="5489640" y="387036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0"/>
            <p:cNvSpPr/>
            <p:nvPr/>
          </p:nvSpPr>
          <p:spPr>
            <a:xfrm>
              <a:off x="1147320" y="5162760"/>
              <a:ext cx="1555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Técnicas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du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1"/>
            <p:cNvSpPr/>
            <p:nvPr/>
          </p:nvSpPr>
          <p:spPr>
            <a:xfrm>
              <a:off x="3669480" y="5086440"/>
              <a:ext cx="1695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ces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2"/>
            <p:cNvSpPr/>
            <p:nvPr/>
          </p:nvSpPr>
          <p:spPr>
            <a:xfrm>
              <a:off x="6196680" y="5162760"/>
              <a:ext cx="1936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Aplicación Re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Ingenierí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de Softw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(proyect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3"/>
            <p:cNvSpPr/>
            <p:nvPr/>
          </p:nvSpPr>
          <p:spPr>
            <a:xfrm flipV="1">
              <a:off x="19080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4"/>
            <p:cNvSpPr/>
            <p:nvPr/>
          </p:nvSpPr>
          <p:spPr>
            <a:xfrm flipV="1">
              <a:off x="449892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 flipV="1">
              <a:off x="7165800" y="4632120"/>
              <a:ext cx="0" cy="609480"/>
            </a:xfrm>
            <a:prstGeom prst="line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3" name="Rectangle 16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rbel"/>
              </a:rPr>
              <a:t>La IS trata de organizar un buen proceso de desarrollo para lograr un buen product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840E-967B-496B-8DB3-485AE15FAA5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414360" y="378000"/>
            <a:ext cx="8053200" cy="115236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3"/>
          <p:cNvGrpSpPr/>
          <p:nvPr/>
        </p:nvGrpSpPr>
        <p:grpSpPr>
          <a:xfrm>
            <a:off x="1295280" y="2209680"/>
            <a:ext cx="6782040" cy="3429000"/>
            <a:chOff x="1295280" y="2209680"/>
            <a:chExt cx="6782040" cy="3429000"/>
          </a:xfrm>
        </p:grpSpPr>
        <p:sp>
          <p:nvSpPr>
            <p:cNvPr id="408" name="AutoShape 4"/>
            <p:cNvSpPr/>
            <p:nvPr/>
          </p:nvSpPr>
          <p:spPr>
            <a:xfrm>
              <a:off x="1295280" y="38862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5"/>
            <p:cNvSpPr/>
            <p:nvPr/>
          </p:nvSpPr>
          <p:spPr>
            <a:xfrm>
              <a:off x="3657600" y="259092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6"/>
            <p:cNvSpPr/>
            <p:nvPr/>
          </p:nvSpPr>
          <p:spPr>
            <a:xfrm>
              <a:off x="3352680" y="4038480"/>
              <a:ext cx="228600" cy="13716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35640 h 1371600"/>
                <a:gd name="textAreaBottom" fmla="*/ 133596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7"/>
            <p:cNvSpPr/>
            <p:nvPr/>
          </p:nvSpPr>
          <p:spPr>
            <a:xfrm>
              <a:off x="3657600" y="45720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8"/>
            <p:cNvSpPr/>
            <p:nvPr/>
          </p:nvSpPr>
          <p:spPr>
            <a:xfrm>
              <a:off x="1295280" y="5257800"/>
              <a:ext cx="2057400" cy="380880"/>
            </a:xfrm>
            <a:prstGeom prst="rightArrow">
              <a:avLst>
                <a:gd name="adj1" fmla="val 50000"/>
                <a:gd name="adj2" fmla="val 135043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9"/>
            <p:cNvSpPr/>
            <p:nvPr/>
          </p:nvSpPr>
          <p:spPr>
            <a:xfrm>
              <a:off x="5715000" y="2743200"/>
              <a:ext cx="228600" cy="2057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10"/>
            <p:cNvSpPr/>
            <p:nvPr/>
          </p:nvSpPr>
          <p:spPr>
            <a:xfrm>
              <a:off x="6019920" y="3581280"/>
              <a:ext cx="2057400" cy="381240"/>
            </a:xfrm>
            <a:prstGeom prst="rightArrow">
              <a:avLst>
                <a:gd name="adj1" fmla="val 50000"/>
                <a:gd name="adj2" fmla="val 134915"/>
              </a:avLst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11"/>
            <p:cNvSpPr/>
            <p:nvPr/>
          </p:nvSpPr>
          <p:spPr>
            <a:xfrm>
              <a:off x="1392480" y="3505320"/>
              <a:ext cx="13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Produ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2"/>
            <p:cNvSpPr/>
            <p:nvPr/>
          </p:nvSpPr>
          <p:spPr>
            <a:xfrm>
              <a:off x="1561320" y="4952880"/>
              <a:ext cx="120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Artesan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3"/>
            <p:cNvSpPr/>
            <p:nvPr/>
          </p:nvSpPr>
          <p:spPr>
            <a:xfrm>
              <a:off x="3765960" y="419112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omer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4"/>
            <p:cNvSpPr/>
            <p:nvPr/>
          </p:nvSpPr>
          <p:spPr>
            <a:xfrm>
              <a:off x="3782520" y="2209680"/>
              <a:ext cx="9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Cienc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5"/>
            <p:cNvSpPr/>
            <p:nvPr/>
          </p:nvSpPr>
          <p:spPr>
            <a:xfrm>
              <a:off x="6131160" y="3124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Tahoma"/>
                </a:rPr>
                <a:t>Ingenierí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28"/>
          <p:cNvGrpSpPr/>
          <p:nvPr/>
        </p:nvGrpSpPr>
        <p:grpSpPr>
          <a:xfrm>
            <a:off x="2057400" y="1752480"/>
            <a:ext cx="1981080" cy="1371600"/>
            <a:chOff x="2057400" y="1752480"/>
            <a:chExt cx="1981080" cy="1371600"/>
          </a:xfrm>
        </p:grpSpPr>
        <p:sp>
          <p:nvSpPr>
            <p:cNvPr id="421" name="Oval 17"/>
            <p:cNvSpPr/>
            <p:nvPr/>
          </p:nvSpPr>
          <p:spPr>
            <a:xfrm>
              <a:off x="3352680" y="251460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19"/>
            <p:cNvGrpSpPr/>
            <p:nvPr/>
          </p:nvGrpSpPr>
          <p:grpSpPr>
            <a:xfrm>
              <a:off x="2057400" y="1752480"/>
              <a:ext cx="1676520" cy="836640"/>
              <a:chOff x="2057400" y="1752480"/>
              <a:chExt cx="1676520" cy="836640"/>
            </a:xfrm>
          </p:grpSpPr>
          <p:sp>
            <p:nvSpPr>
              <p:cNvPr id="423" name="Text Box 20"/>
              <p:cNvSpPr/>
              <p:nvPr/>
            </p:nvSpPr>
            <p:spPr>
              <a:xfrm>
                <a:off x="2057400" y="1752480"/>
                <a:ext cx="1676520" cy="64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65-70: Algoritmos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structuras de dato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4" name="AutoShape 21"/>
              <p:cNvCxnSpPr>
                <a:stCxn id="423" idx="2"/>
                <a:endCxn id="421" idx="1"/>
              </p:cNvCxnSpPr>
              <p:nvPr/>
            </p:nvCxnSpPr>
            <p:spPr>
              <a:xfrm>
                <a:off x="2895480" y="2219040"/>
                <a:ext cx="558000" cy="370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25" name="Group 29"/>
          <p:cNvGrpSpPr/>
          <p:nvPr/>
        </p:nvGrpSpPr>
        <p:grpSpPr>
          <a:xfrm>
            <a:off x="3200400" y="4419720"/>
            <a:ext cx="2743200" cy="1602000"/>
            <a:chOff x="3200400" y="4419720"/>
            <a:chExt cx="2743200" cy="1602000"/>
          </a:xfrm>
        </p:grpSpPr>
        <p:sp>
          <p:nvSpPr>
            <p:cNvPr id="426" name="Oval 16"/>
            <p:cNvSpPr/>
            <p:nvPr/>
          </p:nvSpPr>
          <p:spPr>
            <a:xfrm>
              <a:off x="3200400" y="4419720"/>
              <a:ext cx="685800" cy="60948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Group 22"/>
            <p:cNvGrpSpPr/>
            <p:nvPr/>
          </p:nvGrpSpPr>
          <p:grpSpPr>
            <a:xfrm>
              <a:off x="3785400" y="4953960"/>
              <a:ext cx="2158200" cy="1067760"/>
              <a:chOff x="3785400" y="4953960"/>
              <a:chExt cx="2158200" cy="1067760"/>
            </a:xfrm>
          </p:grpSpPr>
          <p:sp>
            <p:nvSpPr>
              <p:cNvPr id="428" name="Text Box 23"/>
              <p:cNvSpPr/>
              <p:nvPr/>
            </p:nvSpPr>
            <p:spPr>
              <a:xfrm>
                <a:off x="3962520" y="5562720"/>
                <a:ext cx="198108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1980s: Metodologías 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Desarrollo de Software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29" name="AutoShape 24"/>
              <p:cNvCxnSpPr>
                <a:stCxn id="428" idx="0"/>
                <a:endCxn id="426" idx="5"/>
              </p:cNvCxnSpPr>
              <p:nvPr/>
            </p:nvCxnSpPr>
            <p:spPr>
              <a:xfrm flipH="1" flipV="1">
                <a:off x="3785400" y="4953960"/>
                <a:ext cx="1167480" cy="60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430" name="Group 30"/>
          <p:cNvGrpSpPr/>
          <p:nvPr/>
        </p:nvGrpSpPr>
        <p:grpSpPr>
          <a:xfrm>
            <a:off x="5724360" y="3429000"/>
            <a:ext cx="2969280" cy="1399680"/>
            <a:chOff x="5724360" y="3429000"/>
            <a:chExt cx="2969280" cy="1399680"/>
          </a:xfrm>
        </p:grpSpPr>
        <p:sp>
          <p:nvSpPr>
            <p:cNvPr id="431" name="Oval 18"/>
            <p:cNvSpPr/>
            <p:nvPr/>
          </p:nvSpPr>
          <p:spPr>
            <a:xfrm>
              <a:off x="5724360" y="3429000"/>
              <a:ext cx="722520" cy="5785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Group 25"/>
            <p:cNvGrpSpPr/>
            <p:nvPr/>
          </p:nvGrpSpPr>
          <p:grpSpPr>
            <a:xfrm>
              <a:off x="6338520" y="3922920"/>
              <a:ext cx="2355120" cy="905760"/>
              <a:chOff x="6338520" y="3922920"/>
              <a:chExt cx="2355120" cy="905760"/>
            </a:xfrm>
          </p:grpSpPr>
          <p:sp>
            <p:nvSpPr>
              <p:cNvPr id="433" name="Text Box 26"/>
              <p:cNvSpPr/>
              <p:nvPr/>
            </p:nvSpPr>
            <p:spPr>
              <a:xfrm>
                <a:off x="6606720" y="4369680"/>
                <a:ext cx="2086920" cy="459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Ejemplos aislad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ahoma"/>
                  </a:rPr>
                  <a:t>(compiladores, BD)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4" name="AutoShape 27"/>
              <p:cNvCxnSpPr>
                <a:stCxn id="433" idx="0"/>
                <a:endCxn id="431" idx="5"/>
              </p:cNvCxnSpPr>
              <p:nvPr/>
            </p:nvCxnSpPr>
            <p:spPr>
              <a:xfrm flipH="1" flipV="1">
                <a:off x="6338520" y="3922920"/>
                <a:ext cx="1310040" cy="447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0A2D-1F2F-4A5C-B09C-CF5D78F5E41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195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programadores escribían programa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Principio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xpertos desarrollaron grandes proye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orbel"/>
              </a:rPr>
              <a:t>Fines de los ‘60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aparecen los grandes sistemas comerciales de software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el trabajo va más allá de la programación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6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crea el término “ingeniería de software”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E881-CD24-4109-95DB-3C99D199424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3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70102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952880" y="1981080"/>
            <a:ext cx="190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2"/>
          <p:cNvGraphicFramePr/>
          <p:nvPr/>
        </p:nvGraphicFramePr>
        <p:xfrm>
          <a:off x="685800" y="2286000"/>
          <a:ext cx="7924680" cy="388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286000"/>
                    <a:ext cx="792468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Rectangle 7"/>
          <p:cNvSpPr/>
          <p:nvPr/>
        </p:nvSpPr>
        <p:spPr>
          <a:xfrm>
            <a:off x="380880" y="4876920"/>
            <a:ext cx="8229600" cy="228600"/>
          </a:xfrm>
          <a:prstGeom prst="rect">
            <a:avLst/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380880" y="4648320"/>
            <a:ext cx="281952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2438280" y="4419720"/>
            <a:ext cx="24386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495680" y="4648320"/>
            <a:ext cx="221004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6248520" y="4419720"/>
            <a:ext cx="2361960" cy="228600"/>
          </a:xfrm>
          <a:prstGeom prst="rect">
            <a:avLst/>
          </a:prstGeom>
          <a:solidFill>
            <a:srgbClr val="a50021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142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3"/>
          <p:cNvSpPr/>
          <p:nvPr/>
        </p:nvSpPr>
        <p:spPr>
          <a:xfrm>
            <a:off x="82202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4"/>
          <p:cNvSpPr/>
          <p:nvPr/>
        </p:nvSpPr>
        <p:spPr>
          <a:xfrm>
            <a:off x="189576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35719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524844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6772320" y="5334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19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Arquitecturas orientadas a servici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s basados en component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Grid/clou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pu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sarrollo dirigido por modelo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023F-2003-4C8A-AF7D-AC90B3BFB0A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5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gramació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un solo programador escribe todo el programa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small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los programadores aprecian el sistema complet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se requiere más tiempo para comunicación que para cod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8960" indent="-253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ambios de personal afec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7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1" name="Object 2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201312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367A-A0AB-49AD-BC95-8BEEAB52662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¿Para qué la Ingeniería de Software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construir grandes sistemas de software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yuda a definir claramente los problemas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programming in the large”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administración, organización, herramientas, teorías, metodologías y técnicas como base para resolver los problemas computacion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3DB4-575A-43A0-8478-3E1BC28B74A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Clas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átedra: Martes/4 y Jueves/4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uxiliar: Miércoles/6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Las transparencias se publicarán regularmente en la página web del curso en UCurs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Regularmente se mandará leer el capítulo correspondiente de algún libro de Ingeniería de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Tareas grupales aproximadamente cada dos seman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rbel"/>
              </a:rPr>
              <a:t>Dos controles de materia incluyendo lecturas y un examen fin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89E8-23B4-4D0B-AD1F-888EF577CC3B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os costos de desarrollo de software crecen en comparación con los costos del hard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Se requiere una producción de software más eficient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complejidad de los sistemas grandes de software hace que el desarrollo sea más que la codificación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cepción, diseño, desarrollo, documentación, mantenimiento,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La ingeniería de software continuará creciendo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economía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rol creciente del software en todos los ámbit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FFB1-75A4-47C8-8BE4-9EBA34F5DDD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Rectangle 2" descr=""/>
          <p:cNvPicPr/>
          <p:nvPr/>
        </p:nvPicPr>
        <p:blipFill>
          <a:blip r:embed="rId1"/>
          <a:stretch/>
        </p:blipFill>
        <p:spPr>
          <a:xfrm>
            <a:off x="341280" y="298440"/>
            <a:ext cx="8047080" cy="115884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Programador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baja sol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estructuras de datos y algoritm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hábil con varios lenguajes de program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rbel"/>
              </a:rPr>
              <a:t>Ingeniero de software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parte de un equipo de trabaj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e estrategias de diseño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traduce necesidades en especificacione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nocimiento de varias áreas de aplic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visión del sistema con distintos niveles de abstrac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rbel"/>
              </a:rPr>
              <a:t>comunicación e interacción con otras persona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863B-5D07-442E-9C9E-6DA42CB0586D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0"/>
          <p:cNvGrpSpPr/>
          <p:nvPr/>
        </p:nvGrpSpPr>
        <p:grpSpPr>
          <a:xfrm>
            <a:off x="685800" y="5973840"/>
            <a:ext cx="7890480" cy="327240"/>
            <a:chOff x="685800" y="5973840"/>
            <a:chExt cx="7890480" cy="327240"/>
          </a:xfrm>
        </p:grpSpPr>
        <p:sp>
          <p:nvSpPr>
            <p:cNvPr id="473" name="Text Box 5"/>
            <p:cNvSpPr/>
            <p:nvPr/>
          </p:nvSpPr>
          <p:spPr>
            <a:xfrm>
              <a:off x="2064960" y="5978520"/>
              <a:ext cx="651132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La IS se ocupa tanto del producto como del proce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685800" y="5973840"/>
              <a:ext cx="1371600" cy="304560"/>
            </a:xfrm>
            <a:prstGeom prst="rightArrow">
              <a:avLst>
                <a:gd name="adj1" fmla="val 50000"/>
                <a:gd name="adj2" fmla="val 112589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5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objetivo de la IS es desarrollar productos de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calidad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Dos tipos de product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genéricos - desarrollados para vender masivament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08120" indent="-26460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rbel"/>
              </a:rPr>
              <a:t>a medida - desarrollados para un cliente particul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desafío es desarrollar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software de alta calidad 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con una cantidad finita de recursos y dentro del plazo planead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El </a:t>
            </a:r>
            <a:r>
              <a:rPr b="1" lang="es-ES_tradnl" sz="2400" spc="-1" strike="noStrike">
                <a:solidFill>
                  <a:srgbClr val="000000"/>
                </a:solidFill>
                <a:latin typeface="Corbel"/>
              </a:rPr>
              <a:t>proceso de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 tiene una incidencia importante en la calidad del produc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78" name="14 Grupo" descr=""/>
          <p:cNvPicPr/>
          <p:nvPr/>
        </p:nvPicPr>
        <p:blipFill>
          <a:blip r:embed="rId2"/>
          <a:stretch/>
        </p:blipFill>
        <p:spPr>
          <a:xfrm>
            <a:off x="6907320" y="139680"/>
            <a:ext cx="185868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8008-2963-4421-B5A2-8404A6A056C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Rectangle 4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Conjunto de actividades y resultados asociados que producen un producto de software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Actividades fundamentales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especificación de requisitos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diseño, codificación y test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verificación y validación,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lnSpc>
                <a:spcPct val="90000"/>
              </a:lnSpc>
              <a:spcBef>
                <a:spcPts val="55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rbel"/>
              </a:rPr>
              <a:t>instalación y evolu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Distintos tipos de procesos pueden aplicarse para desarrollar un mismo producto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rbel"/>
              </a:rPr>
              <a:t>En general algunos procesos son más apropiados para desarrollar ciertos productos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2EFD-EC97-473B-9FF9-89E2997A36C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429000" y="257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Object 2"/>
          <p:cNvGraphicFramePr/>
          <p:nvPr/>
        </p:nvGraphicFramePr>
        <p:xfrm>
          <a:off x="685800" y="1846440"/>
          <a:ext cx="8229600" cy="493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46440"/>
                    <a:ext cx="8229600" cy="49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6" name="Rectangle 5" descr=""/>
          <p:cNvPicPr/>
          <p:nvPr/>
        </p:nvPicPr>
        <p:blipFill>
          <a:blip r:embed="rId3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4CC7-9A67-4E17-97C6-46767D0F562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grpSp>
        <p:nvGrpSpPr>
          <p:cNvPr id="489" name="Group 16"/>
          <p:cNvGrpSpPr/>
          <p:nvPr/>
        </p:nvGrpSpPr>
        <p:grpSpPr>
          <a:xfrm>
            <a:off x="533520" y="1981080"/>
            <a:ext cx="7924320" cy="4190760"/>
            <a:chOff x="533520" y="1981080"/>
            <a:chExt cx="7924320" cy="4190760"/>
          </a:xfrm>
        </p:grpSpPr>
        <p:sp>
          <p:nvSpPr>
            <p:cNvPr id="490" name="Rectangle 3"/>
            <p:cNvSpPr/>
            <p:nvPr/>
          </p:nvSpPr>
          <p:spPr>
            <a:xfrm>
              <a:off x="533520" y="19810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Análisis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specificación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requerimien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AutoShape 4"/>
            <p:cNvCxnSpPr>
              <a:stCxn id="492" idx="3"/>
              <a:endCxn id="493" idx="0"/>
            </p:cNvCxnSpPr>
            <p:nvPr/>
          </p:nvCxnSpPr>
          <p:spPr>
            <a:xfrm>
              <a:off x="5287680" y="407664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4" name="AutoShape 5"/>
            <p:cNvCxnSpPr>
              <a:stCxn id="493" idx="3"/>
              <a:endCxn id="495" idx="0"/>
            </p:cNvCxnSpPr>
            <p:nvPr/>
          </p:nvCxnSpPr>
          <p:spPr>
            <a:xfrm>
              <a:off x="6872760" y="49147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6" name="AutoShape 6"/>
            <p:cNvCxnSpPr>
              <a:stCxn id="490" idx="3"/>
              <a:endCxn id="497" idx="0"/>
            </p:cNvCxnSpPr>
            <p:nvPr/>
          </p:nvCxnSpPr>
          <p:spPr>
            <a:xfrm>
              <a:off x="2118240" y="2400120"/>
              <a:ext cx="79344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8" name="AutoShape 7"/>
            <p:cNvCxnSpPr>
              <a:stCxn id="497" idx="3"/>
              <a:endCxn id="492" idx="0"/>
            </p:cNvCxnSpPr>
            <p:nvPr/>
          </p:nvCxnSpPr>
          <p:spPr>
            <a:xfrm>
              <a:off x="3702960" y="3238200"/>
              <a:ext cx="793080" cy="419760"/>
            </a:xfrm>
            <a:prstGeom prst="bentConnector2">
              <a:avLst/>
            </a:prstGeom>
            <a:ln w="28440">
              <a:solidFill>
                <a:srgbClr val="60b5cc"/>
              </a:solidFill>
              <a:miter/>
              <a:tailEnd len="med" type="triangle" w="med"/>
            </a:ln>
          </p:spPr>
        </p:cxnSp>
        <p:cxnSp>
          <p:nvCxnSpPr>
            <p:cNvPr id="499" name="AutoShape 8"/>
            <p:cNvCxnSpPr>
              <a:endCxn id="490" idx="2"/>
            </p:cNvCxnSpPr>
            <p:nvPr/>
          </p:nvCxnSpPr>
          <p:spPr>
            <a:xfrm rot="10800000">
              <a:off x="1325160" y="2818440"/>
              <a:ext cx="5547600" cy="3004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Line 9"/>
            <p:cNvSpPr/>
            <p:nvPr/>
          </p:nvSpPr>
          <p:spPr>
            <a:xfrm flipH="1" flipV="1">
              <a:off x="2876040" y="3656880"/>
              <a:ext cx="6840" cy="21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10"/>
            <p:cNvSpPr/>
            <p:nvPr/>
          </p:nvSpPr>
          <p:spPr>
            <a:xfrm flipV="1">
              <a:off x="4461120" y="4495680"/>
              <a:ext cx="0" cy="13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1"/>
            <p:cNvSpPr/>
            <p:nvPr/>
          </p:nvSpPr>
          <p:spPr>
            <a:xfrm flipV="1">
              <a:off x="6045840" y="5333760"/>
              <a:ext cx="0" cy="48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2"/>
            <p:cNvSpPr/>
            <p:nvPr/>
          </p:nvSpPr>
          <p:spPr>
            <a:xfrm>
              <a:off x="2118240" y="28191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3"/>
            <p:cNvSpPr/>
            <p:nvPr/>
          </p:nvSpPr>
          <p:spPr>
            <a:xfrm>
              <a:off x="3703320" y="365724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Codific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 Módul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4"/>
            <p:cNvSpPr/>
            <p:nvPr/>
          </p:nvSpPr>
          <p:spPr>
            <a:xfrm>
              <a:off x="5288040" y="4495680"/>
              <a:ext cx="158472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tegr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Test del Sist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5"/>
            <p:cNvSpPr/>
            <p:nvPr/>
          </p:nvSpPr>
          <p:spPr>
            <a:xfrm>
              <a:off x="6872760" y="5333760"/>
              <a:ext cx="1585080" cy="83808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nstala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antenimi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59C7-4A4E-455A-B8E2-404F0CCA967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Los grupos de trabajo deberá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tener dos o tres persona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ecidirse antes del martes 18 de octubre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mandarme un mail informándome la conformación de los grupo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quien para el martes 18 no tenga grupo será asignado arbitrariament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00C4-3D7B-48A9-9F20-73B07BCB273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Tarea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troles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Control II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097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Con 5.5 de promedio en tareas </a:t>
            </a:r>
            <a:r>
              <a:rPr b="1" lang="es-CL" sz="3200" spc="-1" strike="noStrike">
                <a:solidFill>
                  <a:srgbClr val="000000"/>
                </a:solidFill>
                <a:latin typeface="Corbel"/>
              </a:rPr>
              <a:t>y</a:t>
            </a: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 5.5 en controles se puede eximir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E298-FAE1-4726-B4BD-D5FD0577F71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Definición de Ingeniería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incipios y Cualidades del Software y su Desarrollo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Modelos de ciclo de vida del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Etapas del ciclo de vida del softwar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especificación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diseño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lnSpc>
                <a:spcPct val="90000"/>
              </a:lnSpc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rbel"/>
              </a:rPr>
              <a:t>verificación y validac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orbel"/>
              </a:rPr>
              <a:t>Proceso de Desarrollo de Softwar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4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BE89-9F7F-4118-AB98-6CA420D85A31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1295280" y="308916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0b5cc"/>
                </a:solidFill>
                <a:latin typeface="Tahoma"/>
              </a:rPr>
              <a:t>¿Qué es la Ingeniería de Softw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63A2-E396-46BC-9A23-E150EA7EBA3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214200" y="1856880"/>
            <a:ext cx="8786880" cy="4464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tecnolog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ciencia para la resolución de problemas práctic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¿Qué es la ingenierí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Aplicación de la tecnología en presencia de recursos limitad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Pero, ¿qué es la ciencia y cuándo estamos aplicando la ciencia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Cuerpo de doctrina metódicamente formado y ordenado, que constituye una rama particular del sabe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lnSpc>
                <a:spcPct val="90000"/>
              </a:lnSpc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Modelos de la realidad cuyo comportamiento es explicable y que permiten predecir el comportamiento de situaciones similare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B754-E191-48C2-A808-0FAAFD0D21C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Entonces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La ingeniería de software es la aplicación de la ciencia para la construcción de software en presencia de recursos limitado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orbel"/>
              </a:rPr>
              <a:t>Pero, ¿qué es el software? y ¿qué ciencia se aplica en su construcción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E6FF-E46E-4BC2-91B5-5DE15B9395F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213840" y="1714320"/>
            <a:ext cx="8401320" cy="4857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rbel"/>
              </a:rPr>
              <a:t>El software es una serie de programas, conjuntamente con todos los documentos asociados y la configuración de datos que se necesitan para que los programas operen de manera correcta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Programa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ejecutables, de instalación, de re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requisitos, diseño, pruebas, código fuente, manuales de usuario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rbel"/>
              </a:rPr>
              <a:t>datos de la aplicación, parámetros de configuración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cecilia</cp:lastModifiedBy>
  <dcterms:modified xsi:type="dcterms:W3CDTF">2011-10-11T14:19:24Z</dcterms:modified>
  <cp:revision>24</cp:revision>
  <dc:subject/>
  <dc:title>CC31B – Desarrollo de Software de Aplicación</dc:title>
</cp:coreProperties>
</file>