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133A-4C51-49AE-BB32-CB0F67D187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7F40-82BF-483B-90D4-D61AACD31E3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B57B-A4E5-432E-859D-459C8655527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327E-D423-4836-9BFA-5EA992A1F49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2115-24A1-44B3-AE28-7E06BD64C86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A310-1FDC-4E1F-A46A-754FE59D741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3F04-1516-4C5E-8FD2-5B7CEA71EF2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42F8-1FDF-4284-B5B8-225753DD052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2F2-DE4A-4516-98A4-6EF74111F1C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7482-4EC1-4EBE-9FCA-10F6E7305E5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67DB-7C0A-43C2-AF29-B5BA04C8CF9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6517-2271-4E33-AD23-99AF839CE26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4ADA-B3C6-4735-A72B-FEC1CDBC6D2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36D5-D6A0-41CE-A43C-E2298A0E0D0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7962-D7FC-4CA3-943C-EAD23E7FA60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02F6-5DDA-44A8-BE70-3E71724652C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96EF-D91A-478E-87D2-54C51B519E5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446B-ACB0-4C2B-B591-508C239B87B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59D4-6DDD-472C-BE79-AB75D6D5816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C271-38D9-4432-8BB4-923F1F85FCA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0D0C-CE6E-4F28-86F6-63C99B32D4F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268A-2278-4C06-B355-79DADA7574D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F685-4C84-48C1-8585-878C1657A3E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FD84-0708-4F8A-B197-4BC409D89B3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AE5-6CA2-431C-B2A6-A3524FBD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F26-4442-461B-B795-BD2E939C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658-2C7F-4065-A72F-D162F129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384-0C35-4F3F-9960-E1DC2745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D0B0-2ABB-48CF-9366-2AF39B44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30AF-15D9-4045-8597-ED9B77A6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6FFE-9436-447A-9F85-09DFBF2D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745-8E05-46B2-9E46-EE2355C2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A534-86E0-4905-8D68-1759E6C7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FF8A-0E26-4830-BA61-42A9C307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26DD-A46F-4F5D-AA77-CFFF7ADE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DBC-14E0-4679-A9E9-9CC47969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4F9B-6D42-457A-9CAD-5237AA02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0C3F-AAD6-4DB5-B057-89458C9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7602-84F4-4F00-873C-5301870F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40D4-AFB6-4C5D-A9EF-C1D5632A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461E-4B19-48EF-8DB6-2A104E50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E090-CD2F-4673-B096-A7CFEC0A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1307-2901-47B6-AA7E-9216D659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ECE7-6A0E-4F8D-9538-8BF692E5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67D3-6C72-43FA-8CE1-3D1181F4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8BD5-877B-4C2D-BF88-A9E27376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D15-29B3-4036-8205-95136283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CAAC-30C8-4382-9C5D-C0321173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018F-31C2-49D3-A3E0-0B0AC2DB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52F8-87AE-47CF-907D-2CF721CA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6E97-7E5A-49A6-AD9E-D28D724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36073-3C72-43C9-B915-3CCF4E77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7044-2D44-474B-BA6B-A8A62345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A6B39-5D0D-4B1C-BBFC-A9FB12F1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77EA-E326-4666-A184-51D9E3CC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9227-1F8B-4F23-81B0-2099245F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83BC7-5D06-40BA-BB14-65FC6376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B18-7DDC-45C3-8A2D-FB4BD9E1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0EC09-BC75-4897-A6BE-7AD4B4D4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FE683-4C27-401D-8BBB-F5175E57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C6D22-5E32-4A77-AC04-C73768EB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2142-EAA6-474B-A60F-99B8BD9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8E85F-2429-4B19-AEFD-45EA0EBC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4277-12F6-4B44-8051-736A83BB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02F85-8D1A-4C5B-9022-50450A95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041B9-DB74-44CC-94D6-0F0BF35B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A003-179C-46FF-B423-4E3B619D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1A27F-4262-4BE3-8586-BCD394FD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5F3-1A3B-418B-A59D-ADA4B8AD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9E006-6F9A-44DA-B412-DD20F015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D975-D9C8-432C-8F0B-BC0C0BCE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0BFE-D806-49BE-BE8E-3A1474F8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59599-4272-4298-A46F-B50C9B20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613F-B9B0-46CC-9773-B81376BF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C53A-F89C-4225-B901-9D6924D6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9FA0-091A-42E6-8625-B0BE284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3FEC0-B14C-4577-90B6-8BD32FD2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CA90A-8A9D-40C7-B727-43FE5D5F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887B-FB72-45ED-992C-4DE38F96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43C-9BF8-4909-812A-7F48B372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9E4EF-587E-4D51-B6CA-F3BBE862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D7046-1409-48C4-9D14-A6820CEB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3A776-E59E-4880-A730-861313AB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37C76-C2EC-42F6-8787-993F888C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E2A5-C539-444D-B4A5-12663E90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5C6D1-8D1B-49DD-A103-D2916144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7F1FE-810F-4731-8212-1735E319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F02A4-B111-4173-962A-263D072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43AE4-F47D-4B6B-B59E-7B6F5112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C305F-2C0D-4A64-9C3F-3AF197ED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62C-B892-46ED-B612-1ACE5F3A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A7FC9-E2B3-4D6C-800F-502C45BA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108C2-CF71-4D9A-9C4E-09C5B881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6F2E6-806C-4C7F-9985-EF65918A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A9B22-7025-4EE1-A7EA-1B06CB86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6AEC-0EDA-441C-89E9-EB67E625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C552C-CBD7-430E-854D-43BECEFC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93FFA-D2DE-4369-93E5-E9A948C9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045A-5EC4-416E-9936-DA38D0C5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7BA3E-E088-42EA-BD37-ADAB53DB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E8A3F-00FB-49FF-B247-A5098C5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1B7-F683-4608-B543-DC4F6C29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0AF12-DB44-4703-9BA3-3410CC61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B029-AD42-40D9-BDB8-19052DB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B1FB3-BA70-4E14-B12D-051483DC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121FF-4B75-48A3-A952-FF059248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713CB-0DD7-48E5-A506-EE9EF652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845B-C9B8-451D-B371-8217E046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AF716-24C8-4659-8C9D-05A1CB64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77FBD-B3EC-4026-A7AD-9F89E890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5385-80B5-49B7-ABC8-45960CFD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CE187-88C5-4A58-88BC-0B6B0937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28F-C002-4DFB-8215-8E5D6866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AB5D1-E083-427D-B735-9EB7C68B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36D23-24CE-4DC8-B5B7-DFC11E4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05F6E-5A7D-416E-B130-C076F92E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60920-276B-4750-B7E5-64D4FB8F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61969-3FB3-415A-BA0B-E77A7224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4847E-2766-4A2A-A5C0-CBAED4F1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B89E5-4244-4B8E-99CA-97C45B89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9FD0-E87F-4472-98BD-446A305C366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8428-9DDD-4341-9A40-9756985F745C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9699-A4EC-4B1F-AAE7-7333CCE32989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7C5D-0693-44BA-9F29-484D73DAC6B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4EDC-4571-4D87-9A30-63729C4212D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4C05-5A7A-4071-A3C3-9EBC88F55FCB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9017-9463-4D0C-9E18-F139CA7C54F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3A99-1941-4D96-A022-E7950FDA452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8AC5-E9FD-4FC8-A039-BB1E4E0307D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7476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6BC0-7CD3-46D8-BC08-BA8C135A0BD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533E-2309-4DC9-814D-F96183EFB53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81C3-C6D5-465C-9753-6D9C849FD15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150C-60E0-4021-9B06-41FE4A2BBF1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73A8-EABF-4DD1-AC43-EF3B1F681B9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98AC-0E26-4AE1-A5BB-1AE4E53496E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08B9-7650-43B5-A7AE-EC1BA0A79BC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AAC2-A016-4563-AD36-8F9123FDF40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88BE-80B0-4633-837E-634E7288048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Miércoles/6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materia incluyendo lecturas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4D7A-783A-445D-BA90-2EB4786E0C5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8BD7-E77E-45F8-B110-A20D110178E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BA2E-C91E-4572-9EE8-13706633855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CD3A-339E-4108-BBD0-16161250FC0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2883-3BCA-4CFC-A3BC-96F733B2F32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CCC6-7551-4B95-8DCA-EA52CAD50DD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63D6-C23B-4166-B362-8FE0B149CD0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o tre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8 de octubre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8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D773-766F-436E-8FF9-B8C8A9561CA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CA4C-40B8-4489-8669-78111477B29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5D83-EA2F-4461-A0BE-C444AB2DF4D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F854-546C-4F6D-B4DF-269A232F667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2832-CDEC-441E-BEA5-D933139687D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2D44-925F-4DFA-BC44-DAC4BF0E4BD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1-10-11T14:19:24Z</dcterms:modified>
  <cp:revision>24</cp:revision>
  <dc:subject/>
  <dc:title>CC31B – Desarrollo de Software de Aplicación</dc:title>
</cp:coreProperties>
</file>