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9409-0534-4BD2-A80F-8D072043A88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A18A-C11F-4E50-8956-196B3D153C8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6B58-253E-4827-B56C-4952CA4C7C1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7132-2EFC-4384-B619-596BC3490AC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D74A-A80E-4F78-ACCA-93AE138FE28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668A-29F4-4FE6-97F2-554C8CCACF0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72E2-2906-435B-BC6D-FA9511A30D8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D08B-2106-4910-B1B3-AF5092FCEA9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A7F2-DF92-474F-8602-179122AC075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7AC4-CF3B-4EF6-A9C2-D8CA8D1C946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96FE-8C4E-4EF7-906F-42C8E6CE8C2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CA61-C3CA-465F-8D48-AE35EE78C51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A315-3452-4088-8B59-F889F049C90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4D00-ABC8-4BA9-882D-2B71D3E0B68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E765-F64D-4EE6-98B7-D35A964279B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04F8-0E9B-44F4-9C53-5CD3BB679F0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D50D-F152-4158-963E-0FDC426F48C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DF72-0127-489A-9FB9-DE447AB416C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4FD6-81C5-4368-9334-95361CAEBEC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6140-83D0-4B69-A0C6-ADFEC991F0B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5483-96FA-47CF-A093-36E179A5109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94A1-E29B-433F-9CBF-36C83EC4374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E10C-C52E-4756-86CE-A8B44061A64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FC63-094B-4D9B-8580-FF96BB7DA6F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65E-00CF-4F89-926D-7524F4D6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FB2-A3BD-4680-8063-12DF7990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73B-CFD6-415D-9FEE-4338F744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86F-CB69-45D1-9D7F-4654D882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59A2-D3E2-4F2B-AE38-B16B2C3F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C145-2AF3-4E1A-9A93-D8601CBA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188B-E955-4E2F-834A-C89350B2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D264-4C4D-449D-9C87-459EB655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DE5C-2A51-4FEE-B152-C06C1DFC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EE64-C428-4B55-8C8D-55839B47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F39E-A6B8-419A-9A8D-7C9D6ECA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B4A-D040-43E8-BA31-9B3C2B34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9419-21F7-4267-90B6-6679E5DA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5D18-53E3-4A26-AA6F-00412545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6347-FEFD-4846-88EF-0D21AD3C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8B25-EF29-4FD7-9E57-F2A62F10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04BF-EFD6-4ACE-8FDC-10D4551F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00A24-DA22-4EF6-9ADE-832959AB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8C2FE-561A-43AC-921E-31E212F0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958D5-6BCD-4E11-9377-B71B8D71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D2666-2C19-4BFA-97E4-71BB1D16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4CF3D-367D-4129-9740-3B76D774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8C3-8711-4079-BAEB-403D38AB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08C54-7988-46D9-A120-94EBA235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45A6-3270-45FA-AC50-62ECAD25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8652-99A5-43B9-AFB1-37D54641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3B710-5F5E-40CA-9828-D6122BF7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685F4-7675-44D0-9654-3F2BB810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6C22F-4DCB-4436-8284-CD7AC4A5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DB73-FA84-4161-85CD-73B741C5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E4208-77FE-442C-B83D-DCAC0B9A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FED31-1D6F-4F01-AE10-5F357921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16069-2619-4AB8-AE2F-64E46558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210-9932-46B1-888F-3AC03616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4EFCF-09F1-4FA5-92BD-6F86BA66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AEA08-E0B0-4834-99B9-44B8285B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3ABCA-9A30-49B9-9FB4-352705DC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E0B05-68B2-4041-8F18-25E75E6A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8DA11-1EDB-4CB1-B971-216FD3C2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6973-42A5-4116-88B7-870D9488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99E52-3A24-49D8-BB5C-69635D00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105B0-00FE-442D-B6AE-D98F2B0B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0435B-77B5-4B6C-89F8-772845B8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25870-7A84-419C-9963-6927C03A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F24D-0487-4960-B999-031142C4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07439-DB6C-45B6-8D6D-AC16E582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4DC29-847B-4FD6-9F78-D063ACC4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7A3EA-C479-4572-ABDC-74AF73C4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D1BB3-261B-40D8-A425-D1E45970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D9018-3500-4248-8977-21684997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B011C-8825-4EF7-8924-B7A5F7E5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8CBC0-6B94-4338-97C8-9E8A38FA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03145-279E-4B30-9847-8D2F62F5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237C1-E38A-4C72-87A9-C4F44902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1AC54-E3D1-4F8D-83AD-4C255C22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8A3-E2D9-45CB-A417-B84AD55A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75EB3-AE19-413C-B6AB-00B03B22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49ABC-211E-4790-9FAE-94E1FFDB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4FF24-473D-4FC5-B4DC-AC6AE033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7D7F6-79B8-4B99-BBEF-E0716ED9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A4F82-C6E0-4E8B-8E41-F1DBFCD2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685C4-9AE8-4CD5-B1BE-868E8B73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3B7AF-6930-4FEA-BD1D-CD491BA0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0DB3D-F16D-4CBD-938B-65DB2B09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66087-4BFC-4E51-AFEA-18963892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9D389-56D4-4061-989B-BC5D65B1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FF0-06C7-4AAD-8162-FAB18931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904AB-8F90-4B4F-B479-94BC163C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D82EC-D4CB-4C66-9A67-6340F036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EAC66-E120-4B2A-926D-8B357A88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A6F6C-2924-4175-9B5B-BA88F5FF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2F15C-59B5-4B56-818E-94C2ABCB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E31EF-6888-42F0-8202-97B3E0E6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D7FCA-D3F3-4B10-A01A-EA5E9A79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B36CB-8595-43B3-AFE4-E97E1595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683EE-28D3-46C5-8E76-448BE855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22603-5F27-409E-A494-900F616E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3016-7EE9-4460-AF6B-A00A7702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0C934-5100-4B32-B328-F0845AFD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8ADAC-2471-453A-9D29-29B96467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7E818-D4AA-4F61-8866-5BFDCAF7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4683A-54BD-4808-BB55-2A60F4A7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53CF1-E591-45DF-8E0F-A6BD6E15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E481A-5B00-49C5-8CC3-200EA05C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FED44-4307-4A3C-A6E8-D4514D6E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2ED83-D810-412B-9AF5-3A0FB6CE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82E97-395E-44C2-B979-6495F72E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A6C77-8DCD-4716-92AF-1DA1A2E5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1CB-8228-4CFB-AF6C-CD741F9A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8D9A8-9F27-49B5-B8D3-903507C4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866F9-3EEA-473A-9951-7CE79B17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655B1-8A91-4FCA-96C2-0DECA350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D04B9-4D11-468D-951C-F021D0C8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BFE78-90E2-4B9A-9CD6-6AEAFFAB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95144-0428-4643-B307-C7743D8B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9A771-09C5-4BFC-963A-C0A79B23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F0E2-B9EA-4B2D-BDE9-DC96B1BF34C3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4292-CF72-4ECD-985C-741AC32F13E2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FE9E-9993-4719-85EA-8EDEEAEA1154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5B9C-16FE-4A10-B778-BA347D2C41BA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AE1F-D2FD-4C13-BBB5-3D19EFB7ACF8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DC00-ACBA-4969-91F1-55296A7616C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DC69-4227-4707-BCF2-398B87A8D2F8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4862-72B3-48C3-A11F-18485C04872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rbel"/>
              </a:rPr>
              <a:t>Primavera 20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3 CuadroTexto"/>
          <p:cNvSpPr/>
          <p:nvPr/>
        </p:nvSpPr>
        <p:spPr>
          <a:xfrm>
            <a:off x="2500200" y="5643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 Bastar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FDB7-984F-478B-A239-AEEF238A8E4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BS00580_"/>
          <p:cNvPicPr/>
          <p:nvPr/>
        </p:nvPicPr>
        <p:blipFill>
          <a:blip r:embed="rId1"/>
          <a:stretch/>
        </p:blipFill>
        <p:spPr>
          <a:xfrm>
            <a:off x="6500880" y="1600200"/>
            <a:ext cx="2514600" cy="211932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7476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ciencia de la computación se ocupa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de las teorías y métodos subyacentes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a las computadoras y los sistemas de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softwa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se refiere a los problemas prácticos de producir softwa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os ingenieros de software requieren conocimiento de ciencias de la computación para realizar su labor, pero su objetivo es pragmátic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D018-96BC-47DC-88A7-202524788D3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es así como se desarrolla habitualmente la práctica profesional? y ¿por qué sería conveniente que así fuer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8D5F-BF69-4019-8328-BFFFFDA6BD6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trucción de un software con múltiples versiones  por múltiples personas. [Parnas87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6C8D-1443-417B-AED6-10BF0029AAD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392" name="Rectangle 5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rbel"/>
                </a:rPr>
                <a:t>CC44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5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6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8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9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3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4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Rectangle 1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S trata de organizar un buen proceso de desarrollo para lograr un buen product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1F56-D6E4-4B99-95D7-5DCE60507A2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3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408" name="AutoShape 4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6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7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8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9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2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8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421" name="Oval 17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19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423" name="Text Box 20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4" name="AutoShape 21"/>
              <p:cNvCxnSpPr>
                <a:stCxn id="423" idx="2"/>
                <a:endCxn id="421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5" name="Group 29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426" name="Oval 16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428" name="Text Box 23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9" name="AutoShape 24"/>
              <p:cNvCxnSpPr>
                <a:stCxn id="428" idx="0"/>
                <a:endCxn id="426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30" name="Group 30"/>
          <p:cNvGrpSpPr/>
          <p:nvPr/>
        </p:nvGrpSpPr>
        <p:grpSpPr>
          <a:xfrm>
            <a:off x="5724360" y="3429000"/>
            <a:ext cx="2969280" cy="1399680"/>
            <a:chOff x="5724360" y="3429000"/>
            <a:chExt cx="2969280" cy="1399680"/>
          </a:xfrm>
        </p:grpSpPr>
        <p:sp>
          <p:nvSpPr>
            <p:cNvPr id="431" name="Oval 18"/>
            <p:cNvSpPr/>
            <p:nvPr/>
          </p:nvSpPr>
          <p:spPr>
            <a:xfrm>
              <a:off x="5724360" y="3429000"/>
              <a:ext cx="722520" cy="5785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25"/>
            <p:cNvGrpSpPr/>
            <p:nvPr/>
          </p:nvGrpSpPr>
          <p:grpSpPr>
            <a:xfrm>
              <a:off x="6338520" y="3922920"/>
              <a:ext cx="2355120" cy="905760"/>
              <a:chOff x="6338520" y="3922920"/>
              <a:chExt cx="2355120" cy="905760"/>
            </a:xfrm>
          </p:grpSpPr>
          <p:sp>
            <p:nvSpPr>
              <p:cNvPr id="433" name="Text Box 26"/>
              <p:cNvSpPr/>
              <p:nvPr/>
            </p:nvSpPr>
            <p:spPr>
              <a:xfrm>
                <a:off x="6606720" y="4369680"/>
                <a:ext cx="208692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4" name="AutoShape 27"/>
              <p:cNvCxnSpPr>
                <a:stCxn id="433" idx="0"/>
                <a:endCxn id="431" idx="5"/>
              </p:cNvCxnSpPr>
              <p:nvPr/>
            </p:nvCxnSpPr>
            <p:spPr>
              <a:xfrm flipH="1" flipV="1">
                <a:off x="6338520" y="3922920"/>
                <a:ext cx="1310040" cy="44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67FA-4BEC-463A-B9BB-2B25624BC0A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195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programadores escribían programa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incipio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xpertos desarrollaron grandes proye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Fine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parecen los grandes sistemas comerciales de softwar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l trabajo va más allá de la program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crea el término “ingeniería de software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0619-7F97-4D06-8E5D-13F2F5C3470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2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7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Arquitecturas orientadas a servici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s basados en componen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Grid/clou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 dirigido por model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A2EA-2C9D-4355-B7A7-028DF8D07EB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gramació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n solo programador escribe todo el progra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small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os programadores aprecian el sistema comple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 requiere más tiempo para comunicación que para cod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ambios de personal afec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1" name="Object 2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0E3A-245B-45FC-9AE4-F7735CF928C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¿Para qué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construir grandes sistemas de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definir claramente los problema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large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dministración, organización, herramientas, teorías, metodologías y técnicas como base para resolver los problemas computacion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25C7-2FFE-4576-A147-C67CFEFFBBC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átedra: Martes/4 y Jueves/4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uxiliar: Miércoles/6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Dos controles de materia incluyendo lecturas y un examen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ED87-F879-4783-90A5-50EC33E9D73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9EAC-F724-4005-A7AC-1AE83968D64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341280" y="29844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855F-7FDF-4FB6-B3AB-EF59FE8A32F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0"/>
          <p:cNvGrpSpPr/>
          <p:nvPr/>
        </p:nvGrpSpPr>
        <p:grpSpPr>
          <a:xfrm>
            <a:off x="685800" y="5973840"/>
            <a:ext cx="7890480" cy="327240"/>
            <a:chOff x="685800" y="5973840"/>
            <a:chExt cx="7890480" cy="327240"/>
          </a:xfrm>
        </p:grpSpPr>
        <p:sp>
          <p:nvSpPr>
            <p:cNvPr id="473" name="Text Box 5"/>
            <p:cNvSpPr/>
            <p:nvPr/>
          </p:nvSpPr>
          <p:spPr>
            <a:xfrm>
              <a:off x="206496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6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5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desafío es desarrollar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alta calidad 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8" name="14 Grupo" descr=""/>
          <p:cNvPicPr/>
          <p:nvPr/>
        </p:nvPicPr>
        <p:blipFill>
          <a:blip r:embed="rId2"/>
          <a:stretch/>
        </p:blipFill>
        <p:spPr>
          <a:xfrm>
            <a:off x="6907320" y="139680"/>
            <a:ext cx="18586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DA85-670E-4566-84E9-38FACDBFE50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D241-BA61-4ED1-B3B4-AAF874EFBB5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Rectangle 5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8109-C1B4-43B5-A156-5DA97C0135F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6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490" name="Rectangle 3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AutoShape 4"/>
            <p:cNvCxnSpPr>
              <a:stCxn id="492" idx="3"/>
              <a:endCxn id="493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4" name="AutoShape 5"/>
            <p:cNvCxnSpPr>
              <a:stCxn id="493" idx="3"/>
              <a:endCxn id="495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6" name="AutoShape 6"/>
            <p:cNvCxnSpPr>
              <a:stCxn id="490" idx="3"/>
              <a:endCxn id="497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8" name="AutoShape 7"/>
            <p:cNvCxnSpPr>
              <a:stCxn id="497" idx="3"/>
              <a:endCxn id="492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9" name="AutoShape 8"/>
            <p:cNvCxnSpPr>
              <a:endCxn id="490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Line 9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0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5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D278-DE6D-4621-A49D-76BEF9B9FDE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Los grupos de trabajo deberá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tener dos o tres persona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cidirse antes del martes 18 de octubre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mandarme un mail informándome la conformación de los grupo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quien para el martes 18 no tenga grupo será asignado arbitrari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0BBC-4A5A-440F-8D90-A51FB8601D2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role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 5.5 de promedio en tareas </a:t>
            </a:r>
            <a:r>
              <a:rPr b="1" lang="es-CL" sz="3200" spc="-1" strike="noStrike">
                <a:solidFill>
                  <a:srgbClr val="000000"/>
                </a:solidFill>
                <a:latin typeface="Corbe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 5.5 en controles se puede eximi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278D-59F5-4C5F-9DE3-C25DBC5BC09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de Ingeniería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incipios y Cualidades del Software y su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Modelos de ciclo de vida del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Etapas del ciclo de vida del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spec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iseñ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verificación y valid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ceso de Desarroll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6617-B393-4FE7-90F7-56711B10824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0b5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7B1A-BEF8-4F17-B0B3-B3EB37D3242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14200" y="1856880"/>
            <a:ext cx="8786880" cy="446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tecnolog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ciencia para la resolución de problemas práctic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ingenier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tecnología en presencia de recursos limitad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Pero, ¿qué es la ciencia y cuándo estamos aplicando la cienci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Cuerpo de doctrina metódicamente formado y ordenado, que constituye una rama particular del sab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Modelos de la realidad cuyo comportamiento es explicable y que permiten predecir el comportamiento de situaciones simila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67EA-E699-464F-A4AE-49A840F8CAD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Entonc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para la construcción de software en presencia de recursos limit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qué es el software? y ¿qué ciencia se aplica en su construcció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441D-A761-4892-B250-223AE7A12BF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8401320" cy="4857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ejecutables, de instalación, de re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requisitos, diseño, pruebas, código fuente, manuales de usuario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 de la aplicación, parámetros de 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1-10-11T14:19:24Z</dcterms:modified>
  <cp:revision>24</cp:revision>
  <dc:subject/>
  <dc:title>CC31B – Desarrollo de Software de Aplicación</dc:title>
</cp:coreProperties>
</file>