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7.jpeg" ContentType="image/jpeg"/>
  <Override PartName="/ppt/media/image30.png" ContentType="image/png"/>
  <Override PartName="/ppt/media/image28.wmf" ContentType="image/x-wmf"/>
  <Override PartName="/ppt/media/image29.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4.wmf" ContentType="image/x-wmf"/>
  <Override PartName="/ppt/media/image14.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5.png" ContentType="image/png"/>
  <Override PartName="/ppt/media/image1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PlaceHolder 1"/>
          <p:cNvSpPr>
            <a:spLocks noGrp="1"/>
          </p:cNvSpPr>
          <p:nvPr>
            <p:ph type="sldImg"/>
          </p:nvPr>
        </p:nvSpPr>
        <p:spPr>
          <a:xfrm>
            <a:off x="-11798280" y="-11798280"/>
            <a:ext cx="11785680" cy="1234116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4" name="PlaceHolder 2"/>
          <p:cNvSpPr>
            <a:spLocks noGrp="1"/>
          </p:cNvSpPr>
          <p:nvPr>
            <p:ph type="body"/>
          </p:nvPr>
        </p:nvSpPr>
        <p:spPr>
          <a:xfrm>
            <a:off x="960480" y="3475080"/>
            <a:ext cx="7665840" cy="3276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840E35-30F6-4243-8AF3-56BEB3691B1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B96AE781-F574-4BC7-843D-269175106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D6BAA02D-2FC8-42BC-A572-E21ABB44A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B90B8D78-9415-4DC5-AC1D-1FEF0783CB8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8F5743-51B5-482B-BA86-B2126405FD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D1E33244-E8A9-4541-B113-AEFA66F13B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F39124CA-31B5-4EAC-ABE0-D21688BD1F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56C5D841-2838-455F-84C7-4B5B954961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B37583BA-7C85-4307-BBE1-8E3CE97792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8B727FA8-F44F-4543-BEB5-4551035C7B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995DC5DC-119F-4BA5-B888-D26C8B309B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4CE4B74A-C3BF-4A90-9CFB-426911432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677774F1-8B32-4E7E-9533-06344B25EC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D96E3C78-5233-430F-B33A-ECA0571DBA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72332F43-20C3-48CB-9453-985D434A35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BFFE550B-F74C-4D7E-A739-274D4F0589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7CCAC923-E338-4D1F-9235-2ABDF785B8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47D996C-5826-4F1E-927E-6F36C3F4FD7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4A422B51-3929-43CB-B3D5-16029122BBE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C53250E7-3D70-472D-9FF1-CF2EA495417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FE10E6B0-F473-4258-B4BE-5F473304B96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3C7549E1-83BA-4C61-A149-DA41621627A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3522ADF4-10C0-4866-A74A-D501C71FA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BB87DEA9-EB93-4924-8E11-4FC8A08796F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E564AE9D-5751-479A-AF00-5AE7DC8584E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777B3642-F39B-4660-9BDF-DC60E97AF97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2A628FC3-2226-4C0B-A8D4-1257DE7510A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579AF6DB-E4F6-409C-A455-59FA4A9AFB8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6CE39388-BD11-469C-A6F2-A9D8D4FA497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2532CC3D-C084-4D8A-8307-8C036BB32547}"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C551193-CF7C-4D48-805E-E52A41DD66CD}"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7A4AAEC0-056A-4220-9CE6-91ACC00B97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BA68A279-9C0D-4A29-BA41-3C49996CEC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ECEA5238-BB49-4206-BE0E-43C9EB744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5C48F4DD-1C28-4220-8AB1-9D08D06227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561A40A3-83F5-4030-BDAF-CB367A6AB4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E1D5CD66-110D-49C5-819A-B9528AFE07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194D827F-0F50-46DF-AB7E-3C0E7590A0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E0A18A09-2AB0-4A85-8720-41FF23C551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EDAA7124-A547-4406-8432-1F1248CD12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2545FE49-00C9-4B01-B097-CC70D76138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ED8B720A-6953-4B5C-B0E9-F413C80A14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97D3207F-A207-4512-8E9F-EBEEF37CD449}"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293AFBE-4CE5-49A5-80D5-2F2FC1F06073}"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7631EE8A-9231-477B-9950-77DE654F6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3DA4D4C4-F590-454E-B80A-3A5C95CD990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1B2C6F9D-A560-4872-BECE-AA403239ED4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27A77D6D-E013-4F20-A0B1-ADBA9FAC43F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266E4017-2319-4493-AF42-30901C71049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A67710C5-1184-44F6-8517-CC6458C86FB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788E3DAE-AEC4-4473-882E-4696447E904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ED93C98B-BB50-4457-B17C-F03DB194EE7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DF81033F-E2C5-4F75-8D38-806E2ED537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4D5BF376-4D15-4417-B9AC-CF641CD4763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AB873D14-6908-4142-9312-000C9073EC9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AAB65F6E-8E46-4156-A95A-C7273B8F7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1AF9FEF9-EDBB-44FD-A0FF-33D0B36F0569}"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8A94295-3B73-4D3C-8011-60AC8EA8FFA0}"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248C0F1C-66FA-4A80-8321-65BA22D91AB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253E30B1-C894-46E6-934A-551BDA04057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51F623DE-DEE3-4EFB-8259-4DF2CDCD06B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F4D1F386-65DC-438C-A582-35385C98E8D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75F383FD-C041-430B-9221-DF65A5B0143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BDEB6DCB-FCBD-45CF-8F8D-32F8BA4994D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31AAB398-B8D7-4BC6-BC70-F0C161FE91E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F8419978-7516-4980-9BC7-E25FA6DD714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86D12992-1278-4E2E-BC50-B6A6952F9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A7C55C60-B22D-4693-9476-052A362507D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FFCED1D9-25A1-487D-A558-54B55E6C6C2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F5219094-8098-44EA-989D-7A89A6100236}"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B217C11-74DC-4F45-A952-D92AC8939C77}"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34173E83-D406-4187-8672-04A645EE3D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3D5185EE-8D5F-4182-B58D-D70A8FF9A9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3A645CFC-1AB5-49F1-A9DD-FC6C54A63D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E4588EB4-F032-4ACE-85E7-0A72CE429F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BA5193A9-04B1-4FC6-BBAC-037614898A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62C55A27-5AE4-4A7B-9923-6A7B69C810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C68E2F4A-E976-45B7-81A6-9E023E33D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848296CE-17B5-440F-8963-19A8AAAE63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8669F3CB-2B0E-43CF-91ED-34F15ABDDC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692B70B9-BB16-4A8D-A665-3E8C2338F6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85E05D6B-FD5F-4513-B629-F4CD0DEB7B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AB08F05E-B191-4567-AF77-1381D0A574FE}"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DB4F7245-88CB-4DC7-9FF9-B22F713FA94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36080" cy="6850080"/>
            <a:chOff x="0" y="0"/>
            <a:chExt cx="9136080" cy="6850080"/>
          </a:xfrm>
        </p:grpSpPr>
        <p:pic>
          <p:nvPicPr>
            <p:cNvPr id="1" name="" descr=""/>
            <p:cNvPicPr/>
            <p:nvPr/>
          </p:nvPicPr>
          <p:blipFill>
            <a:blip r:embed="rId2"/>
            <a:stretch/>
          </p:blipFill>
          <p:spPr>
            <a:xfrm>
              <a:off x="438120" y="0"/>
              <a:ext cx="8697960" cy="3414600"/>
            </a:xfrm>
            <a:prstGeom prst="rect">
              <a:avLst/>
            </a:prstGeom>
            <a:ln w="0">
              <a:noFill/>
            </a:ln>
          </p:spPr>
        </p:pic>
        <p:sp>
          <p:nvSpPr>
            <p:cNvPr id="2" name=""/>
            <p:cNvSpPr/>
            <p:nvPr/>
          </p:nvSpPr>
          <p:spPr>
            <a:xfrm>
              <a:off x="0" y="6480"/>
              <a:ext cx="1817640" cy="6843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17640" cy="1666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28720" cy="8287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45360"/>
            <a:ext cx="2119320" cy="3664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160"/>
            <a:ext cx="747720" cy="5950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EF7D10-1BE6-4761-A8FA-65EFD349F3E6}" type="slidenum">
              <a:rPr b="0" lang="es-A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36080" cy="6392880"/>
            <a:chOff x="0" y="0"/>
            <a:chExt cx="9136080" cy="6392880"/>
          </a:xfrm>
        </p:grpSpPr>
        <p:sp>
          <p:nvSpPr>
            <p:cNvPr id="47" name=""/>
            <p:cNvSpPr/>
            <p:nvPr/>
          </p:nvSpPr>
          <p:spPr>
            <a:xfrm>
              <a:off x="1828800" y="4572000"/>
              <a:ext cx="6850080" cy="182088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36080" cy="6392880"/>
              <a:chOff x="0" y="0"/>
              <a:chExt cx="9136080" cy="6392880"/>
            </a:xfrm>
          </p:grpSpPr>
          <p:sp>
            <p:nvSpPr>
              <p:cNvPr id="49" name=""/>
              <p:cNvSpPr/>
              <p:nvPr/>
            </p:nvSpPr>
            <p:spPr>
              <a:xfrm>
                <a:off x="17640" y="0"/>
                <a:ext cx="1812600" cy="49309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36080" cy="2870280"/>
              </a:xfrm>
              <a:prstGeom prst="rect">
                <a:avLst/>
              </a:prstGeom>
              <a:ln w="0">
                <a:noFill/>
              </a:ln>
            </p:spPr>
          </p:pic>
        </p:grpSp>
        <p:sp>
          <p:nvSpPr>
            <p:cNvPr id="51" name=""/>
            <p:cNvSpPr/>
            <p:nvPr/>
          </p:nvSpPr>
          <p:spPr>
            <a:xfrm>
              <a:off x="0" y="4572000"/>
              <a:ext cx="1820880" cy="182088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6212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608643DF-FD68-4A49-927A-1D568740DECB}"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36080" cy="6850080"/>
            <a:chOff x="0" y="0"/>
            <a:chExt cx="9136080" cy="6850080"/>
          </a:xfrm>
        </p:grpSpPr>
        <p:pic>
          <p:nvPicPr>
            <p:cNvPr id="97" name="" descr=""/>
            <p:cNvPicPr/>
            <p:nvPr/>
          </p:nvPicPr>
          <p:blipFill>
            <a:blip r:embed="rId2"/>
            <a:stretch/>
          </p:blipFill>
          <p:spPr>
            <a:xfrm>
              <a:off x="438120" y="0"/>
              <a:ext cx="8697960" cy="3414600"/>
            </a:xfrm>
            <a:prstGeom prst="rect">
              <a:avLst/>
            </a:prstGeom>
            <a:ln w="0">
              <a:noFill/>
            </a:ln>
          </p:spPr>
        </p:pic>
        <p:sp>
          <p:nvSpPr>
            <p:cNvPr id="98" name=""/>
            <p:cNvSpPr/>
            <p:nvPr/>
          </p:nvSpPr>
          <p:spPr>
            <a:xfrm>
              <a:off x="0" y="6480"/>
              <a:ext cx="1817640" cy="6843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17640" cy="1666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28720" cy="8287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B21D282D-16D7-4330-BAB8-748CD6BD351D}"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36080" cy="6850080"/>
            <a:chOff x="0" y="0"/>
            <a:chExt cx="9136080" cy="6850080"/>
          </a:xfrm>
        </p:grpSpPr>
        <p:sp>
          <p:nvSpPr>
            <p:cNvPr id="145" name=""/>
            <p:cNvSpPr/>
            <p:nvPr/>
          </p:nvSpPr>
          <p:spPr>
            <a:xfrm>
              <a:off x="0" y="0"/>
              <a:ext cx="1817640" cy="685008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17640" cy="182088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29600" cy="3722760"/>
            </a:xfrm>
            <a:prstGeom prst="rect">
              <a:avLst/>
            </a:prstGeom>
            <a:ln w="0">
              <a:noFill/>
            </a:ln>
          </p:spPr>
        </p:pic>
      </p:grpSp>
      <p:sp>
        <p:nvSpPr>
          <p:cNvPr id="148"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5888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6840" y="655308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9B4E8874-6677-42C1-AED5-C692BBA981AE}"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36080" cy="1668600"/>
            <a:chOff x="0" y="0"/>
            <a:chExt cx="9136080" cy="1668600"/>
          </a:xfrm>
        </p:grpSpPr>
        <p:pic>
          <p:nvPicPr>
            <p:cNvPr id="190" name="" descr=""/>
            <p:cNvPicPr/>
            <p:nvPr/>
          </p:nvPicPr>
          <p:blipFill>
            <a:blip r:embed="rId2"/>
            <a:stretch/>
          </p:blipFill>
          <p:spPr>
            <a:xfrm>
              <a:off x="0" y="0"/>
              <a:ext cx="9136080" cy="1668600"/>
            </a:xfrm>
            <a:prstGeom prst="rect">
              <a:avLst/>
            </a:prstGeom>
            <a:ln w="0">
              <a:noFill/>
            </a:ln>
          </p:spPr>
        </p:pic>
        <p:sp>
          <p:nvSpPr>
            <p:cNvPr id="191" name=""/>
            <p:cNvSpPr/>
            <p:nvPr/>
          </p:nvSpPr>
          <p:spPr>
            <a:xfrm>
              <a:off x="17640" y="3240"/>
              <a:ext cx="1812600" cy="8128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26920" cy="401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DEFFAFD6-C51D-4A89-9A4D-D2755237BF75}"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0880" cy="1668600"/>
            <a:chOff x="0" y="0"/>
            <a:chExt cx="1820880" cy="1668600"/>
          </a:xfrm>
        </p:grpSpPr>
        <p:pic>
          <p:nvPicPr>
            <p:cNvPr id="235" name="" descr=""/>
            <p:cNvPicPr/>
            <p:nvPr/>
          </p:nvPicPr>
          <p:blipFill>
            <a:blip r:embed="rId2"/>
            <a:stretch/>
          </p:blipFill>
          <p:spPr>
            <a:xfrm>
              <a:off x="0" y="0"/>
              <a:ext cx="1820880" cy="1668600"/>
            </a:xfrm>
            <a:prstGeom prst="rect">
              <a:avLst/>
            </a:prstGeom>
            <a:ln w="0">
              <a:noFill/>
            </a:ln>
          </p:spPr>
        </p:pic>
        <p:sp>
          <p:nvSpPr>
            <p:cNvPr id="236" name=""/>
            <p:cNvSpPr/>
            <p:nvPr/>
          </p:nvSpPr>
          <p:spPr>
            <a:xfrm>
              <a:off x="503280" y="208080"/>
              <a:ext cx="814320" cy="401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BC35B046-0544-4416-9AF8-0E6EA03AF145}"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36080" cy="6850080"/>
            <a:chOff x="0" y="0"/>
            <a:chExt cx="9136080" cy="6850080"/>
          </a:xfrm>
        </p:grpSpPr>
        <p:pic>
          <p:nvPicPr>
            <p:cNvPr id="279" name="" descr=""/>
            <p:cNvPicPr/>
            <p:nvPr/>
          </p:nvPicPr>
          <p:blipFill>
            <a:blip r:embed="rId2"/>
            <a:stretch/>
          </p:blipFill>
          <p:spPr>
            <a:xfrm>
              <a:off x="0" y="0"/>
              <a:ext cx="9136080" cy="3414600"/>
            </a:xfrm>
            <a:prstGeom prst="rect">
              <a:avLst/>
            </a:prstGeom>
            <a:ln w="0">
              <a:noFill/>
            </a:ln>
          </p:spPr>
        </p:pic>
        <p:sp>
          <p:nvSpPr>
            <p:cNvPr id="280" name=""/>
            <p:cNvSpPr/>
            <p:nvPr/>
          </p:nvSpPr>
          <p:spPr>
            <a:xfrm>
              <a:off x="7313760" y="6480"/>
              <a:ext cx="1815840" cy="68436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15840" cy="1666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28720" cy="8287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48021FAC-217B-4F9F-A15F-AEDA74D44F0E}"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4.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 descr=""/>
          <p:cNvPicPr/>
          <p:nvPr/>
        </p:nvPicPr>
        <p:blipFill>
          <a:blip r:embed="rId1"/>
          <a:srcRect l="0" t="3405" r="0" b="13350"/>
          <a:stretch/>
        </p:blipFill>
        <p:spPr>
          <a:xfrm>
            <a:off x="1835280" y="-27000"/>
            <a:ext cx="7308720" cy="4608360"/>
          </a:xfrm>
          <a:prstGeom prst="rect">
            <a:avLst/>
          </a:prstGeom>
          <a:ln w="0">
            <a:noFill/>
          </a:ln>
        </p:spPr>
      </p:pic>
      <p:grpSp>
        <p:nvGrpSpPr>
          <p:cNvPr id="336" name=""/>
          <p:cNvGrpSpPr/>
          <p:nvPr/>
        </p:nvGrpSpPr>
        <p:grpSpPr>
          <a:xfrm>
            <a:off x="1841400" y="5834160"/>
            <a:ext cx="6629400" cy="492120"/>
            <a:chOff x="1841400" y="5834160"/>
            <a:chExt cx="6629400" cy="492120"/>
          </a:xfrm>
        </p:grpSpPr>
        <p:pic>
          <p:nvPicPr>
            <p:cNvPr id="337" name="" descr=""/>
            <p:cNvPicPr/>
            <p:nvPr/>
          </p:nvPicPr>
          <p:blipFill>
            <a:blip r:embed="rId2"/>
            <a:stretch/>
          </p:blipFill>
          <p:spPr>
            <a:xfrm>
              <a:off x="1841400" y="5834160"/>
              <a:ext cx="6629400" cy="492120"/>
            </a:xfrm>
            <a:prstGeom prst="rect">
              <a:avLst/>
            </a:prstGeom>
            <a:ln w="0">
              <a:noFill/>
            </a:ln>
          </p:spPr>
        </p:pic>
        <p:sp>
          <p:nvSpPr>
            <p:cNvPr id="338" name=""/>
            <p:cNvSpPr/>
            <p:nvPr/>
          </p:nvSpPr>
          <p:spPr>
            <a:xfrm>
              <a:off x="1841400" y="5834160"/>
              <a:ext cx="662940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9"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7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goritmo de búsqueda en la tabl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las ordenadas por largo del prefijo de red (máscaras con más 1's primer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trada default calza siempre (final)</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8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sp>
        <p:nvSpPr>
          <p:cNvPr id="855" name=""/>
          <p:cNvSpPr/>
          <p:nvPr/>
        </p:nvSpPr>
        <p:spPr>
          <a:xfrm>
            <a:off x="2514600" y="4632480"/>
            <a:ext cx="622944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search(IP,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i=0; i &lt; table.rows; i++)</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IP &amp; table[i].Mask) == table[i].NetPrefix)</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table[i]);</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NULL;</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2438280" y="1828800"/>
            <a:ext cx="6248520" cy="5362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algoritmo anterior depende de la correctitud de las tablas de rutas utilizada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estas tablas pueden contener errores, se incluyen algunos mecanismos básicos en IP para evitar daños demasiado grav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los datagramas IPv4 incluyen el campo TTL, de modo de impedir que un ciclo en las rutas no genere datagramas permanentemente girando en la red, consumiendo ancho de banda sin llegar a ningún lado. </a:t>
            </a:r>
            <a:endParaRPr b="0" lang="en-US" sz="2200" spc="-1" strike="noStrike">
              <a:solidFill>
                <a:srgbClr val="000000"/>
              </a:solidFill>
              <a:latin typeface="Arial"/>
            </a:endParaRPr>
          </a:p>
        </p:txBody>
      </p:sp>
      <p:sp>
        <p:nvSpPr>
          <p:cNvPr id="85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8)</a:t>
            </a:r>
            <a:endParaRPr b="0" lang="en-US" sz="44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el equivalente es el campo HopLimi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llegar este contador a cero, el datagrama debe destruirse y no seguir ruteándol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embargo, es bueno generar un mensaje de error para el origen, de modo de advertirle que sus datagramas se están perdien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va en un datagrama ICMP (Time Exceeded) al origen.  </a:t>
            </a:r>
            <a:endParaRPr b="0" lang="en-US" sz="2200" spc="-1" strike="noStrike">
              <a:solidFill>
                <a:srgbClr val="000000"/>
              </a:solidFill>
              <a:latin typeface="Arial"/>
            </a:endParaRPr>
          </a:p>
        </p:txBody>
      </p:sp>
      <p:sp>
        <p:nvSpPr>
          <p:cNvPr id="86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9)</a:t>
            </a:r>
            <a:endParaRPr b="0" lang="en-US" sz="4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embargo, es probable que (si hay un ciclo en una dirección) haya un ciclo también en la dirección del orige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esto ocurre, el datagrama ICMP también verá su TTL llegar a cero, y deberá ser destrui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si genero otro ICMP en este caso, ocurrirá lo mismo. </a:t>
            </a:r>
            <a:endParaRPr b="0" lang="en-US" sz="2200" spc="-1" strike="noStrike">
              <a:solidFill>
                <a:srgbClr val="000000"/>
              </a:solidFill>
              <a:latin typeface="Arial"/>
            </a:endParaRPr>
          </a:p>
        </p:txBody>
      </p:sp>
      <p:sp>
        <p:nvSpPr>
          <p:cNvPr id="86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0)</a:t>
            </a:r>
            <a:endParaRPr b="0" lang="en-US" sz="44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se define en IP que nunca se genera un mensaje ICMP para reportar errores producidos por paquetes ICMP de reportes de error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caso de recibir un paquete que debe rutearse por la misma interfaz de red por la que llegó, un Router rutea bien el paquete, pero también genera un ICMP redirect hacia el host de origen, si el origen está en la misma red.</a:t>
            </a:r>
            <a:endParaRPr b="0" lang="en-US" sz="2200" spc="-1" strike="noStrike">
              <a:solidFill>
                <a:srgbClr val="000000"/>
              </a:solidFill>
              <a:latin typeface="Arial"/>
            </a:endParaRPr>
          </a:p>
        </p:txBody>
      </p:sp>
      <p:sp>
        <p:nvSpPr>
          <p:cNvPr id="86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1)</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38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83" name="" descr=""/>
          <p:cNvPicPr/>
          <p:nvPr/>
        </p:nvPicPr>
        <p:blipFill>
          <a:blip r:embed="rId1"/>
          <a:srcRect l="0" t="0" r="29209" b="55659"/>
          <a:stretch/>
        </p:blipFill>
        <p:spPr>
          <a:xfrm>
            <a:off x="4184640" y="5029200"/>
            <a:ext cx="3816360" cy="1511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38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8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9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404"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1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 aun con la tasa de pérdida más pesimista posibl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25"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3"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34" name=""/>
          <p:cNvGrpSpPr/>
          <p:nvPr/>
        </p:nvGrpSpPr>
        <p:grpSpPr>
          <a:xfrm>
            <a:off x="1944720" y="5157720"/>
            <a:ext cx="7091280" cy="739800"/>
            <a:chOff x="1944720" y="5157720"/>
            <a:chExt cx="7091280" cy="739800"/>
          </a:xfrm>
        </p:grpSpPr>
        <p:sp>
          <p:nvSpPr>
            <p:cNvPr id="435" name=""/>
            <p:cNvSpPr/>
            <p:nvPr/>
          </p:nvSpPr>
          <p:spPr>
            <a:xfrm>
              <a:off x="1993680" y="5457960"/>
              <a:ext cx="7027920" cy="439560"/>
            </a:xfrm>
            <a:custGeom>
              <a:avLst/>
              <a:gdLst>
                <a:gd name="textAreaLeft" fmla="*/ 0 w 7027920"/>
                <a:gd name="textAreaRight" fmla="*/ 7028280 w 7027920"/>
                <a:gd name="textAreaTop" fmla="*/ 0 h 439560"/>
                <a:gd name="textAreaBottom" fmla="*/ 439920 h 43956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944720" y="5413320"/>
              <a:ext cx="7027920" cy="439920"/>
            </a:xfrm>
            <a:custGeom>
              <a:avLst/>
              <a:gdLst>
                <a:gd name="textAreaLeft" fmla="*/ 0 w 7027920"/>
                <a:gd name="textAreaRight" fmla="*/ 7028280 w 7027920"/>
                <a:gd name="textAreaTop" fmla="*/ 0 h 439920"/>
                <a:gd name="textAreaBottom" fmla="*/ 440280 h 43992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755280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8" name=""/>
            <p:cNvSpPr/>
            <p:nvPr/>
          </p:nvSpPr>
          <p:spPr>
            <a:xfrm>
              <a:off x="79099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05176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0" name=""/>
            <p:cNvSpPr/>
            <p:nvPr/>
          </p:nvSpPr>
          <p:spPr>
            <a:xfrm>
              <a:off x="82242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41" name=""/>
            <p:cNvSpPr/>
            <p:nvPr/>
          </p:nvSpPr>
          <p:spPr>
            <a:xfrm>
              <a:off x="837000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2" name=""/>
            <p:cNvSpPr/>
            <p:nvPr/>
          </p:nvSpPr>
          <p:spPr>
            <a:xfrm>
              <a:off x="848916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43" name=""/>
            <p:cNvSpPr/>
            <p:nvPr/>
          </p:nvSpPr>
          <p:spPr>
            <a:xfrm>
              <a:off x="863784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4" name=""/>
            <p:cNvSpPr/>
            <p:nvPr/>
          </p:nvSpPr>
          <p:spPr>
            <a:xfrm>
              <a:off x="875448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45" name=""/>
            <p:cNvSpPr/>
            <p:nvPr/>
          </p:nvSpPr>
          <p:spPr>
            <a:xfrm>
              <a:off x="89028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6" name=""/>
            <p:cNvSpPr/>
            <p:nvPr/>
          </p:nvSpPr>
          <p:spPr>
            <a:xfrm>
              <a:off x="703944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7" name=""/>
            <p:cNvSpPr/>
            <p:nvPr/>
          </p:nvSpPr>
          <p:spPr>
            <a:xfrm>
              <a:off x="569160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8" name=""/>
            <p:cNvSpPr/>
            <p:nvPr/>
          </p:nvSpPr>
          <p:spPr>
            <a:xfrm>
              <a:off x="426528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9" name=""/>
            <p:cNvSpPr/>
            <p:nvPr/>
          </p:nvSpPr>
          <p:spPr>
            <a:xfrm>
              <a:off x="29520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50" name=""/>
            <p:cNvSpPr/>
            <p:nvPr/>
          </p:nvSpPr>
          <p:spPr>
            <a:xfrm>
              <a:off x="211356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51" name=""/>
            <p:cNvSpPr/>
            <p:nvPr/>
          </p:nvSpPr>
          <p:spPr>
            <a:xfrm>
              <a:off x="503856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52" name=""/>
            <p:cNvSpPr/>
            <p:nvPr/>
          </p:nvSpPr>
          <p:spPr>
            <a:xfrm>
              <a:off x="374796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53" name=""/>
            <p:cNvSpPr/>
            <p:nvPr/>
          </p:nvSpPr>
          <p:spPr>
            <a:xfrm>
              <a:off x="24919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54" name=""/>
            <p:cNvSpPr/>
            <p:nvPr/>
          </p:nvSpPr>
          <p:spPr>
            <a:xfrm>
              <a:off x="196884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55" name=""/>
            <p:cNvSpPr/>
            <p:nvPr/>
          </p:nvSpPr>
          <p:spPr>
            <a:xfrm>
              <a:off x="768960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6" name=""/>
            <p:cNvSpPr/>
            <p:nvPr/>
          </p:nvSpPr>
          <p:spPr>
            <a:xfrm>
              <a:off x="65822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7" name=""/>
            <p:cNvSpPr/>
            <p:nvPr/>
          </p:nvSpPr>
          <p:spPr>
            <a:xfrm>
              <a:off x="6552000" y="5413320"/>
              <a:ext cx="0" cy="43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4982400" y="5413320"/>
              <a:ext cx="0" cy="43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695400" y="5413320"/>
              <a:ext cx="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412720" y="5413320"/>
              <a:ext cx="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661520" y="5413320"/>
              <a:ext cx="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62"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6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7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8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2"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34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9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4"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18288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9"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50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42800" indent="-442800">
              <a:lnSpc>
                <a:spcPct val="9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42800" indent="-442800">
              <a:lnSpc>
                <a:spcPct val="9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42800" indent="-442800">
              <a:lnSpc>
                <a:spcPct val="9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42800" indent="-442800">
              <a:lnSpc>
                <a:spcPct val="10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42800" indent="-442800">
              <a:lnSpc>
                <a:spcPct val="10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19040" indent="-20952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19040" indent="-20952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19040" indent="-20952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19040" indent="-20952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19040" indent="-20952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19040" indent="-20952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19040" indent="-20952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24" name="" descr=""/>
          <p:cNvPicPr/>
          <p:nvPr/>
        </p:nvPicPr>
        <p:blipFill>
          <a:blip r:embed="rId2"/>
          <a:stretch/>
        </p:blipFill>
        <p:spPr>
          <a:xfrm>
            <a:off x="4427640" y="4292640"/>
            <a:ext cx="3673440" cy="1596960"/>
          </a:xfrm>
          <a:prstGeom prst="rect">
            <a:avLst/>
          </a:prstGeom>
          <a:ln w="0">
            <a:noFill/>
          </a:ln>
        </p:spPr>
      </p:pic>
      <p:sp>
        <p:nvSpPr>
          <p:cNvPr id="525"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14200" indent="-128520">
              <a:lnSpc>
                <a:spcPct val="100000"/>
              </a:lnSpc>
              <a:spcBef>
                <a:spcPts val="1800"/>
              </a:spcBef>
              <a:buSzPct val="100000"/>
              <a:buBlip>
                <a:blip r:embed="rId1"/>
              </a:buBlip>
              <a:tabLst>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14200" indent="-128520">
              <a:lnSpc>
                <a:spcPct val="100000"/>
              </a:lnSpc>
              <a:spcBef>
                <a:spcPts val="1800"/>
              </a:spcBef>
              <a:buSzPct val="100000"/>
              <a:buBlip>
                <a:blip r:embed="rId2"/>
              </a:buBlip>
              <a:tabLst>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19040" indent="-209520">
              <a:lnSpc>
                <a:spcPct val="100000"/>
              </a:lnSpc>
              <a:spcBef>
                <a:spcPts val="1800"/>
              </a:spcBef>
              <a:buSzPct val="100000"/>
              <a:buBlip>
                <a:blip r:embed="rId3"/>
              </a:buBlip>
              <a:tabLst>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1"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52"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33"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50" name="" descr=""/>
          <p:cNvPicPr/>
          <p:nvPr/>
        </p:nvPicPr>
        <p:blipFill>
          <a:blip r:embed="rId1"/>
          <a:stretch/>
        </p:blipFill>
        <p:spPr>
          <a:xfrm>
            <a:off x="7467480" y="5300640"/>
            <a:ext cx="1676520" cy="12463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6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6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7"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6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42800" indent="-442800">
              <a:lnSpc>
                <a:spcPct val="100000"/>
              </a:lnSpc>
              <a:spcBef>
                <a:spcPts val="1800"/>
              </a:spcBef>
              <a:buSzPct val="156296"/>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6"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7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9"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8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8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8"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9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7" name="" descr=""/>
          <p:cNvPicPr/>
          <p:nvPr/>
        </p:nvPicPr>
        <p:blipFill>
          <a:blip r:embed="rId1"/>
          <a:stretch/>
        </p:blipFill>
        <p:spPr>
          <a:xfrm>
            <a:off x="3967200" y="3573360"/>
            <a:ext cx="2908440" cy="2880000"/>
          </a:xfrm>
          <a:prstGeom prst="rect">
            <a:avLst/>
          </a:prstGeom>
          <a:ln w="0">
            <a:noFill/>
          </a:ln>
        </p:spPr>
      </p:pic>
      <p:sp>
        <p:nvSpPr>
          <p:cNvPr id="598"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9"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600"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0720" indent="-442800" algn="ctr">
              <a:lnSpc>
                <a:spcPct val="100000"/>
              </a:lnSpc>
              <a:spcBef>
                <a:spcPts val="1800"/>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0720" indent="-442800">
              <a:lnSpc>
                <a:spcPct val="100000"/>
              </a:lnSpc>
              <a:spcBef>
                <a:spcPts val="1800"/>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0" lang="en-US" sz="2200" spc="-1" strike="noStrike">
              <a:solidFill>
                <a:srgbClr val="000000"/>
              </a:solidFill>
              <a:latin typeface="Arial"/>
            </a:endParaRPr>
          </a:p>
          <a:p>
            <a:pPr marL="450720" indent="-442800">
              <a:lnSpc>
                <a:spcPct val="100000"/>
              </a:lnSpc>
              <a:spcBef>
                <a:spcPts val="1800"/>
              </a:spcBef>
              <a:buClr>
                <a:srgbClr val="0f6fc6"/>
              </a:buClr>
              <a:buSzPct val="80000"/>
              <a:buFont typeface="Wingdings" charset="2"/>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0720" indent="-442800">
              <a:lnSpc>
                <a:spcPct val="100000"/>
              </a:lnSpc>
              <a:spcBef>
                <a:spcPts val="1800"/>
              </a:spcBef>
              <a:buClr>
                <a:srgbClr val="0f6fc6"/>
              </a:buClr>
              <a:buSzPct val="80000"/>
              <a:buFont typeface="Wingdings" charset="2"/>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0720" indent="-442800">
              <a:lnSpc>
                <a:spcPct val="100000"/>
              </a:lnSpc>
              <a:spcBef>
                <a:spcPts val="1800"/>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0" lang="en-US" sz="2200" spc="-1" strike="noStrike">
              <a:solidFill>
                <a:srgbClr val="000000"/>
              </a:solidFill>
              <a:latin typeface="Arial"/>
            </a:endParaRPr>
          </a:p>
        </p:txBody>
      </p:sp>
      <p:sp>
        <p:nvSpPr>
          <p:cNvPr id="60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9"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6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61" name="" descr=""/>
          <p:cNvPicPr/>
          <p:nvPr/>
        </p:nvPicPr>
        <p:blipFill>
          <a:blip r:embed="rId1"/>
          <a:stretch/>
        </p:blipFill>
        <p:spPr>
          <a:xfrm>
            <a:off x="3635280" y="2903400"/>
            <a:ext cx="3676680" cy="1533600"/>
          </a:xfrm>
          <a:prstGeom prst="rect">
            <a:avLst/>
          </a:prstGeom>
          <a:ln w="0">
            <a:noFill/>
          </a:ln>
        </p:spPr>
      </p:pic>
      <p:pic>
        <p:nvPicPr>
          <p:cNvPr id="362"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2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30" name="" descr=""/>
          <p:cNvPicPr/>
          <p:nvPr/>
        </p:nvPicPr>
        <p:blipFill>
          <a:blip r:embed="rId1"/>
          <a:stretch/>
        </p:blipFill>
        <p:spPr>
          <a:xfrm>
            <a:off x="3708360" y="3716280"/>
            <a:ext cx="3311640" cy="3059280"/>
          </a:xfrm>
          <a:prstGeom prst="rect">
            <a:avLst/>
          </a:prstGeom>
          <a:ln w="0">
            <a:noFill/>
          </a:ln>
        </p:spPr>
      </p:pic>
      <p:sp>
        <p:nvSpPr>
          <p:cNvPr id="631"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0000" indent="-442800">
              <a:lnSpc>
                <a:spcPct val="10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br>
              <a:rPr sz="2200"/>
            </a:br>
            <a:endParaRPr b="0" lang="en-US" sz="2200" spc="-1" strike="noStrike">
              <a:solidFill>
                <a:srgbClr val="000000"/>
              </a:solidFill>
              <a:latin typeface="Arial"/>
            </a:endParaRPr>
          </a:p>
        </p:txBody>
      </p:sp>
      <p:sp>
        <p:nvSpPr>
          <p:cNvPr id="6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Ipv4</a:t>
            </a:r>
            <a:endParaRPr b="0" lang="en-US" sz="4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Arial"/>
            </a:endParaRPr>
          </a:p>
        </p:txBody>
      </p:sp>
      <p:pic>
        <p:nvPicPr>
          <p:cNvPr id="643" name="" descr=""/>
          <p:cNvPicPr/>
          <p:nvPr/>
        </p:nvPicPr>
        <p:blipFill>
          <a:blip r:embed="rId1"/>
          <a:stretch/>
        </p:blipFill>
        <p:spPr>
          <a:xfrm>
            <a:off x="3200400" y="914400"/>
            <a:ext cx="5943600" cy="59436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0000" indent="-442800">
              <a:lnSpc>
                <a:spcPct val="10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Se duplica cada 5 años aproximadamente</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pic>
        <p:nvPicPr>
          <p:cNvPr id="651" name="" descr=""/>
          <p:cNvPicPr/>
          <p:nvPr/>
        </p:nvPicPr>
        <p:blipFill>
          <a:blip r:embed="rId1"/>
          <a:stretch/>
        </p:blipFill>
        <p:spPr>
          <a:xfrm>
            <a:off x="2590920" y="2514600"/>
            <a:ext cx="6095880" cy="409572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5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6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6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6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ICM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67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detectarse un error relacionado con un datagrama, se envía un mensaje de error a la dirección IP de origen. </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e mensaje va en un datagrama dirigido al layer IP propiamente tal, no a una aplicación de nivel superior. </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se encapsula en un datagrama IP con valor protocolo (en el header) de ICMP. El datagrama original (que causó el error) va como dato</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ípicos paquetes de error son porque el TTL llegó a cero, porque no existen rutas a esa red, tiempo esperando fragmentos excedido, etc.</a:t>
            </a:r>
            <a:endParaRPr b="0" lang="en-US" sz="22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67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Protocolo integral de IP, utilizado para reportar errores. </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Utiliza a IP como un protocolo de capa “inferior”.</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ICMP no se puede usar para reportar errores de mensajes ICMP.</a:t>
            </a:r>
            <a:endParaRPr b="0" lang="en-US" sz="24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68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1)</a:t>
            </a:r>
            <a:endParaRPr b="0" lang="en-US" sz="4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2438280" y="2286000"/>
            <a:ext cx="6248520" cy="41054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En el caso de los fragmentos, sólo se generan mensajes ICMP para el primer fragmento.</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Nunca se genera ICMP para datagramas con direcciones de destino broadcast o multicast, o direcciones de origen que no sean únicas.</a:t>
            </a:r>
            <a:endParaRPr b="0" lang="en-US" sz="24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68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2)</a:t>
            </a:r>
            <a:endParaRPr b="0" lang="en-US" sz="4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2438280" y="2286000"/>
            <a:ext cx="6248520" cy="40402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s mensajes ICMP tienen un tipo y un código asociado (que depende del tipo). Algunos mensajes además contienen datos adicionale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0: Echo reply</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3: Destination unreachabl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4: Source quench</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5: Redirect</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8: Echo</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9: Router advertisement</a:t>
            </a:r>
            <a:endParaRPr b="0" lang="en-US" sz="1800" spc="-1" strike="noStrike">
              <a:solidFill>
                <a:srgbClr val="000000"/>
              </a:solidFill>
              <a:latin typeface="Arial"/>
            </a:endParaRPr>
          </a:p>
        </p:txBody>
      </p:sp>
      <p:sp>
        <p:nvSpPr>
          <p:cNvPr id="68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3)</a:t>
            </a:r>
            <a:endParaRPr b="0" lang="en-US" sz="4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Los mensajes ICMP tienen un tipo y un código asociado (que depende del tipo). Algunos mensajes además contienen datos adicionale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0: Router solicitatio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1: Time exceeded</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2: Parameter problem</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3: Timestamp request</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4: Timestamp reply</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30: Tracerout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32: Mobile host redirect</a:t>
            </a:r>
            <a:endParaRPr b="0" lang="en-US" sz="1700" spc="-1" strike="noStrike">
              <a:solidFill>
                <a:srgbClr val="000000"/>
              </a:solidFill>
              <a:latin typeface="Arial"/>
            </a:endParaRPr>
          </a:p>
        </p:txBody>
      </p:sp>
      <p:sp>
        <p:nvSpPr>
          <p:cNvPr id="69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4)</a:t>
            </a:r>
            <a:endParaRPr b="0" lang="en-US" sz="4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2438280" y="2286000"/>
            <a:ext cx="6248520" cy="42498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ara los mensajes de tipo==3, tenemos los siguientes código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0: Network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 Host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2: Protocol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3: Port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4: Fragmentation needed but the Do Not Fragment bit was set</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5: Source route failed</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6: Destination network unknown</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69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5)</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6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los mensajes de tipo==3, tenemos los siguientes código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7: Destination host unknown</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9: Destination network administratively prohibited</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0: Destination host administratively prohibited</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1: Network unreachable for this type of servic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2: Host unreachable for this type of servic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3: Communication administratively prohibited by    filtering</a:t>
            </a:r>
            <a:endParaRPr b="0" lang="en-US" sz="1800" spc="-1" strike="noStrike">
              <a:solidFill>
                <a:srgbClr val="000000"/>
              </a:solidFill>
              <a:latin typeface="Arial"/>
            </a:endParaRPr>
          </a:p>
        </p:txBody>
      </p:sp>
      <p:sp>
        <p:nvSpPr>
          <p:cNvPr id="70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6)</a:t>
            </a:r>
            <a:endParaRPr b="0" lang="en-US" sz="4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ragmenta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T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uteo Básico</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Y FRAGMENTACIÓN</a:t>
            </a:r>
            <a:endParaRPr b="0" lang="en-US" sz="4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2451240" y="1930320"/>
            <a:ext cx="6248160" cy="24685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omo se vio anteriormente los paquetes pueden atravesar distintos tipos de redes.</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una de éstas redes tiene un MTU determinado.</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 un paquete llega a un router y es muy grande para seguir su camino debo fragmentarlo en unidades más pequeñas.</a:t>
            </a:r>
            <a:endParaRPr b="0" lang="en-US" sz="2000" spc="-1" strike="noStrike">
              <a:solidFill>
                <a:srgbClr val="000000"/>
              </a:solidFill>
              <a:latin typeface="Arial"/>
            </a:endParaRPr>
          </a:p>
        </p:txBody>
      </p:sp>
      <p:sp>
        <p:nvSpPr>
          <p:cNvPr id="7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1)</a:t>
            </a:r>
            <a:endParaRPr b="0" lang="en-US" sz="4400" spc="-1" strike="noStrike">
              <a:solidFill>
                <a:srgbClr val="000000"/>
              </a:solidFill>
              <a:latin typeface="Arial"/>
            </a:endParaRPr>
          </a:p>
        </p:txBody>
      </p:sp>
      <p:pic>
        <p:nvPicPr>
          <p:cNvPr id="712" name="" descr=""/>
          <p:cNvPicPr/>
          <p:nvPr/>
        </p:nvPicPr>
        <p:blipFill>
          <a:blip r:embed="rId1"/>
          <a:stretch/>
        </p:blipFill>
        <p:spPr>
          <a:xfrm>
            <a:off x="2554200" y="4500720"/>
            <a:ext cx="5978520" cy="22348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2463840" y="1943280"/>
            <a:ext cx="6248520" cy="46940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fragmentar divido el datagrama en varios datagramas con (casi) el mismo header y los trozos de los datos en cada uno.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largo de cada datagrama es el que corresponde a cada fragmento.</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Cada uno de estos fragmentos será ruteado luego como un datagrama independiente.</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problema es que si el nivel transporte envía un datagrama, el receptor debe recibir también uno (y no varios más pequeños). </a:t>
            </a:r>
            <a:endParaRPr b="0" lang="en-US" sz="2200" spc="-1" strike="noStrike">
              <a:solidFill>
                <a:srgbClr val="000000"/>
              </a:solidFill>
              <a:latin typeface="Arial"/>
            </a:endParaRPr>
          </a:p>
        </p:txBody>
      </p:sp>
      <p:sp>
        <p:nvSpPr>
          <p:cNvPr id="71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2)</a:t>
            </a:r>
            <a:endParaRPr b="0" lang="en-US" sz="4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2463840" y="1828800"/>
            <a:ext cx="6248520" cy="24289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sto, el receptor final “pega” los fragmentos para reconstruir el datagrama original.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to se usan los otros campos del encabezado: el identificador es un valor único por cada datagrama enviado desde un mismo host. </a:t>
            </a:r>
            <a:endParaRPr b="0" lang="en-US" sz="2200" spc="-1" strike="noStrike">
              <a:solidFill>
                <a:srgbClr val="000000"/>
              </a:solidFill>
              <a:latin typeface="Arial"/>
            </a:endParaRPr>
          </a:p>
        </p:txBody>
      </p:sp>
      <p:sp>
        <p:nvSpPr>
          <p:cNvPr id="71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3)</a:t>
            </a:r>
            <a:endParaRPr b="0" lang="en-US" sz="4400" spc="-1" strike="noStrike">
              <a:solidFill>
                <a:srgbClr val="000000"/>
              </a:solidFill>
              <a:latin typeface="Arial"/>
            </a:endParaRPr>
          </a:p>
        </p:txBody>
      </p:sp>
      <p:pic>
        <p:nvPicPr>
          <p:cNvPr id="721" name="" descr=""/>
          <p:cNvPicPr/>
          <p:nvPr/>
        </p:nvPicPr>
        <p:blipFill>
          <a:blip r:embed="rId1"/>
          <a:stretch/>
        </p:blipFill>
        <p:spPr>
          <a:xfrm>
            <a:off x="3898800" y="4325760"/>
            <a:ext cx="4032360" cy="24958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fragmentos llevan todos el identificador del datagrama original, permitiendo reconocerlo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offset del fragmento indica la posición dentro del datagrama original donde van los datos de este fragmento.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ara ahorrarse espacio en el header, el offset va anotado contando de a 8 bytes, por lo que debe multiplicarse por ocho para obtener el verdadero valor.</a:t>
            </a:r>
            <a:endParaRPr b="0" lang="en-US" sz="2000" spc="-1" strike="noStrike">
              <a:solidFill>
                <a:srgbClr val="000000"/>
              </a:solidFill>
              <a:latin typeface="Arial"/>
            </a:endParaRPr>
          </a:p>
        </p:txBody>
      </p:sp>
      <p:sp>
        <p:nvSpPr>
          <p:cNvPr id="72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4)</a:t>
            </a:r>
            <a:endParaRPr b="0" lang="en-US" sz="4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5)</a:t>
            </a:r>
            <a:endParaRPr b="0" lang="en-US" sz="4400" spc="-1" strike="noStrike">
              <a:solidFill>
                <a:srgbClr val="000000"/>
              </a:solidFill>
              <a:latin typeface="Arial"/>
            </a:endParaRPr>
          </a:p>
        </p:txBody>
      </p:sp>
      <p:grpSp>
        <p:nvGrpSpPr>
          <p:cNvPr id="729" name=""/>
          <p:cNvGrpSpPr/>
          <p:nvPr/>
        </p:nvGrpSpPr>
        <p:grpSpPr>
          <a:xfrm>
            <a:off x="2149200" y="3357720"/>
            <a:ext cx="2343600" cy="1618920"/>
            <a:chOff x="2149200" y="3357720"/>
            <a:chExt cx="2343600" cy="1618920"/>
          </a:xfrm>
        </p:grpSpPr>
        <p:sp>
          <p:nvSpPr>
            <p:cNvPr id="730" name=""/>
            <p:cNvSpPr/>
            <p:nvPr/>
          </p:nvSpPr>
          <p:spPr>
            <a:xfrm>
              <a:off x="2449440" y="3409920"/>
              <a:ext cx="2043360" cy="156672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2414520" y="3357720"/>
              <a:ext cx="2043360" cy="156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2417760" y="398304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2149200" y="4538520"/>
              <a:ext cx="11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a)</a:t>
              </a:r>
              <a:endParaRPr b="0" lang="en-US" sz="800" spc="-1" strike="noStrike">
                <a:solidFill>
                  <a:srgbClr val="000000"/>
                </a:solidFill>
                <a:latin typeface="Arial"/>
              </a:endParaRPr>
            </a:p>
          </p:txBody>
        </p:sp>
        <p:sp>
          <p:nvSpPr>
            <p:cNvPr id="734" name=""/>
            <p:cNvSpPr/>
            <p:nvPr/>
          </p:nvSpPr>
          <p:spPr>
            <a:xfrm>
              <a:off x="2417760" y="3662280"/>
              <a:ext cx="20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2417760" y="44179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314316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328788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343368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357840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2436840" y="372420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41" name=""/>
            <p:cNvSpPr/>
            <p:nvPr/>
          </p:nvSpPr>
          <p:spPr>
            <a:xfrm>
              <a:off x="2889720" y="3405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42" name=""/>
            <p:cNvSpPr/>
            <p:nvPr/>
          </p:nvSpPr>
          <p:spPr>
            <a:xfrm>
              <a:off x="2886120" y="40924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43" name=""/>
            <p:cNvSpPr/>
            <p:nvPr/>
          </p:nvSpPr>
          <p:spPr>
            <a:xfrm>
              <a:off x="2864520" y="455940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400 data bytes</a:t>
              </a:r>
              <a:endParaRPr b="0" lang="en-US" sz="900" spc="-1" strike="noStrike">
                <a:solidFill>
                  <a:srgbClr val="000000"/>
                </a:solidFill>
                <a:latin typeface="Arial"/>
              </a:endParaRPr>
            </a:p>
          </p:txBody>
        </p:sp>
        <p:sp>
          <p:nvSpPr>
            <p:cNvPr id="744" name=""/>
            <p:cNvSpPr/>
            <p:nvPr/>
          </p:nvSpPr>
          <p:spPr>
            <a:xfrm>
              <a:off x="3579120" y="372420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45" name=""/>
            <p:cNvSpPr/>
            <p:nvPr/>
          </p:nvSpPr>
          <p:spPr>
            <a:xfrm>
              <a:off x="3458520" y="3724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grpSp>
        <p:nvGrpSpPr>
          <p:cNvPr id="746" name=""/>
          <p:cNvGrpSpPr/>
          <p:nvPr/>
        </p:nvGrpSpPr>
        <p:grpSpPr>
          <a:xfrm>
            <a:off x="6047280" y="2133720"/>
            <a:ext cx="2837880" cy="4433760"/>
            <a:chOff x="6047280" y="2133720"/>
            <a:chExt cx="2837880" cy="4433760"/>
          </a:xfrm>
        </p:grpSpPr>
        <p:sp>
          <p:nvSpPr>
            <p:cNvPr id="747" name=""/>
            <p:cNvSpPr/>
            <p:nvPr/>
          </p:nvSpPr>
          <p:spPr>
            <a:xfrm>
              <a:off x="6461280" y="2178000"/>
              <a:ext cx="2423880" cy="128916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6418440" y="2133720"/>
              <a:ext cx="2423880" cy="128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6047280" y="3335400"/>
              <a:ext cx="12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b)</a:t>
              </a:r>
              <a:endParaRPr b="0" lang="en-US" sz="800" spc="-1" strike="noStrike">
                <a:solidFill>
                  <a:srgbClr val="000000"/>
                </a:solidFill>
                <a:latin typeface="Arial"/>
              </a:endParaRPr>
            </a:p>
          </p:txBody>
        </p:sp>
        <p:sp>
          <p:nvSpPr>
            <p:cNvPr id="750" name=""/>
            <p:cNvSpPr/>
            <p:nvPr/>
          </p:nvSpPr>
          <p:spPr>
            <a:xfrm>
              <a:off x="6423120" y="2649600"/>
              <a:ext cx="24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6423120" y="239076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6423120" y="3003480"/>
              <a:ext cx="24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728352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745488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762624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779940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6472080" y="244152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58" name=""/>
            <p:cNvSpPr/>
            <p:nvPr/>
          </p:nvSpPr>
          <p:spPr>
            <a:xfrm>
              <a:off x="7031520" y="217800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59" name=""/>
            <p:cNvSpPr/>
            <p:nvPr/>
          </p:nvSpPr>
          <p:spPr>
            <a:xfrm>
              <a:off x="7026480" y="27478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60" name=""/>
            <p:cNvSpPr/>
            <p:nvPr/>
          </p:nvSpPr>
          <p:spPr>
            <a:xfrm>
              <a:off x="7050240" y="31226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61" name=""/>
            <p:cNvSpPr/>
            <p:nvPr/>
          </p:nvSpPr>
          <p:spPr>
            <a:xfrm>
              <a:off x="7830360" y="244152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62" name=""/>
            <p:cNvSpPr/>
            <p:nvPr/>
          </p:nvSpPr>
          <p:spPr>
            <a:xfrm>
              <a:off x="7662240" y="24415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63" name=""/>
            <p:cNvSpPr/>
            <p:nvPr/>
          </p:nvSpPr>
          <p:spPr>
            <a:xfrm>
              <a:off x="6461280" y="3726000"/>
              <a:ext cx="2423880" cy="128880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6418440" y="3684600"/>
              <a:ext cx="2423880" cy="128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6423120" y="4202280"/>
              <a:ext cx="24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6423120" y="394344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423120" y="455760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28964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746280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763416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780732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6480000" y="398448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73" name=""/>
            <p:cNvSpPr/>
            <p:nvPr/>
          </p:nvSpPr>
          <p:spPr>
            <a:xfrm>
              <a:off x="7039080" y="430056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74" name=""/>
            <p:cNvSpPr/>
            <p:nvPr/>
          </p:nvSpPr>
          <p:spPr>
            <a:xfrm>
              <a:off x="7043760" y="46832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75" name=""/>
            <p:cNvSpPr/>
            <p:nvPr/>
          </p:nvSpPr>
          <p:spPr>
            <a:xfrm>
              <a:off x="7805520" y="3984480"/>
              <a:ext cx="587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64</a:t>
              </a:r>
              <a:endParaRPr b="0" lang="en-US" sz="900" spc="-1" strike="noStrike">
                <a:solidFill>
                  <a:srgbClr val="000000"/>
                </a:solidFill>
                <a:latin typeface="Arial"/>
              </a:endParaRPr>
            </a:p>
          </p:txBody>
        </p:sp>
        <p:sp>
          <p:nvSpPr>
            <p:cNvPr id="776" name=""/>
            <p:cNvSpPr/>
            <p:nvPr/>
          </p:nvSpPr>
          <p:spPr>
            <a:xfrm>
              <a:off x="7670160" y="398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77" name=""/>
            <p:cNvSpPr/>
            <p:nvPr/>
          </p:nvSpPr>
          <p:spPr>
            <a:xfrm>
              <a:off x="7040880" y="373068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78" name=""/>
            <p:cNvSpPr/>
            <p:nvPr/>
          </p:nvSpPr>
          <p:spPr>
            <a:xfrm>
              <a:off x="6461280" y="5278320"/>
              <a:ext cx="2423880" cy="128916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6418440" y="5235480"/>
              <a:ext cx="2423880" cy="128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6423120" y="575784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H="1">
              <a:off x="6408720" y="549900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6423120" y="611352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29612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746928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764064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781380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6487920" y="554976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88" name=""/>
            <p:cNvSpPr/>
            <p:nvPr/>
          </p:nvSpPr>
          <p:spPr>
            <a:xfrm>
              <a:off x="7040880" y="5286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89" name=""/>
            <p:cNvSpPr/>
            <p:nvPr/>
          </p:nvSpPr>
          <p:spPr>
            <a:xfrm>
              <a:off x="7043760" y="585612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90" name=""/>
            <p:cNvSpPr/>
            <p:nvPr/>
          </p:nvSpPr>
          <p:spPr>
            <a:xfrm>
              <a:off x="7050240" y="622620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376 data bytes</a:t>
              </a:r>
              <a:endParaRPr b="0" lang="en-US" sz="900" spc="-1" strike="noStrike">
                <a:solidFill>
                  <a:srgbClr val="000000"/>
                </a:solidFill>
                <a:latin typeface="Arial"/>
              </a:endParaRPr>
            </a:p>
          </p:txBody>
        </p:sp>
        <p:sp>
          <p:nvSpPr>
            <p:cNvPr id="791" name=""/>
            <p:cNvSpPr/>
            <p:nvPr/>
          </p:nvSpPr>
          <p:spPr>
            <a:xfrm>
              <a:off x="7817400" y="5549760"/>
              <a:ext cx="65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128</a:t>
              </a:r>
              <a:endParaRPr b="0" lang="en-US" sz="900" spc="-1" strike="noStrike">
                <a:solidFill>
                  <a:srgbClr val="000000"/>
                </a:solidFill>
                <a:latin typeface="Arial"/>
              </a:endParaRPr>
            </a:p>
          </p:txBody>
        </p:sp>
        <p:sp>
          <p:nvSpPr>
            <p:cNvPr id="792" name=""/>
            <p:cNvSpPr/>
            <p:nvPr/>
          </p:nvSpPr>
          <p:spPr>
            <a:xfrm>
              <a:off x="7676640" y="554976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sp>
        <p:nvSpPr>
          <p:cNvPr id="793" name=""/>
          <p:cNvSpPr/>
          <p:nvPr/>
        </p:nvSpPr>
        <p:spPr>
          <a:xfrm>
            <a:off x="4842000" y="4213080"/>
            <a:ext cx="106668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413080" y="1854360"/>
            <a:ext cx="624816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nalmente, en el campo </a:t>
            </a:r>
            <a:r>
              <a:rPr b="0" i="1" lang="es-ES" sz="2200" spc="-1" strike="noStrike">
                <a:solidFill>
                  <a:srgbClr val="000000"/>
                </a:solidFill>
                <a:latin typeface="Calibri"/>
              </a:rPr>
              <a:t>Flags</a:t>
            </a:r>
            <a:r>
              <a:rPr b="0" lang="es-ES" sz="2200" spc="-1" strike="noStrike">
                <a:solidFill>
                  <a:srgbClr val="000000"/>
                </a:solidFill>
                <a:latin typeface="Calibri"/>
              </a:rPr>
              <a:t> se anota que son fragmentos y no un datagrama complet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tro bit existe (</a:t>
            </a:r>
            <a:r>
              <a:rPr b="0" i="1" lang="es-ES" sz="2200" spc="-1" strike="noStrike">
                <a:solidFill>
                  <a:srgbClr val="000000"/>
                </a:solidFill>
                <a:latin typeface="Calibri"/>
              </a:rPr>
              <a:t>No more fragments</a:t>
            </a:r>
            <a:r>
              <a:rPr b="0" lang="es-ES" sz="2200" spc="-1" strike="noStrike">
                <a:solidFill>
                  <a:srgbClr val="000000"/>
                </a:solidFill>
                <a:latin typeface="Calibri"/>
              </a:rPr>
              <a:t>) para el último fragmento, de modo de saber cuándo terminar.</a:t>
            </a:r>
            <a:endParaRPr b="0" lang="en-US" sz="2200" spc="-1" strike="noStrike">
              <a:solidFill>
                <a:srgbClr val="000000"/>
              </a:solidFill>
              <a:latin typeface="Arial"/>
            </a:endParaRPr>
          </a:p>
        </p:txBody>
      </p:sp>
      <p:sp>
        <p:nvSpPr>
          <p:cNvPr id="7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6)</a:t>
            </a:r>
            <a:endParaRPr b="0" lang="en-US" sz="4400" spc="-1" strike="noStrike">
              <a:solidFill>
                <a:srgbClr val="000000"/>
              </a:solidFill>
              <a:latin typeface="Arial"/>
            </a:endParaRPr>
          </a:p>
        </p:txBody>
      </p:sp>
      <p:pic>
        <p:nvPicPr>
          <p:cNvPr id="798" name="" descr=""/>
          <p:cNvPicPr/>
          <p:nvPr/>
        </p:nvPicPr>
        <p:blipFill>
          <a:blip r:embed="rId1"/>
          <a:stretch/>
        </p:blipFill>
        <p:spPr>
          <a:xfrm>
            <a:off x="3924360" y="4245120"/>
            <a:ext cx="4032360" cy="249696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recibir el primer fragmento de un datagrama, se activa un timer de modo que al transcurrir demasiado tiempo esperando armarlo lo descarto generando un error.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descarta el datagrama completo, aunque se hayan recibido varios fragmentos en el intertanto. </a:t>
            </a:r>
            <a:endParaRPr b="0" lang="en-US" sz="2200" spc="-1" strike="noStrike">
              <a:solidFill>
                <a:srgbClr val="000000"/>
              </a:solidFill>
              <a:latin typeface="Arial"/>
            </a:endParaRPr>
          </a:p>
        </p:txBody>
      </p:sp>
      <p:sp>
        <p:nvSpPr>
          <p:cNvPr id="8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7)</a:t>
            </a:r>
            <a:endParaRPr b="0" lang="en-US" sz="4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ípicamente la implementación consiste en una lista enlazada de fragmentos para cada datagrama (identificado por su campo identificador), donde se van agregando los fragmentos a medida que llega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se hace así puesto que desconocemos el largo total del datagrama, hasta que no recibimos el último fragmento.</a:t>
            </a:r>
            <a:endParaRPr b="0" lang="en-US" sz="2200" spc="-1" strike="noStrike">
              <a:solidFill>
                <a:srgbClr val="000000"/>
              </a:solidFill>
              <a:latin typeface="Arial"/>
            </a:endParaRPr>
          </a:p>
        </p:txBody>
      </p:sp>
      <p:sp>
        <p:nvSpPr>
          <p:cNvPr id="8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8)</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7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
          <p:cNvSpPr/>
          <p:nvPr/>
        </p:nvSpPr>
        <p:spPr>
          <a:xfrm>
            <a:off x="2438280" y="2286000"/>
            <a:ext cx="6248520" cy="47102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paquete IP tiene un campo llamado TTL (Time to Live), HopLimit en IPv6</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te campo especificaba el tiempo (en segundos) que el datagrama tiene permitido para viajar por la red. Teóricamente, cada router que procesa el datagrama debe restarle su tiempo de procesamiento a este campo. </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n la práctica un router procesa un datagrama en menos de un segundo. Por lo tanto el router resta 1 al valor de este campo. Entonces el TTL se convierte en una métrica de “saltos” en vez de ser una métrica de tiempo. </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8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1)</a:t>
            </a:r>
            <a:endParaRPr b="0" lang="en-US" sz="4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paquete IPv4 tiene un campo llamado TTL (Time to Live)</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uando el valor llega a cero, se asume que el datagrama lleva viajando en un ciclo y es descartado. El valor inicial debe ser asignado por el protocolo de más alto nivel que crea el datagrama.</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l destruir un datagrama por TTL, se genera un ICMP “Time Exceeded”</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2)</a:t>
            </a:r>
            <a:endParaRPr b="0" lang="en-US" sz="4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router y cada host mantiene una tabla de rutas, puesto que incluso un host conectado a una sola red debe saber cómo llegar a los distintos destino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odo el ruteo de un datagrama se hace paso a paso (</a:t>
            </a:r>
            <a:r>
              <a:rPr b="0" i="1" lang="es-ES" sz="2200" spc="-1" strike="noStrike">
                <a:solidFill>
                  <a:srgbClr val="000000"/>
                </a:solidFill>
                <a:latin typeface="Calibri"/>
              </a:rPr>
              <a:t>hop-by-hop</a:t>
            </a:r>
            <a:r>
              <a:rPr b="0" lang="es-ES" sz="2200" spc="-1" strike="noStrike">
                <a:solidFill>
                  <a:srgbClr val="000000"/>
                </a:solidFill>
                <a:latin typeface="Calibri"/>
              </a:rPr>
              <a:t>), decidiendo cada vez a qué router de la red local debo entregárselo para acercarme al destino final. </a:t>
            </a:r>
            <a:endParaRPr b="0" lang="en-US" sz="2200" spc="-1" strike="noStrike">
              <a:solidFill>
                <a:srgbClr val="000000"/>
              </a:solidFill>
              <a:latin typeface="Arial"/>
            </a:endParaRPr>
          </a:p>
        </p:txBody>
      </p:sp>
      <p:sp>
        <p:nvSpPr>
          <p:cNvPr id="8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a:t>
            </a:r>
            <a:endParaRPr b="0" lang="en-US" sz="4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uteo se hace igual para los datagramas generados internamente por una aplicación como para uno recibido desde la re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 router está conectado directamente a una o más redes, cuyos prefijos de red conocemos. En esas redes pueden haber otros routers que nos permiten ir más lej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algoritmo de ruteo que toda implementación de IP debe realizar, se basa en una tabla de rutas.</a:t>
            </a:r>
            <a:endParaRPr b="0" lang="en-US" sz="2200" spc="-1" strike="noStrike">
              <a:solidFill>
                <a:srgbClr val="000000"/>
              </a:solidFill>
              <a:latin typeface="Arial"/>
            </a:endParaRPr>
          </a:p>
        </p:txBody>
      </p:sp>
      <p:sp>
        <p:nvSpPr>
          <p:cNvPr id="82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2)</a:t>
            </a:r>
            <a:endParaRPr b="0" lang="en-US" sz="4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2514600" y="1695600"/>
            <a:ext cx="6248520" cy="35622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a tabla consiste de una entrada para una red y el router que debo usar para ir hacia ella.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outer va representado por una dirección IP de una red a la cual yo estoy directamente conectado.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a tabla también figuran todas las redes a las que estoy conectado las que se marcan con un tipo especial ( DIR).</a:t>
            </a:r>
            <a:endParaRPr b="0" lang="en-US" sz="2200" spc="-1" strike="noStrike">
              <a:solidFill>
                <a:srgbClr val="000000"/>
              </a:solidFill>
              <a:latin typeface="Arial"/>
            </a:endParaRPr>
          </a:p>
        </p:txBody>
      </p:sp>
      <p:sp>
        <p:nvSpPr>
          <p:cNvPr id="8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3)</a:t>
            </a:r>
            <a:endParaRPr b="0" lang="en-US" sz="4400" spc="-1" strike="noStrike">
              <a:solidFill>
                <a:srgbClr val="000000"/>
              </a:solidFill>
              <a:latin typeface="Arial"/>
            </a:endParaRPr>
          </a:p>
        </p:txBody>
      </p:sp>
      <p:pic>
        <p:nvPicPr>
          <p:cNvPr id="827" name="" descr=""/>
          <p:cNvPicPr/>
          <p:nvPr/>
        </p:nvPicPr>
        <p:blipFill>
          <a:blip r:embed="rId1"/>
          <a:srcRect l="0" t="12389" r="50099" b="73872"/>
          <a:stretch/>
        </p:blipFill>
        <p:spPr>
          <a:xfrm>
            <a:off x="1908000" y="5300640"/>
            <a:ext cx="7164720" cy="122400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quí se puede ver un Host conectado a la red con más de un router y su tabla de rutas.</a:t>
            </a:r>
            <a:endParaRPr b="0" lang="en-US" sz="2200" spc="-1" strike="noStrike">
              <a:solidFill>
                <a:srgbClr val="000000"/>
              </a:solidFill>
              <a:latin typeface="Arial"/>
            </a:endParaRPr>
          </a:p>
        </p:txBody>
      </p:sp>
      <p:sp>
        <p:nvSpPr>
          <p:cNvPr id="8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4)</a:t>
            </a:r>
            <a:endParaRPr b="0" lang="en-US" sz="4400" spc="-1" strike="noStrike">
              <a:solidFill>
                <a:srgbClr val="000000"/>
              </a:solidFill>
              <a:latin typeface="Arial"/>
            </a:endParaRPr>
          </a:p>
        </p:txBody>
      </p:sp>
      <p:pic>
        <p:nvPicPr>
          <p:cNvPr id="832" name="" descr=""/>
          <p:cNvPicPr/>
          <p:nvPr/>
        </p:nvPicPr>
        <p:blipFill>
          <a:blip r:embed="rId1"/>
          <a:stretch/>
        </p:blipFill>
        <p:spPr>
          <a:xfrm>
            <a:off x="3635280" y="3068640"/>
            <a:ext cx="3816360" cy="361800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vitar el tener la tabla de todas las redes de Internet en todas las máquinas conectadas, se usa una ruta default que nos indica nuestro router usual para todas las redes que no conozc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sta ruta se representa con la red 0.0.0.0 y se usa en todos los routers para mostrar la ruta hacia el resto de Internet. </a:t>
            </a:r>
            <a:endParaRPr b="0" lang="en-US" sz="2200" spc="-1" strike="noStrike">
              <a:solidFill>
                <a:srgbClr val="000000"/>
              </a:solidFill>
              <a:latin typeface="Arial"/>
            </a:endParaRPr>
          </a:p>
        </p:txBody>
      </p:sp>
      <p:sp>
        <p:nvSpPr>
          <p:cNvPr id="8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5)</a:t>
            </a:r>
            <a:endParaRPr b="0" lang="en-US" sz="4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se requiere que algunos Routers de la red (los principales) no tengan ruta default, y efectivamente manejen la tabla completa de las redes conectadas (se llaman Routers default-les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sde cualquier punto de Internet, la cadena de rutas default deben llevarnos a un Router default-less para que el algoritmo funcione.</a:t>
            </a:r>
            <a:endParaRPr b="0" lang="en-US" sz="2200" spc="-1" strike="noStrike">
              <a:solidFill>
                <a:srgbClr val="000000"/>
              </a:solidFill>
              <a:latin typeface="Arial"/>
            </a:endParaRPr>
          </a:p>
        </p:txBody>
      </p:sp>
      <p:sp>
        <p:nvSpPr>
          <p:cNvPr id="8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6)</a:t>
            </a:r>
            <a:endParaRPr b="0" lang="en-US" sz="4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algoritmo básico de ruteo es el siguiente:</a:t>
            </a:r>
            <a:endParaRPr b="0" lang="en-US" sz="2200" spc="-1" strike="noStrike">
              <a:solidFill>
                <a:srgbClr val="000000"/>
              </a:solidFill>
              <a:latin typeface="Arial"/>
            </a:endParaRPr>
          </a:p>
        </p:txBody>
      </p:sp>
      <p:sp>
        <p:nvSpPr>
          <p:cNvPr id="84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sp>
        <p:nvSpPr>
          <p:cNvPr id="845" name=""/>
          <p:cNvSpPr/>
          <p:nvPr/>
        </p:nvSpPr>
        <p:spPr>
          <a:xfrm>
            <a:off x="2664000" y="3200400"/>
            <a:ext cx="62290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RouteIP(dgram,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 search(dgram.destIP, tabl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Route == NULL)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rror(dgram, "Net Unreachabl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oute.type == DIR )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dgram.destIP, Route.interfac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 Route.type == GW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Route.gateway, Route.interfac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 de tabla de rutas:</a:t>
            </a:r>
            <a:endParaRPr b="0" lang="en-US" sz="2200" spc="-1" strike="noStrike">
              <a:solidFill>
                <a:srgbClr val="000000"/>
              </a:solidFill>
              <a:latin typeface="Arial"/>
            </a:endParaRPr>
          </a:p>
        </p:txBody>
      </p:sp>
      <p:sp>
        <p:nvSpPr>
          <p:cNvPr id="8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graphicFrame>
        <p:nvGraphicFramePr>
          <p:cNvPr id="850" name=""/>
          <p:cNvGraphicFramePr/>
          <p:nvPr/>
        </p:nvGraphicFramePr>
        <p:xfrm>
          <a:off x="2238480" y="2789280"/>
          <a:ext cx="6676560" cy="2925720"/>
        </p:xfrm>
        <a:graphic>
          <a:graphicData uri="http://schemas.openxmlformats.org/drawingml/2006/table">
            <a:tbl>
              <a:tblPr/>
              <a:tblGrid>
                <a:gridCol w="1668240"/>
                <a:gridCol w="1668960"/>
                <a:gridCol w="1668960"/>
                <a:gridCol w="1670400"/>
              </a:tblGrid>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NetPrefix</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 defaul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Mask</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GW (IP)</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 DI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Interfac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r>
              <a:tr h="5767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192.168.1.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255.255.255.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eth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5767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127.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255.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lo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5767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192.168.1.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eth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576000">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