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11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5B353-F987-4B8D-842C-DCB1A5CD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0C6-3C88-4EB7-AC4B-C40B11FA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2D0-D0C1-44C1-A0B0-D5EC583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A81-2E68-4F3D-9944-C56B12F6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38A-EB59-4860-9127-6D76F487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9ED1-0A8F-4ACB-A60A-79616A6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F3CB-6AE4-47D4-B2AC-97BB5B8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053-BA4D-4AE2-8F45-3DF5D51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277B-E03B-49AF-A602-3A58967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0AFA-D213-45E7-8848-A660D70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035-56C2-4C61-86B4-D5E5F1C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EC37-77DF-4552-A1C0-D655BB4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A64-30A7-44C0-B96B-1D8F281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C947-6008-4A75-8FBC-DA11457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5CB1-96BF-484D-9FCA-A700CDE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E43-C4B9-4176-8E52-5A4161F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47BE-C108-49ED-AF74-6E4CF26F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7F25-6333-421B-BE52-478E4ED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E32-6547-4FCF-9B75-A71E31DD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E17-FBCB-44E1-9819-1F760107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BDC-ABC3-4A9A-9482-3B93390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4EA-DDC1-4C40-9C6F-7A604574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DAF-DF52-44CE-9A09-D30DB36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06F-AA1D-4B87-9A83-BF9B9D4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865-8A4E-49A3-B4FF-C049B05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A9F2B-D668-4495-B7FE-B906F9FD4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26569-5AB1-4E95-A238-10CCC4831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software orientado a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ncy Hitschfeld K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ánto probar una clase que no se modifica?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Una de las afirmaciones más conocidas es que orientación a objetos permite que el código heredado puede ser reusado fácilmente y confiablemente. Esta afirmación sugiere que métodos heredados no deberían ser  probados nuevamente aplicados sobre objetos de la clase deri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A{ // n&gt;=0                                    class B extends A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 A(){ n=0;}                                    public B()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int value(){ return next(n);}          protected  int next(int i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void strange(){ next(-3);}                          return n= n+ (n+1)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ext(int i){ n=n+i*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de la clase A a instancias de ell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instancias tienen siempre un estado  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heredados de A sobre instancias de la clase   B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stas pueden tener un estad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B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 // n &lt;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uso de contratos en forma explícita permite detectar este tipo de errores fácilment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l código heredado debe ser testeado nuevamente sobre objetos definidos usando las clases derivadas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s subclases pueden modificar variables de instancia de una clas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 clase base pueden usar métodos re-definidos  en las clases de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iveles d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métodos  y variables de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uster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grupo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istem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r todas l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47ff"/>
                </a:solidFill>
                <a:latin typeface="Arial"/>
              </a:rPr>
              <a:t>Testing de  una clas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rden sugerido de testing de acuerdo a los tipos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elect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edicad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odificad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ific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De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It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984920"/>
            <a:ext cx="8001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ecesidad de tener conocimiento de la estructura interna del objeto, es decir, de su estado y como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idad de técnicas para hacer testing del comportamiento de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lo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re las técnicas existentes están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ón de estados (Matriz de transición)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para probar una clase/objeto con pocos estados y mé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inputs que generan distintos estados del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asos extremos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bordes (incluir parámetros de los método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993366"/>
                </a:solidFill>
                <a:latin typeface="Arial"/>
              </a:rPr>
              <a:t>La  matriz de transición ayuda a visualizar el efecto de cada llamada a un método sobre el estado. Los parámetros van en otra dimensión de la matr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ones de identidad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que consiste en identificar secuencias de llamadas a métodos que lleven  a un mismo estado (axiomas dentro de la descripción den un TD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413000"/>
            <a:ext cx="3382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unter(int x){value=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reset(){ value=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in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+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de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-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(){ return 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5200" y="1557360"/>
            <a:ext cx="4941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BoundedCounter: public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max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 &amp;&amp; value &lt;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undedCounter(int x, int max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=x; max_value =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olean isDone(){ return value =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371600"/>
            <a:ext cx="7468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2  (0 y &gt;0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Bounded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3 (0, ]0,max[, max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Es importante considerar los parámetros de los métodos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puede influir en el cambio del estado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Los errores pueden ser considerados como un estado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producidos por un resultado erróneo o un estado ileg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omo detectar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entro del objeto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urante la interacción de muchos objeto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protocolos de inter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uáles casos probar?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tectar casos límite: inputs que producen un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 estado y inputs que mantiene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276640"/>
            <a:ext cx="7058160" cy="1801800"/>
            <a:chOff x="826920" y="2276640"/>
            <a:chExt cx="7058160" cy="1801800"/>
          </a:xfrm>
        </p:grpSpPr>
        <p:sp>
          <p:nvSpPr>
            <p:cNvPr id="132" name=""/>
            <p:cNvSpPr/>
            <p:nvPr/>
          </p:nvSpPr>
          <p:spPr>
            <a:xfrm>
              <a:off x="5075280" y="3691080"/>
              <a:ext cx="2808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0960" y="3691080"/>
              <a:ext cx="252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3691080"/>
              <a:ext cx="1724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5280" y="3219480"/>
              <a:ext cx="2808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0960" y="3219480"/>
              <a:ext cx="2524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3219480"/>
              <a:ext cx="1724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5280" y="2747880"/>
              <a:ext cx="28083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0960" y="2747880"/>
              <a:ext cx="252432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747880"/>
              <a:ext cx="1724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2276640"/>
              <a:ext cx="28083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2) value 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2276640"/>
              <a:ext cx="2524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1) value=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2276640"/>
              <a:ext cx="17240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227664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27478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2194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36910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4076640"/>
              <a:ext cx="7056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6920" y="2276640"/>
              <a:ext cx="180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0960" y="2276640"/>
              <a:ext cx="180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5280" y="2276640"/>
              <a:ext cx="144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3640" y="2276640"/>
              <a:ext cx="144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26920" y="4437000"/>
            <a:ext cx="7859880" cy="1873440"/>
            <a:chOff x="826920" y="4437000"/>
            <a:chExt cx="7859880" cy="1873440"/>
          </a:xfrm>
        </p:grpSpPr>
        <p:sp>
          <p:nvSpPr>
            <p:cNvPr id="154" name=""/>
            <p:cNvSpPr/>
            <p:nvPr/>
          </p:nvSpPr>
          <p:spPr>
            <a:xfrm>
              <a:off x="6719760" y="5881680"/>
              <a:ext cx="1965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9200" y="5881680"/>
              <a:ext cx="196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7560" y="5881680"/>
              <a:ext cx="1871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5881680"/>
              <a:ext cx="2060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760" y="5432400"/>
              <a:ext cx="1965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5432400"/>
              <a:ext cx="1960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7560" y="5432400"/>
              <a:ext cx="1871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6920" y="5432400"/>
              <a:ext cx="2060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9760" y="4970520"/>
              <a:ext cx="1965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59200" y="4970520"/>
              <a:ext cx="1960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7560" y="4970520"/>
              <a:ext cx="1871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970520"/>
              <a:ext cx="206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9760" y="4437000"/>
              <a:ext cx="1965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3) value==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4437000"/>
              <a:ext cx="196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2) 0&lt;value&lt;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4437000"/>
              <a:ext cx="1871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1) value=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4437000"/>
              <a:ext cx="2060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oundedCou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6920" y="443700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497052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920" y="543240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920" y="588168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920" y="630864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4437000"/>
              <a:ext cx="180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5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197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5360" y="4437000"/>
              <a:ext cx="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92200" y="155736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ces de transición para las clases Counter y Bounded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Ejemplos de transiciones de ident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para la clase Co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0); 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incr(3); c.incr(4); c.decr(7);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 decr(4); c.incr(4);     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general, </a:t>
            </a: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probar tambien con secuencias para producir error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y notar que estos son detectados por el cont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incr(-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decr(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étodos d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y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co  para probar software orientad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del comportamiento de l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detectar errores en la interacción de múltiples obje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ntr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ás orientados a una clase en si, pero las precondiciones ayudan en esta etapa tambien a detectar problemas en la interacción entr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ransiciones de ident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volucrar multiples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Prueba estáti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Leer cuidadosamente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Inspección de códig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jor en grupo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Walkthrough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imular un cálculo leyendo las partes del código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bar formalmente que el programa es 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testear clases automá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Al implementar una cl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ar sus casos de prueba para probar su correct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isponer de un conjunto de casos de prueba es muy útil cuando se cambia la implementación: permite verificar si lo que funcionaba antes aún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ómo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para cada clase una clase asociada que contiene los casos de prue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aso de prueba se pone en un método cuyo nombre comienza con “te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Java genera automáticamente el esqueleto de las clases 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828800"/>
            <a:ext cx="47530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ort junit.framework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Test extends TestCa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Ad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1 = new Day(1970,1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n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2 = d1.addDays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sert  d2.daysFrom(d1) =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DaysBetween()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mpilar de necesita el archivo junit.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vac –classpath .:junit.jar –ea junit.swingui.TestRunner  Day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628640"/>
            <a:ext cx="3672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recomienda probar la siguiente cl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(int aYear, int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aDat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lian = toJulian(aYear,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 addDays(int n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int daysFrom(Day other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ivate int julian; //julian da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numero de días desde el 1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enero de 4713 antes de cr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sof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rrectitu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atisface requerimientos funcionales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ustez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responde adecuadamente bajo circunstancias an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Validación es en la práctica  generalmente restringido a aspectos de la funcionalidad y de la interfaz del usuario. Sin embargo, las propiedades estructurales también son import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oftware fácil de ada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uso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osee componente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tibilidad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mponentes compatibles con otras para construir nuevos sistemas(plug-in’s)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Testing es el proceso de juzgar experimentalmente si un sistema y sus componentes satisfacen los requerimientos funcionales.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Este proceso involucra en general la ejecución del programa y no métodos formales de prueb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Arial"/>
              </a:rPr>
              <a:t>Cómo verificar criterios estructu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ting involuc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Casos de prueba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 una cierta entrada esperamos un cierto resultado (input-output behavior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cedimientos de prueb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 los pasos a seguir para validar un programa usando los casos d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asos de pru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Orden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uándo parar de prob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caso de software orientado a objetos se debe diseñar un proceso para 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probar cada uno de los métodos de un objet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con el objetivo de descubrir errores de implementación en los métodos o en el estado del objeto, o amb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Una buena práctica de testing intenta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in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de producir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(en términos de tiempo y costo), b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y c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en ejecutarlo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, y al mismo tiempo 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ax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errores detectados</a:t>
            </a:r>
            <a:r>
              <a:rPr b="0" i="1" lang="es-CL" sz="2000" spc="-1" strike="noStrike">
                <a:solidFill>
                  <a:srgbClr val="0047ff"/>
                </a:solidFill>
                <a:latin typeface="Arial"/>
              </a:rPr>
              <a:t> y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la confiafibilidad del software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términos de el número de tests pasados exitosamente)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s imposible decidir con absoluta certeza si un software está completamente libre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47ff"/>
                </a:solidFill>
                <a:latin typeface="Arial"/>
              </a:rPr>
              <a:t>Cuándo decidir parar de pro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ués de detectar N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a razón entre el número de errores y el tiempo dedicado a buscarlos es lo suficiente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negra (Black-box testing)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 un representant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Blanca (White-box testing)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instruc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instrucción es ejecutada al men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condi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ondición debe hacerse verdadera y 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1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uble sqrt(double x), x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negativos]…,0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0,1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1,…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Extrem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2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r casos de prueba para Black y White-box testing clases de Quicksort sobre un arreglo de tamaño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47ff"/>
                </a:solidFill>
                <a:latin typeface="Arial"/>
              </a:rPr>
              <a:t>Ciclo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cualquier metodologí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 de mód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integr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funcion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bilidad: es satisfactoria la interfaz al usu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lumen: cómo responde a grandes volúmenes de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tress: reacciona bien con una red carg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ridad: provee un nivel suficiente de protec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mpeño: es adecuado en los casos comu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 hitschfeld</dc:creator>
  <dc:description/>
  <dc:language>en-US</dc:language>
  <cp:lastModifiedBy>nancy hitschfeld</cp:lastModifiedBy>
  <cp:revision>0</cp:revision>
  <dc:subject/>
  <dc:title>Testing de software orientado a objetos</dc:title>
</cp:coreProperties>
</file>