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071720" y="728640"/>
            <a:ext cx="516096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02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EE199-273A-4210-AF5A-B197F77DC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1720" y="728640"/>
            <a:ext cx="5170320" cy="35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4C5-F278-4307-B075-C2B3377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559-0EA9-47DF-BA5C-02A97F5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BAE-0E70-4A2D-AEBA-63D5BF9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914-D753-49B7-A8C9-DDF8405B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771-CBD8-47F0-BD04-9AB069B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042-DF4E-476B-BC7B-EEBEDDE9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0EC-5391-4D6B-A582-8EFA286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10B-97D4-4C78-825B-BD9C8AF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2920"/>
            <a:ext cx="82184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0AE-5DE7-47B1-A7DA-BEEB3D1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534-7D65-4DA8-9799-CAAF664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F03-F7E0-4211-A722-CE8A46E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694-0C6D-4CBE-827A-D2A325D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8756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77509-B264-46AC-9CD3-83A25220D2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7631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 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Gamma et al. 1995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patrones de  diseño describen un  problema que ocurre una y otra  vez y entrega una buen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ble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uando usarl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olu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iagrama de clases, de interacción, códig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Consecuenc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ntajas y desventaj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iterat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dapt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template  metho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bstract facto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y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observ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entre ot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n-GB" sz="1800" spc="-1" strike="noStrike">
                <a:solidFill>
                  <a:srgbClr val="ff420e"/>
                </a:solidFill>
                <a:latin typeface="Arial"/>
              </a:rPr>
              <a:t>  algunos </a:t>
            </a:r>
            <a:r>
              <a:rPr b="0" i="1" lang="en-GB" sz="1800" spc="-1" strike="noStrike">
                <a:solidFill>
                  <a:srgbClr val="ff420e"/>
                </a:solidFill>
                <a:latin typeface="Arial"/>
              </a:rPr>
              <a:t>diagramas usados para describir los patrones no siguen la notación UML pero es parecida. El código está e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68803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Uso de una fabrica concr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g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 bomb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ame.createMaze(bomb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newgam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ezaFactory  enchant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ewgame.createMaze(enchant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lic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 independiente  de cómo los  productos son creados, compuestos y re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s es configurado con una de las familias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Una familia de productos relacionados está diseñada    para ser usada en conj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 se desea proveer una biblioteca de productos, sólo se revela la 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La fábrica encapsula la responsabilidad y el proceso de  crear objetos  productos, 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por lo  tanto aisla al cliente de la creación de 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b80047"/>
                </a:solidFill>
                <a:latin typeface="Arial"/>
              </a:rPr>
              <a:t>La  fábrica permite  el  intercambio de  familias productos fácilmente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Incentiva la consistencia entr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ir nuevos tipos de productos requiere la modificación de clase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8520"/>
            <a:ext cx="7161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2560" y="1885680"/>
            <a:ext cx="71611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apte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Cambia  la interfaz de una clase en otra que el client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6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ditor de dibujos usa elementos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os tales como 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s, texto, 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ulos, entre otros, para crear cajas o cuadros. Su clase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a abstracta se llama Shape y de esta derivan TextShape, LineShape y PolygonShape. En el sistema existe textView, una clase para crear y editar texto. La interfaz de TextView es distinta a la que queremos pa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5868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8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¿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ó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mo modelar TextSha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analiza dos alternativa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una correcta y la otra incorr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y de TextView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o heredando d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ima en forma 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e incluir TextView como variable de intancia de TextShape</a:t>
            </a:r>
            <a:r>
              <a:rPr b="1" lang="en-GB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(agregaci</a:t>
            </a:r>
            <a:r>
              <a:rPr b="0" lang="en-GB" sz="1800" spc="-1" strike="noStrike">
                <a:solidFill>
                  <a:srgbClr val="993366"/>
                </a:solidFill>
                <a:latin typeface="Bitstream Vera Sans"/>
              </a:rPr>
              <a:t>ó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n)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implementar la interfaz de TextShape en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inos de la interfaz de Text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0240"/>
            <a:ext cx="7162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con herencia priv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3400" y="137160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486400"/>
            <a:ext cx="6748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5440" y="2546280"/>
            <a:ext cx="5657760" cy="17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31392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usando agreg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9720" y="2286000"/>
            <a:ext cx="709128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159228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116680"/>
            <a:ext cx="673560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“adaptee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una variable de instancia de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contien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ero a un objeto de tipo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51444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3278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Times New Roman"/>
              </a:rPr>
              <a:t>Usando agreg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1000" y="2317680"/>
            <a:ext cx="668664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7696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,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rivate TextView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6480"/>
            <a:ext cx="77724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 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TextView::isEmpty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usando agreg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514600"/>
            <a:ext cx="82296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Shape(TextView*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View* _t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31428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Reuso de diseños exitosos =&gt; nuevos diseños     correctos más  rápi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Desarrollo de  sistema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implifica la 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514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47ff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concreto usando agregación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8000" y="1487520"/>
            <a:ext cx="7221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::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TextShape (TextView* 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 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 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159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Aft>
                <a:spcPts val="1426"/>
              </a:spcAft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¿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 alternativa usar y por q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a con agregación (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APROPIADA)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atisface la relación de sub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47ff"/>
                </a:solidFill>
                <a:latin typeface="Arial"/>
              </a:rPr>
              <a:t>Es m</a:t>
            </a:r>
            <a:r>
              <a:rPr b="0" lang="en-GB" sz="1600" spc="-1" strike="noStrike">
                <a:solidFill>
                  <a:srgbClr val="0047ff"/>
                </a:solidFill>
                <a:latin typeface="Bitstream Vera Sans"/>
              </a:rPr>
              <a:t>ás flexible, pues permite implementar la nueva interfaz con objetos de TextView o con descendientes de é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a con herencia privada </a:t>
            </a:r>
            <a:r>
              <a:rPr b="0" lang="en-GB" sz="2200" spc="-1" strike="noStrike">
                <a:solidFill>
                  <a:srgbClr val="ff3333"/>
                </a:solidFill>
                <a:latin typeface="Arial"/>
              </a:rPr>
              <a:t>(NO APROPIAD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uso de herencia privada muestra directamente que no hay una relaci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de subtipos entre  TextView y TextShape (interfaces son distinta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Lo anterior impide usar TextShape en el contexto de TextView. ¿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 qu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sar herencia si una clase no se va a usar en el contexto de la otr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ermite usar un descendiente de TextView en lugar de TextView sin cambiar  la clase Text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8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19320"/>
            <a:ext cx="8275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Courier New"/>
              </a:rPr>
              <a:t>Provee acceso a un objeto referenciado (agregación) sin mostrar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65160" y="2755800"/>
            <a:ext cx="545796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275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(long size = DEFAULT_LIST_CAPACIT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ong 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&amp; get(long 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Iter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275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Iterator : public Iterator&lt;Item&gt;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(const List&lt;Item&gt;* a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 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ong _curr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&lt;Item&gt;::ListIterator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aLis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(aList), _current(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4292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71600"/>
            <a:ext cx="82756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firs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nex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ListIterator&lt;Item&gt;::isDone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current &gt;= _list-&gt;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 ListIterator&lt;Item&gt;::currentItem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(isDone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row IteratorOutOfBoun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list-&gt;get(_curr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Uso de iteradore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00200"/>
            <a:ext cx="8275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rintEmployees 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Iterator&lt;Employee*&gt;&amp; 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 (i.first(); !i.isDone(); i.next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.currentItem()-&gt;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&lt;Employee*&gt;* employ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Iterator&lt;Employee*&gt; for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ReverseListIterator&lt;Employee*&gt; back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for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back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6080"/>
            <a:ext cx="819144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veer una interfaz para crear familias   de objetos  relacionados o dependientes sin  especificar sus clase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ó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abilidad de una Toolkit a distintos ambientes, por ejemplo a Motif y Presentation Manager.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ara poder ser portables a look-and-feels estándares, no debemos escribir la aplicación usando directamente las instrucciones de sus widgets  (scroll bars, windows, y buttons), sino definir una clase abstracta WidgetFactory que declara una interfaz para cada tipo básico de widge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ubclases concretas implementan los widgets para un look-and-feel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557360"/>
            <a:ext cx="1298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600200"/>
            <a:ext cx="1522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758960"/>
            <a:ext cx="1527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2312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040" y="1073160"/>
            <a:ext cx="80787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1" lang="en-US" sz="2800" spc="-1" strike="noStrike">
                <a:solidFill>
                  <a:srgbClr val="0047ff"/>
                </a:solidFill>
                <a:latin typeface="Times New Roman"/>
              </a:rPr>
              <a:t>Construcción de laber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saremos la fábrica abstracta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Mazefact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construir laberintos.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 Mazefac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perm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crear sus partes tales como piezas, paredes y puertas entre piez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Maze* makeMaz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Maz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Wall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68803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 siguiente método de</a:t>
            </a:r>
            <a:r>
              <a:rPr b="0" lang="en-GB" sz="1800" spc="-1" strike="noStrike">
                <a:solidFill>
                  <a:srgbClr val="0047ff"/>
                </a:solidFill>
                <a:latin typeface="Courier New"/>
              </a:rPr>
              <a:t> MazeGame  crea un laberinto de dos piezas  y una puerta.  Recibe la fábrica a usar como parámet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MazeGame::createMaze (MazeFactory&amp; factor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aMaze = factory.makeMa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1 = factory.makeRoom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2 = factory.makeRoom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oor* aDoor = factory.makeDoor(r1, 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Ea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We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Ea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We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aMaz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480" y="960480"/>
            <a:ext cx="688032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Creación de fábricas concre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EnchantedRoom(n, castSpell(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NeedingSpell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Bomb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WithABomb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BombedWall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31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tract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6480" y="1371600"/>
            <a:ext cx="17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Wall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8520" y="1371600"/>
            <a:ext cx="23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WithABomb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WithABomb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72160" y="343224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Room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Room(int n, .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