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071720" y="728640"/>
            <a:ext cx="5160960" cy="35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402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04A8C-DAE8-492F-A6BF-C32B379E5A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71720" y="728640"/>
            <a:ext cx="516564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28680" y="728640"/>
            <a:ext cx="48560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55680" y="72864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71720" y="728640"/>
            <a:ext cx="5170320" cy="359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55680" y="72864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71720" y="728640"/>
            <a:ext cx="516564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71720" y="728640"/>
            <a:ext cx="516564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F12-2CF6-4580-B1DE-4DB2791B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4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704-21CA-4584-B4FC-320C404E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4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654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18B-B55F-431F-8B0A-A7CC03B5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60452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60452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4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654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654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610-2F76-47DE-A12A-96C15867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844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1F8-1CCD-42CB-A4CC-66BCAB5A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844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D68-7DE3-4BAE-B3F5-2FB3D5FC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824-76C2-4F7E-9B41-CF0CDB39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2CB-93BC-468E-AF05-3CD58F6F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52920"/>
            <a:ext cx="8218440" cy="57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54A-B751-4BD1-A225-EB327722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4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022-F9FE-4E52-9E9B-3E3DA859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654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CBE-BBC0-4457-B5CB-E4EE568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4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FDF-9330-48F7-BAB4-5757697F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193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720"/>
            <a:ext cx="288756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720"/>
            <a:ext cx="21193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8C325-DEF3-4675-B3D0-DC24A93FE68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76312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iseño:  Patrones de  Diseño </a:t>
            </a:r>
            <a:br>
              <a:rPr sz="4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[Gamma et al. 1995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162920" cy="382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s patrones de  diseño describen un  problema que ocurre una y otra  vez y entrega una buena s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p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N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Problem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uando usarl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Soluci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diagrama de clases, de interacción, códig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Consecuenci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ntajas y desventaja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iterato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adapt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template  metho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abstract factor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y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observ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entre ot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n-GB" sz="1800" spc="-1" strike="noStrike">
                <a:solidFill>
                  <a:srgbClr val="ff420e"/>
                </a:solidFill>
                <a:latin typeface="Arial"/>
              </a:rPr>
              <a:t>  algunos </a:t>
            </a:r>
            <a:r>
              <a:rPr b="0" i="1" lang="en-GB" sz="1800" spc="-1" strike="noStrike">
                <a:solidFill>
                  <a:srgbClr val="ff420e"/>
                </a:solidFill>
                <a:latin typeface="Arial"/>
              </a:rPr>
              <a:t>diagramas usados para describir los patrones no siguen la notación UML pero es parecida. El código está e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16292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bstract Factory: Laberin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05120"/>
            <a:ext cx="688032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47ff"/>
                </a:solidFill>
                <a:latin typeface="Courier New"/>
              </a:rPr>
              <a:t>Uso de una fabrica concr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Game g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mbedMazeFactory bombedfactor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game.createMaze(bombedfactor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Game newgame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nchantedMezaFactory  enchantedfactor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ewgame.createMaze(enchantedfactor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312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tract facto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312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lica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Sistema independiente  de cómo los  productos son creados, compuestos y represen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Sistemas es configurado con una de las familias de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Una familia de productos relacionados está diseñada    para ser usada en conju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Si se desea proveer una biblioteca de productos, sólo se revela la interf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La fábrica encapsula la responsabilidad y el proceso de  crear objetos  productos,  </a:t>
            </a: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por lo  tanto aisla al cliente de la creación de e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b80047"/>
                </a:solidFill>
                <a:latin typeface="Arial"/>
              </a:rPr>
              <a:t>La  fábrica permite  el  intercambio de  familias productos fácilmente</a:t>
            </a: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Incentiva la consistencia entre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ir nuevos tipos de productos requiere la modificación de clases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128520"/>
            <a:ext cx="7161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52560" y="1885680"/>
            <a:ext cx="716112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6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apter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Cambia  la interfaz de una clase en otra que el cliente es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6000"/>
              </a:lnSpc>
              <a:spcBef>
                <a:spcPts val="90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tivaci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ó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editor de dibujos usa elementos g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á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cos tales como 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as, texto, 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culos, entre otros, para crear cajas o cuadros. Su clase g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á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ca abstracta se llama Shape y de esta derivan TextShape, LineShape y PolygonShape. En el sistema existe textView, una clase para crear y editar texto. La interfaz de TextView es distinta a la que queremos para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-58680"/>
            <a:ext cx="71596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84548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98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47ff"/>
                </a:solidFill>
                <a:latin typeface="Bitstream Vera Sans"/>
              </a:rPr>
              <a:t>¿</a:t>
            </a:r>
            <a:r>
              <a:rPr b="0" lang="en-GB" sz="3200" spc="-1" strike="noStrike">
                <a:solidFill>
                  <a:srgbClr val="0047ff"/>
                </a:solidFill>
                <a:latin typeface="Arial"/>
              </a:rPr>
              <a:t>C</a:t>
            </a:r>
            <a:r>
              <a:rPr b="0" lang="en-GB" sz="3200" spc="-1" strike="noStrike">
                <a:solidFill>
                  <a:srgbClr val="0047ff"/>
                </a:solidFill>
                <a:latin typeface="Bitstream Vera Sans"/>
              </a:rPr>
              <a:t>ó</a:t>
            </a:r>
            <a:r>
              <a:rPr b="0" lang="en-GB" sz="3200" spc="-1" strike="noStrike">
                <a:solidFill>
                  <a:srgbClr val="0047ff"/>
                </a:solidFill>
                <a:latin typeface="Arial"/>
              </a:rPr>
              <a:t>mo modelar TextSha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6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er analiza dos alternativa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(una correcta y la otra incorrect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6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Definir TextShape como subclase de Shape y de TextView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o heredando d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ú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tima en forma pri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6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Definir TextShape como subclase de Shape e incluir TextView como variable de intancia de TextShape</a:t>
            </a:r>
            <a:r>
              <a:rPr b="1" lang="en-GB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(agregaci</a:t>
            </a:r>
            <a:r>
              <a:rPr b="0" lang="en-GB" sz="1800" spc="-1" strike="noStrike">
                <a:solidFill>
                  <a:srgbClr val="993366"/>
                </a:solidFill>
                <a:latin typeface="Bitstream Vera Sans"/>
              </a:rPr>
              <a:t>ó</a:t>
            </a: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n)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 implementar la interfaz de TextShape en 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minos de la interfaz de Text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20240"/>
            <a:ext cx="716292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dapter con herencia priva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3400" y="1371600"/>
            <a:ext cx="1706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5486400"/>
            <a:ext cx="67485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5440" y="2546280"/>
            <a:ext cx="5657760" cy="17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313920"/>
            <a:ext cx="716292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dapter usando agregac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09720" y="2286000"/>
            <a:ext cx="709128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14400" y="1592280"/>
            <a:ext cx="1706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116680"/>
            <a:ext cx="673560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: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</a:rPr>
              <a:t>“adaptee”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una variable de instancia de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</a:rPr>
              <a:t>Adap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contiene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ntero a un objeto de tipo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</a:rPr>
              <a:t>Adap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514440"/>
            <a:ext cx="716292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: Ejempl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600200"/>
            <a:ext cx="3278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47ff"/>
                </a:solidFill>
                <a:latin typeface="Times New Roman"/>
              </a:rPr>
              <a:t>Usando agreg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51000" y="2317680"/>
            <a:ext cx="6686640" cy="22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: </a:t>
            </a:r>
            <a:r>
              <a:rPr b="1" lang="en-GB" sz="3200" spc="-1" strike="noStrike">
                <a:solidFill>
                  <a:srgbClr val="0047ff"/>
                </a:solidFill>
                <a:latin typeface="Arial"/>
              </a:rPr>
              <a:t>Código del ejemplo concreto usando herencia priv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057400"/>
            <a:ext cx="769608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TextShape : public Shape,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rivate TextView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xtShap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boundingBox(Point&amp; bottomLeft, Point&amp; topRight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bool isEmp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15200" cy="112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: </a:t>
            </a:r>
            <a:r>
              <a:rPr b="1" lang="en-GB" sz="3200" spc="-1" strike="noStrike">
                <a:solidFill>
                  <a:srgbClr val="0047ff"/>
                </a:solidFill>
                <a:latin typeface="Arial"/>
              </a:rPr>
              <a:t>Código del ejemplo concreto usando herencia priv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806480"/>
            <a:ext cx="777240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TextShape::BoundingBox (Point&amp; bottomLeft, Point&amp; topRight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ord bottom, left, width, h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GB" sz="1400" spc="-1" strike="noStrike">
                <a:solidFill>
                  <a:srgbClr val="4c4c4c"/>
                </a:solidFill>
                <a:latin typeface="Courier New"/>
              </a:rPr>
              <a:t>etOrigin(bottom, lef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GB" sz="1400" spc="-1" strike="noStrike">
                <a:solidFill>
                  <a:srgbClr val="4c4c4c"/>
                </a:solidFill>
                <a:latin typeface="Courier New"/>
              </a:rPr>
              <a:t>etExtent(width, 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ttomLeft.set(left,bott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DejaVu Sans"/>
              </a:rPr>
              <a:t>topRight.set(left + width, bottom + 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ol TextShape::isEmpty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GB" sz="1400" spc="-1" strike="noStrike">
                <a:solidFill>
                  <a:srgbClr val="4c4c4c"/>
                </a:solidFill>
                <a:latin typeface="Courier New"/>
              </a:rPr>
              <a:t>TextView::isEmpty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582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Adapter: </a:t>
            </a:r>
            <a:r>
              <a:rPr b="1" lang="en-GB" sz="3200" spc="-1" strike="noStrike">
                <a:solidFill>
                  <a:srgbClr val="0047ff"/>
                </a:solidFill>
                <a:latin typeface="Courier New"/>
              </a:rPr>
              <a:t>Código del ejemplo usando agreg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514600"/>
            <a:ext cx="82296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TextShape : public 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c90016"/>
                </a:solidFill>
                <a:latin typeface="Courier New"/>
              </a:rPr>
              <a:t>TextShape(TextView*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boundingBox(Point&amp; bottomLeft, Point&amp; topR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bool isEmp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c90016"/>
                </a:solidFill>
                <a:latin typeface="Courier New"/>
              </a:rPr>
              <a:t>TextView* _t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9680" y="314280"/>
            <a:ext cx="77295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iseño:  Patrones de  Diseñ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237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aj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7520">
              <a:lnSpc>
                <a:spcPct val="8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Reuso de diseños exitosos =&gt; nuevos diseños     correctos más  rápid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7520">
              <a:lnSpc>
                <a:spcPct val="8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Desarrollo de  sistemas reu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7520">
              <a:lnSpc>
                <a:spcPct val="8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Simplifica la  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25146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70000" indent="-26856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6856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47ff"/>
                </a:solidFill>
                <a:latin typeface="Courier New"/>
              </a:rPr>
              <a:t>Adapter: </a:t>
            </a:r>
            <a:r>
              <a:rPr b="1" lang="en-GB" sz="3200" spc="-1" strike="noStrike">
                <a:solidFill>
                  <a:srgbClr val="0047ff"/>
                </a:solidFill>
                <a:latin typeface="Courier New"/>
              </a:rPr>
              <a:t>Código del ejemplo concreto usando agregación</a:t>
            </a:r>
            <a:r>
              <a:rPr b="1" lang="en-GB" sz="3200" spc="-1" strike="noStrike">
                <a:solidFill>
                  <a:srgbClr val="0047ff"/>
                </a:solidFill>
                <a:latin typeface="Courier New"/>
              </a:rPr>
              <a:t>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08000" y="1487520"/>
            <a:ext cx="7221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xtShape::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TextShape (TextView* t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_text = 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TextShape::boundingBox(Point&amp; bottomLeft, Point&amp; topRight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ord bottom, left, width, h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_text-&gt;getOrigin(bottom, lef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_text-&gt;getExtent(width, 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ttomLeft.set(left, bott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DejaVu Sans"/>
              </a:rPr>
              <a:t>topRight.set(left + width, bottom + 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ol TextShape::isEmpty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_text-&gt;isEmp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1596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15968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Aft>
                <a:spcPts val="1426"/>
              </a:spcAft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¿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á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 alternativa usar y por qu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é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iva con agregación (</a:t>
            </a: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APROPIADA)</a:t>
            </a: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16000">
              <a:lnSpc>
                <a:spcPct val="8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Satisface la relación de subt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16000">
              <a:lnSpc>
                <a:spcPct val="8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47ff"/>
                </a:solidFill>
                <a:latin typeface="Arial"/>
              </a:rPr>
              <a:t>Es m</a:t>
            </a:r>
            <a:r>
              <a:rPr b="0" lang="en-GB" sz="1600" spc="-1" strike="noStrike">
                <a:solidFill>
                  <a:srgbClr val="0047ff"/>
                </a:solidFill>
                <a:latin typeface="Bitstream Vera Sans"/>
              </a:rPr>
              <a:t>ás flexible, pues permite implementar la nueva interfaz con objetos de TextView o con descendientes de é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ernativa con herencia privada </a:t>
            </a:r>
            <a:r>
              <a:rPr b="0" lang="en-GB" sz="2200" spc="-1" strike="noStrike">
                <a:solidFill>
                  <a:srgbClr val="ff3333"/>
                </a:solidFill>
                <a:latin typeface="Arial"/>
              </a:rPr>
              <a:t>(NO APROPIAD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03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 uso de herencia privada muestra directamente que no hay una relaci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ó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 de subtipos entre  TextView y TextShape (interfaces son distinta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03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Lo anterior impide usar TextShape en el contexto de TextView. ¿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 qu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sar herencia si una clase no se va a usar en el contexto de la otra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03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permite usar un descendiente de TextView en lugar de TextView sin cambiar  la clase Text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8000"/>
              </a:lnSpc>
              <a:spcBef>
                <a:spcPts val="90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4582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terato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19320"/>
            <a:ext cx="8275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Courier New"/>
              </a:rPr>
              <a:t>Provee acceso a un objeto referenciado (agregación) sin mostrar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65160" y="2755800"/>
            <a:ext cx="5457960" cy="136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4582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447920"/>
            <a:ext cx="827568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Lis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ist(long size = DEFAULT_LIST_CAPACIT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ong cou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tem&amp; get(long inde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Iterat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first()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next()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bool isDone()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Item currentItem()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terato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4582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terator: Implement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676520"/>
            <a:ext cx="82756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ListIterator : public Iterator&lt;Item&gt;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istIterator(const List&lt;Item&gt;* a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firs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nex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bool isDon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Item currentItem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const List&lt;Item&gt;* 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long _curre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istIterator&lt;Item&gt;::ListIterator(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const List&lt;Item&gt;*aLis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list(aList), _current(0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-142920"/>
            <a:ext cx="84582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terator: Implement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371600"/>
            <a:ext cx="82756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ListIterator&lt;Item&gt;::first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_curren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ListIterator&lt;Item&gt;::next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_current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ol ListIterator&lt;Item&gt;::isDone (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_current &gt;= _list-&gt;cou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tem ListIterator&lt;Item&gt;::currentItem (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 (isDone()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hrow IteratorOutOfBound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_list-&gt;get(_curre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4582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Uso de iteradores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600200"/>
            <a:ext cx="82756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printEmployees (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Iterator&lt;Employee*&gt;&amp; i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r (i.first(); !i.isDone(); i.next()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.currentItem()-&gt;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ist&lt;Employee*&gt;* employe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ListIterator&lt;Employee*&gt; forward(employe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ReverseListIterator&lt;Employee*&gt; backward(employe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ntEmployees(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forwa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ntEmployees(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backwa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bstract Factor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76080"/>
            <a:ext cx="8191440" cy="49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8200" indent="-2682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tivo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proveer una interfaz para crear familias   de objetos  relacionados o dependientes sin  especificar sus clases concr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tivació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rtabilidad de una Toolkit a distintos ambientes, por ejemplo a Motif y Presentation Manager. </a:t>
            </a: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Para poder ser portables a look-and-feels estándares, no debemos escribir la aplicación usando directamente las instrucciones de sus widgets  (scroll bars, windows, y buttons), sino definir una clase abstracta WidgetFactory que declara una interfaz para cada tipo básico de widget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s subclases concretas implementan los widgets para un look-and-feel específ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bstract Factory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315200" cy="3886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1557360"/>
            <a:ext cx="12985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bstract Facto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662940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1600200"/>
            <a:ext cx="15224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758960"/>
            <a:ext cx="1527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23120" cy="12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tract facto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8040" y="1073160"/>
            <a:ext cx="807876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r>
              <a:rPr b="1" lang="en-US" sz="2800" spc="-1" strike="noStrike">
                <a:solidFill>
                  <a:srgbClr val="0047ff"/>
                </a:solidFill>
                <a:latin typeface="Times New Roman"/>
              </a:rPr>
              <a:t>Construcción de laberi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Usaremos la fábrica abstracta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  <a:ea typeface="DejaVu Sans"/>
              </a:rPr>
              <a:t>Mazefact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ra construir laberintos.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  <a:ea typeface="DejaVu Sans"/>
              </a:rPr>
              <a:t> Mazefacto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  <a:ea typeface="DejaVu Sans"/>
              </a:rPr>
              <a:t>perm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  <a:ea typeface="DejaVu Sans"/>
              </a:rPr>
              <a:t>crear sus partes tales como piezas, paredes y puertas entre piez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MazeFacto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Facto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Maze* makeMaze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Maze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Wall* makeWall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Wall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Room* makeRoom(int 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Room(n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Door* makeDoor(Room* r1, Room* r2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Door(r1, r2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bstract Factory: Laberinto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914400"/>
            <a:ext cx="6880320" cy="55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 siguiente método de</a:t>
            </a:r>
            <a:r>
              <a:rPr b="0" lang="en-GB" sz="1800" spc="-1" strike="noStrike">
                <a:solidFill>
                  <a:srgbClr val="0047ff"/>
                </a:solidFill>
                <a:latin typeface="Courier New"/>
              </a:rPr>
              <a:t> MazeGame  crea un laberinto de dos piezas  y una puerta.  Recibe la fábrica a usar como parámet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* MazeGame::createMaze (MazeFactory&amp; factory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* aMaze = factory.makeMaz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m* r1 = factory.makeRoom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m* r2 = factory.makeRoom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oor* aDoor = factory.makeDoor(r1, r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Maze-&gt;addRoom(r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Maze-&gt;addRoom(r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1-&gt;setSide(North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1-&gt;setSide(East, aDo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1-&gt;setSide(South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1-&gt;setSide(West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2-&gt;setSide(North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2-&gt;setSide(East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2-&gt;setSide(South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2-&gt;setSide(West, aDo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aMaz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16292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bstract Factory: Laberinto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3480" y="960480"/>
            <a:ext cx="6880320" cy="59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47ff"/>
                </a:solidFill>
                <a:latin typeface="Courier New"/>
              </a:rPr>
              <a:t>Creación de fábricas concre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EnchantedMazeFactory : public MazeFacto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nchantedMazeFacto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Room* makeRoom(int 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EnchantedRoom(n, castSpell()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Door* makeDoor(Room* r1, Room* r2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DoorNeedingSpell(r1, r2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BombedMazeFactory : public MazeFacto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mbedMazeFacto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Room* makeRoom(int 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RoomWithABomb(n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Wall* makeWall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BombedWall(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31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tractFactory: Laberin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6480" y="1371600"/>
            <a:ext cx="1781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Wall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Wall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68520" y="1371600"/>
            <a:ext cx="23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Room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m(int 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429000"/>
            <a:ext cx="3914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RoomWithABomb: public Room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mWithABomb(int 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72160" y="3432240"/>
            <a:ext cx="3914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EnchantedRoom: public Room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nchantedRoom(int n, .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Capítulo 3 Aspectos Básicos de Diseño</dc:title>
</cp:coreProperties>
</file>