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1360" y="728640"/>
            <a:ext cx="51433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230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449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dt" idx="4"/>
          </p:nvPr>
        </p:nvSpPr>
        <p:spPr>
          <a:xfrm>
            <a:off x="4140000" y="-360"/>
            <a:ext cx="31446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449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4140000" y="9119880"/>
            <a:ext cx="31446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DFF5-9B36-486C-ABD3-045CFD4053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B93-EAE7-4AFF-B945-FEC86E4B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1BB-E3D9-445C-97D4-FEDF9A7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48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046-4A07-432D-9094-BADD440F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92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92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DF6-31C6-4164-88D8-ECFE24AB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466-F12C-4E15-AA9C-86D7A27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FA5-8ECB-48EA-BADC-E04CA896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3F3-6B2D-4E75-986E-8DB82E1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3D6-30E9-4D3A-B300-B25A6651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52920"/>
            <a:ext cx="8200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80B-4BE8-499D-9A90-A6FFF1AC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932-EB1F-4D20-BF6E-C88334B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48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AAB-CB22-4102-B1E3-37130E3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1F2-C232-4497-97A3-FCC75CC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016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70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020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776DB-7AFD-4FDB-9ECA-69B601C39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-7920"/>
            <a:ext cx="82152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é constituye un buen modelo de clas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 de la aplicación y de los requerimientos que se teng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4640" indent="-299880">
              <a:lnSpc>
                <a:spcPct val="7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vitando especializaciones innecesar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uso de herencia inneces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4640" indent="-299880">
              <a:lnSpc>
                <a:spcPct val="7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cer un modelo para un negocio que vende videos y música. La música puede ser jazz, clásica, rock et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e los videos  existen videos musicales. Al negocio le gustaría poder fácilmente clasificar los aŕticulos que vende por sus categorías (rock, clásica, audio, video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modelar los animale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Animal  (carnívoro, herbívoro y omniv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Habitat (acuático, terrestre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3162240"/>
            <a:ext cx="685800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patrones (Antipattern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patron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 soluciones de inferior calidad o que no funcionan en un context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1600" spc="-1" strike="noStrike">
                <a:solidFill>
                  <a:srgbClr val="2323dc"/>
                </a:solidFill>
                <a:latin typeface="Arial"/>
              </a:rPr>
              <a:t>un antipatrón de player-rol pattern sería mezclar todos los roles y los atributos del jugador en una sola clase. Esto crea una clase sobrecargada y menos reusable. Al mismo tiempo se pierde el poder de la orientación a obje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-49320"/>
            <a:ext cx="82152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ndo la venta de ciertos árticul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4120" y="2303640"/>
            <a:ext cx="8363160" cy="224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5040" y="1371600"/>
            <a:ext cx="619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Usar una jeraquía para modelar los artículos que se v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192640"/>
            <a:ext cx="7805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jerarquía propuesta satisface el concepto de subtipos y podría us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4476b"/>
                </a:solidFill>
                <a:latin typeface="Times New Roman"/>
              </a:rPr>
              <a:t>Pero, para justificar realmente una jerarquía debe existir tambien  alg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4476b"/>
                </a:solidFill>
                <a:latin typeface="Times New Roman"/>
              </a:rPr>
              <a:t>operación (método) que debe ser implementado de manera distinta en las subcl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ndo la venta de ciertos artícul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0" y="3676680"/>
            <a:ext cx="424800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2200" y="2971800"/>
            <a:ext cx="283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esta altern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371600"/>
            <a:ext cx="6404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Qué métodos distintos podemos tener para las cl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JazzRecording y ClassicalRecording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las no se diferen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la forma en que se ve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ando la venta de ciertos artícul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6360" y="2136600"/>
            <a:ext cx="8353440" cy="258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5040" y="1371600"/>
            <a:ext cx="809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mo se ven ciertas instancias (objetos) de las clase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257800"/>
            <a:ext cx="697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No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ta agregar  los conectores. Que objetos están conect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ando objetos con múltiples discriminad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l será la mejor manera de modelar  animales los cuales se quiere poder clasificar segun su tipo de alimentación (carnívoros, herbívoros y omnívoros), y al mismo tiempo según su habitat (acuáticos y terrestr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a Propue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incluirlos en la misma jeraqu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181320"/>
            <a:ext cx="399096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399096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: modelando anim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1955880"/>
            <a:ext cx="6762600" cy="29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5257800"/>
            <a:ext cx="755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Dónde están los omnívoros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diagrama debe crecer en dos clases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257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nda pro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: modelando anim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955880"/>
            <a:ext cx="6762600" cy="29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5257800"/>
            <a:ext cx="6861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Esta solución evita duplicación pero usa aun mas clases y es m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compleja que la anterio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brá una solución mej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5897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cera  propuesta:  usando herencia múlti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rón de diseño Player-R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é consi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un conjunto particular de propiedades asociadas con un objeto en un contexto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objeto puede jugar diferentes roles en diferentes contex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deseable manejar la encapsulación capturando la información asociada a cada rol en una 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2323dc"/>
                </a:solidFill>
                <a:latin typeface="Arial"/>
              </a:rPr>
              <a:t>La multiplicidad puede ser 1 es a 1 o 1 es a muc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257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ando estudia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 </a:t>
            </a:r>
            <a:r>
              <a:rPr b="0" lang="en-US" sz="1800" spc="-1" strike="noStrike">
                <a:solidFill>
                  <a:srgbClr val="2323dc"/>
                </a:solidFill>
                <a:latin typeface="Arial"/>
              </a:rPr>
              <a:t>un estudiante puede jugar un rol de graduado o no graduado en algún momento. Tambien puede estar jornada parcial o jornada comp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8040" y="2514600"/>
            <a:ext cx="834876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