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071360" y="728640"/>
            <a:ext cx="51433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2300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449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dt" idx="4"/>
          </p:nvPr>
        </p:nvSpPr>
        <p:spPr>
          <a:xfrm>
            <a:off x="4140000" y="-360"/>
            <a:ext cx="31446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449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4140000" y="9119880"/>
            <a:ext cx="31446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EB4A4-4505-4C36-B1EA-4638D0D755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71720" y="728640"/>
            <a:ext cx="515772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71720" y="728640"/>
            <a:ext cx="515772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71720" y="728640"/>
            <a:ext cx="515772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FAB-87B8-4593-B6FB-5C4EEF97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116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0116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4EC-EB1B-4C60-BBAA-31BF9799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48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374-3352-4DD8-A0B0-21CCC247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9920" y="160452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60452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9920" y="396216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396216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A4B-60D7-4568-9A28-C9E0874B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01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407-9BE1-406B-9312-FE08193D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1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342-691B-4F21-A313-82EFEFB2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196-FE5F-4C68-B644-B684DE4E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17E-47BC-4E86-B928-26006EB1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52920"/>
            <a:ext cx="820080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196-5083-4EBA-870A-263B4455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BE1-0246-418F-BE6F-22C17704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48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E82-CF79-4730-A4F5-5B10034B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0116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C19-091E-4293-A8A3-A005F359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01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016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702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020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87806-911E-4796-B312-A98C3A3EDD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-7920"/>
            <a:ext cx="821520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é constituye un buen modelo de clas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0">
              <a:lnSpc>
                <a:spcPct val="77000"/>
              </a:lnSpc>
              <a:spcAft>
                <a:spcPts val="1426"/>
              </a:spcAft>
              <a:buNone/>
              <a:tabLst>
                <a:tab algn="l" pos="0"/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 de la aplicación y de los requerimientos que se tenga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7000"/>
              </a:lnSpc>
              <a:spcAft>
                <a:spcPts val="1426"/>
              </a:spcAft>
              <a:buNone/>
              <a:tabLst>
                <a:tab algn="l" pos="0"/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4640" indent="-299880">
              <a:lnSpc>
                <a:spcPct val="7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vitando especializaciones innecesari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uso de herencia innecesa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4640" indent="-299880">
              <a:lnSpc>
                <a:spcPct val="7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roblem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cer un modelo para un negocio que vende videos y música. La música puede ser jazz, clásica, rock et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re los videos  existen videos musicales. Al negocio le gustaría poder fácilmente clasificar los aŕticulos que vende por sus categorías (rock, clásica, audio, video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7000"/>
              </a:lnSpc>
              <a:spcAft>
                <a:spcPts val="1426"/>
              </a:spcAft>
              <a:buNone/>
              <a:tabLst>
                <a:tab algn="l" pos="0"/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modelar los animale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gad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Animal  (carnívoro, herbívoro y omnivo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Habitat (acuático, terrestre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3162240"/>
            <a:ext cx="685800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patrones (Antipattern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patron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 soluciones de inferior calidad o que no funcionan en un contexto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1600" spc="-1" strike="noStrike">
                <a:solidFill>
                  <a:srgbClr val="2323dc"/>
                </a:solidFill>
                <a:latin typeface="Arial"/>
              </a:rPr>
              <a:t>un antipatrón de player-rol pattern sería mezclar todos los roles y los atributos del jugador en una sola clase. Esto crea una clase sobrecargada y menos reusable. Al mismo tiempo se pierde el poder de la orientación a obje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-49320"/>
            <a:ext cx="82152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lando la venta de ciertos árticul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4120" y="2303640"/>
            <a:ext cx="8363160" cy="224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5040" y="1371600"/>
            <a:ext cx="619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Usar una jeraquía para modelar los artículos que se ve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192640"/>
            <a:ext cx="78058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jerarquía propuesta satisface el concepto de subtipos y podría us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4476b"/>
                </a:solidFill>
                <a:latin typeface="Times New Roman"/>
              </a:rPr>
              <a:t>Pero, para justificar realmente una jerarquía debe existir tambien  alg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4476b"/>
                </a:solidFill>
                <a:latin typeface="Times New Roman"/>
              </a:rPr>
              <a:t>operación (método) que debe ser implementado de manera distinta en las subcl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lando la venta de ciertos artícul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0" y="3676680"/>
            <a:ext cx="424800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2200" y="2971800"/>
            <a:ext cx="283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uesta altern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371600"/>
            <a:ext cx="6404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Qué métodos distintos podemos tener para las cla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JazzRecording y ClassicalRecording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las no se diferen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la forma en que se ven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ando la venta de ciertos artícul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6360" y="2136600"/>
            <a:ext cx="8353440" cy="2581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35040" y="1371600"/>
            <a:ext cx="8096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ómo se ven ciertas instancias (objetos) de las clase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257800"/>
            <a:ext cx="697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No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ta agregar  los conectores. Que objetos están conectad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ando objetos con múltiples discriminad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Proble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ál será la mejor manera de modelar  animales los cuales se quiere poder clasificar segun su tipo de alimentación (carnívoros, herbívoros y omnívoros), y al mismo tiempo según su habitat (acuáticos y terrestre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a Propue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incluirlos en la misma jeraqu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3181320"/>
            <a:ext cx="399096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0" y="3200400"/>
            <a:ext cx="399096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: modelando anim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1955880"/>
            <a:ext cx="6762600" cy="294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5257800"/>
            <a:ext cx="755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Dónde están los omnívoros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diagrama debe crecer en dos clases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143000"/>
            <a:ext cx="2579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unda propu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: modelando anim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955880"/>
            <a:ext cx="6762600" cy="29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5257800"/>
            <a:ext cx="68612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Esta solución evita duplicación pero usa aun mas clases y es m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compleja que la anterior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brá una solución mej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5897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cera  propuesta:  usando herencia múlti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rón de diseño Player-R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é consis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R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un conjunto particular de propiedades asociadas con un objeto en un contexto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objeto puede jugar diferentes roles en diferentes contex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deseable manejar la encapsulación capturando la información asociada a cada rol en una 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2323dc"/>
                </a:solidFill>
                <a:latin typeface="Arial"/>
              </a:rPr>
              <a:t>La multiplicidad puede ser 1 es a 1 o 1 es a much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5257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ando estudian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:  </a:t>
            </a:r>
            <a:r>
              <a:rPr b="0" lang="en-US" sz="1800" spc="-1" strike="noStrike">
                <a:solidFill>
                  <a:srgbClr val="2323dc"/>
                </a:solidFill>
                <a:latin typeface="Arial"/>
              </a:rPr>
              <a:t>un estudiante puede jugar un rol de graduado o no graduado en algún momento. Tambien puede estar jornada parcial o jornada comp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38040" y="2514600"/>
            <a:ext cx="834876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3 Aspectos Básicos de Diseño</dc:title>
</cp:coreProperties>
</file>