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071360" y="728640"/>
            <a:ext cx="51433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2300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1449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dt" idx="4"/>
          </p:nvPr>
        </p:nvSpPr>
        <p:spPr>
          <a:xfrm>
            <a:off x="4140000" y="-360"/>
            <a:ext cx="314460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5"/>
          </p:nvPr>
        </p:nvSpPr>
        <p:spPr>
          <a:xfrm>
            <a:off x="0" y="9119880"/>
            <a:ext cx="314496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 type="sldNum" idx="6"/>
          </p:nvPr>
        </p:nvSpPr>
        <p:spPr>
          <a:xfrm>
            <a:off x="4140000" y="9119880"/>
            <a:ext cx="314460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2E903-495A-4EF9-8BAA-2422AF1B1A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71720" y="728640"/>
            <a:ext cx="5157720" cy="359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71720" y="728640"/>
            <a:ext cx="514656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71720" y="728640"/>
            <a:ext cx="514656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71720" y="728640"/>
            <a:ext cx="5157720" cy="359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71720" y="728640"/>
            <a:ext cx="5157720" cy="359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71720" y="728640"/>
            <a:ext cx="514656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71720" y="728640"/>
            <a:ext cx="514656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71720" y="728640"/>
            <a:ext cx="514656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71720" y="728640"/>
            <a:ext cx="514656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71720" y="728640"/>
            <a:ext cx="514656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71720" y="728640"/>
            <a:ext cx="514656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31520" y="4560840"/>
            <a:ext cx="582444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37D-1B6C-47A4-BE35-3FAAFDC3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0116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0116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E1BA-8DA9-4097-A425-F6145B21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21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9480" y="1604520"/>
            <a:ext cx="40021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21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9480" y="3962160"/>
            <a:ext cx="40021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6140-6094-42E4-AE0D-7982AADB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06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9920" y="1604520"/>
            <a:ext cx="26406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3000" y="1604520"/>
            <a:ext cx="26406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06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9920" y="3962160"/>
            <a:ext cx="26406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3000" y="3962160"/>
            <a:ext cx="26406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D0E2-7DC3-4CC3-AAA6-4081A33D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0116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CB44-AF26-4C31-A0D1-DFBBA1D1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0116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5EF1-D993-4A6D-866A-E10FF176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21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9480" y="1604520"/>
            <a:ext cx="40021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31EA-7856-4FE2-96E6-A9C19A00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9554-B2E4-41EF-B4E5-8E7B58A7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520" y="-52920"/>
            <a:ext cx="820080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7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0381-9A45-4E70-B978-8721CA65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21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9480" y="1604520"/>
            <a:ext cx="40021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21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6C20-1203-40E3-9B31-3A9843A4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21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480" y="1604520"/>
            <a:ext cx="40021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9480" y="3962160"/>
            <a:ext cx="40021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29CD-1991-4D79-9968-11EEAEC8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21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9480" y="1604520"/>
            <a:ext cx="400212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0116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9C39-0CE9-4150-8EAF-F391DC27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520" y="-52920"/>
            <a:ext cx="82008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0116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6360"/>
            <a:ext cx="210168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6360"/>
            <a:ext cx="287028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6360"/>
            <a:ext cx="21020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DABDE-A2CF-4ED9-B880-7C8352705E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5520" y="-7920"/>
            <a:ext cx="821520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é constituye un buen modelo de clase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152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4640" indent="0">
              <a:lnSpc>
                <a:spcPct val="77000"/>
              </a:lnSpc>
              <a:spcAft>
                <a:spcPts val="1426"/>
              </a:spcAft>
              <a:buNone/>
              <a:tabLst>
                <a:tab algn="l" pos="0"/>
                <a:tab algn="l" pos="406440"/>
                <a:tab algn="l" pos="519120"/>
                <a:tab algn="l" pos="976320"/>
                <a:tab algn="l" pos="1433520"/>
                <a:tab algn="l" pos="1890720"/>
                <a:tab algn="l" pos="2347920"/>
                <a:tab algn="l" pos="2805120"/>
                <a:tab algn="l" pos="3262320"/>
                <a:tab algn="l" pos="3719520"/>
                <a:tab algn="l" pos="4176720"/>
                <a:tab algn="l" pos="4633920"/>
                <a:tab algn="l" pos="5091120"/>
                <a:tab algn="l" pos="5548320"/>
                <a:tab algn="l" pos="6005520"/>
                <a:tab algn="l" pos="6462720"/>
                <a:tab algn="l" pos="6919920"/>
                <a:tab algn="l" pos="7377120"/>
                <a:tab algn="l" pos="7834320"/>
                <a:tab algn="l" pos="8291520"/>
                <a:tab algn="l" pos="8748720"/>
                <a:tab algn="l" pos="920592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ende de la aplicación y de los requerimientos que se tenga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77000"/>
              </a:lnSpc>
              <a:spcAft>
                <a:spcPts val="1426"/>
              </a:spcAft>
              <a:buNone/>
              <a:tabLst>
                <a:tab algn="l" pos="0"/>
                <a:tab algn="l" pos="406440"/>
                <a:tab algn="l" pos="519120"/>
                <a:tab algn="l" pos="976320"/>
                <a:tab algn="l" pos="1433520"/>
                <a:tab algn="l" pos="1890720"/>
                <a:tab algn="l" pos="2347920"/>
                <a:tab algn="l" pos="2805120"/>
                <a:tab algn="l" pos="3262320"/>
                <a:tab algn="l" pos="3719520"/>
                <a:tab algn="l" pos="4176720"/>
                <a:tab algn="l" pos="4633920"/>
                <a:tab algn="l" pos="5091120"/>
                <a:tab algn="l" pos="5548320"/>
                <a:tab algn="l" pos="6005520"/>
                <a:tab algn="l" pos="6462720"/>
                <a:tab algn="l" pos="6919920"/>
                <a:tab algn="l" pos="7377120"/>
                <a:tab algn="l" pos="7834320"/>
                <a:tab algn="l" pos="8291520"/>
                <a:tab algn="l" pos="8748720"/>
                <a:tab algn="l" pos="920592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4640" indent="-299880">
              <a:lnSpc>
                <a:spcPct val="77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06440"/>
                <a:tab algn="l" pos="519120"/>
                <a:tab algn="l" pos="976320"/>
                <a:tab algn="l" pos="1433520"/>
                <a:tab algn="l" pos="1890720"/>
                <a:tab algn="l" pos="2347920"/>
                <a:tab algn="l" pos="2805120"/>
                <a:tab algn="l" pos="3262320"/>
                <a:tab algn="l" pos="3719520"/>
                <a:tab algn="l" pos="4176720"/>
                <a:tab algn="l" pos="4633920"/>
                <a:tab algn="l" pos="5091120"/>
                <a:tab algn="l" pos="5548320"/>
                <a:tab algn="l" pos="6005520"/>
                <a:tab algn="l" pos="6462720"/>
                <a:tab algn="l" pos="6919920"/>
                <a:tab algn="l" pos="7377120"/>
                <a:tab algn="l" pos="7834320"/>
                <a:tab algn="l" pos="8291520"/>
                <a:tab algn="l" pos="8748720"/>
                <a:tab algn="l" pos="920592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Evitando especializaciones innecesari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uso de herencia innecesar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4640" indent="-299880">
              <a:lnSpc>
                <a:spcPct val="77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06440"/>
                <a:tab algn="l" pos="519120"/>
                <a:tab algn="l" pos="976320"/>
                <a:tab algn="l" pos="1433520"/>
                <a:tab algn="l" pos="1890720"/>
                <a:tab algn="l" pos="2347920"/>
                <a:tab algn="l" pos="2805120"/>
                <a:tab algn="l" pos="3262320"/>
                <a:tab algn="l" pos="3719520"/>
                <a:tab algn="l" pos="4176720"/>
                <a:tab algn="l" pos="4633920"/>
                <a:tab algn="l" pos="5091120"/>
                <a:tab algn="l" pos="5548320"/>
                <a:tab algn="l" pos="6005520"/>
                <a:tab algn="l" pos="6462720"/>
                <a:tab algn="l" pos="6919920"/>
                <a:tab algn="l" pos="7377120"/>
                <a:tab algn="l" pos="7834320"/>
                <a:tab algn="l" pos="8291520"/>
                <a:tab algn="l" pos="8748720"/>
                <a:tab algn="l" pos="920592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Problema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cer un modelo para un negocio que vende videos y música. La música puede ser jazz, clásica, rock et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re los videos  existen videos musicales. Al negocio le gustaría poder fácilmente clasificar los aŕticulos que vende por sus categorías (rock, clásica, audio, video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77000"/>
              </a:lnSpc>
              <a:spcAft>
                <a:spcPts val="1426"/>
              </a:spcAft>
              <a:buNone/>
              <a:tabLst>
                <a:tab algn="l" pos="0"/>
                <a:tab algn="l" pos="406440"/>
                <a:tab algn="l" pos="519120"/>
                <a:tab algn="l" pos="976320"/>
                <a:tab algn="l" pos="1433520"/>
                <a:tab algn="l" pos="1890720"/>
                <a:tab algn="l" pos="2347920"/>
                <a:tab algn="l" pos="2805120"/>
                <a:tab algn="l" pos="3262320"/>
                <a:tab algn="l" pos="3719520"/>
                <a:tab algn="l" pos="4176720"/>
                <a:tab algn="l" pos="4633920"/>
                <a:tab algn="l" pos="5091120"/>
                <a:tab algn="l" pos="5548320"/>
                <a:tab algn="l" pos="6005520"/>
                <a:tab algn="l" pos="6462720"/>
                <a:tab algn="l" pos="6919920"/>
                <a:tab algn="l" pos="7377120"/>
                <a:tab algn="l" pos="7834320"/>
                <a:tab algn="l" pos="8291520"/>
                <a:tab algn="l" pos="8748720"/>
                <a:tab algn="l" pos="92059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5160" y="-8280"/>
            <a:ext cx="8204040" cy="11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modelar los animale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040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gado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323dc"/>
                </a:solidFill>
                <a:latin typeface="Arial"/>
              </a:rPr>
              <a:t>Animal  (carnívoro, herbívoro y omnivo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323dc"/>
                </a:solidFill>
                <a:latin typeface="Arial"/>
              </a:rPr>
              <a:t>Habitat (acuático, terrestre,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43000" y="3162240"/>
            <a:ext cx="6858000" cy="186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5160" y="-8280"/>
            <a:ext cx="8204040" cy="11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ipatrones (Antipattern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040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ipatron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 soluciones de inferior calidad o que no funcionan en un contexto d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n-US" sz="1600" spc="-1" strike="noStrike">
                <a:solidFill>
                  <a:srgbClr val="2323dc"/>
                </a:solidFill>
                <a:latin typeface="Arial"/>
              </a:rPr>
              <a:t>un antipatrón de player-rol pattern sería mezclar todos los roles y los atributos del jugador en una sola clase. Esto crea una clase sobrecargada y menos reusable. Al mismo tiempo se pierde el poder de la orientación a obje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-49320"/>
            <a:ext cx="82152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delando la venta de ciertos árticul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4120" y="2303640"/>
            <a:ext cx="8363160" cy="2247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35040" y="1371600"/>
            <a:ext cx="6192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2323dc"/>
                </a:solidFill>
                <a:latin typeface="Times New Roman"/>
              </a:rPr>
              <a:t>Usar una jeraquía para modelar los artículos que se ve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5192640"/>
            <a:ext cx="78058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jerarquía propuesta satisface el concepto de subtipos y podría usar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94476b"/>
                </a:solidFill>
                <a:latin typeface="Times New Roman"/>
              </a:rPr>
              <a:t>Pero, para justificar realmente una jerarquía debe existir tambien  algu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94476b"/>
                </a:solidFill>
                <a:latin typeface="Times New Roman"/>
              </a:rPr>
              <a:t>operación (método) que debe ser implementado de manera distinta en las subcl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160" y="-52560"/>
            <a:ext cx="82040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delando la venta de ciertos artícul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286000" y="3676680"/>
            <a:ext cx="4248000" cy="1581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92200" y="2971800"/>
            <a:ext cx="2836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uesta alternati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371600"/>
            <a:ext cx="64040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2323dc"/>
                </a:solidFill>
                <a:latin typeface="Times New Roman"/>
              </a:rPr>
              <a:t>Qué métodos distintos podemos tener para las cla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2323dc"/>
                </a:solidFill>
                <a:latin typeface="Times New Roman"/>
              </a:rPr>
              <a:t>JazzRecording y ClassicalRecording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las no se diferenc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la forma en que se ven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5160" y="-8280"/>
            <a:ext cx="8204040" cy="11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ando la venta de ciertos artícul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6360" y="2136600"/>
            <a:ext cx="8353440" cy="2581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35040" y="1371600"/>
            <a:ext cx="8096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ómo se ven ciertas instancias (objetos) de las clases anteri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5257800"/>
            <a:ext cx="6973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2323dc"/>
                </a:solidFill>
                <a:latin typeface="Times New Roman"/>
              </a:rPr>
              <a:t>Not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ta agregar  los conectores. Que objetos están conectad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5160" y="-52560"/>
            <a:ext cx="82040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elando objetos con múltiples discriminado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040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2323dc"/>
                </a:solidFill>
                <a:latin typeface="Arial"/>
              </a:rPr>
              <a:t>Problem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ál será la mejor manera de modelar  animales los cuales se quiere poder clasificar segun su tipo de alimentación (carnívoros, herbívoros y omnívoros), y al mismo tiempo según su habitat (acuáticos y terrestres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a Propues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ómo incluirlos en la misma jeraquí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" y="3181320"/>
            <a:ext cx="3990960" cy="1619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72000" y="3200400"/>
            <a:ext cx="3990960" cy="16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5160" y="-52560"/>
            <a:ext cx="82040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jemplo: modelando anima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371600" y="1955880"/>
            <a:ext cx="6762600" cy="2943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14400" y="5257800"/>
            <a:ext cx="7556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2323dc"/>
                </a:solidFill>
                <a:latin typeface="Times New Roman"/>
              </a:rPr>
              <a:t>Dónde están los omnívoros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 diagrama debe crecer en dos clases m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143000"/>
            <a:ext cx="2579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unda propues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5160" y="-52560"/>
            <a:ext cx="82040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jemplo: modelando anima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71600" y="1955880"/>
            <a:ext cx="6762600" cy="2943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14400" y="5257800"/>
            <a:ext cx="686124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2323dc"/>
                </a:solidFill>
                <a:latin typeface="Times New Roman"/>
              </a:rPr>
              <a:t>Esta solución evita duplicación pero usa aun mas clases y es má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2323dc"/>
                </a:solidFill>
                <a:latin typeface="Times New Roman"/>
              </a:rPr>
              <a:t>compleja que la anterior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brá una solución mejo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1143000"/>
            <a:ext cx="5897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cera  propuesta:  usando herencia múltip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160" y="-52560"/>
            <a:ext cx="82040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rón de diseño Player-Ro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040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qué consis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2323dc"/>
                </a:solidFill>
                <a:latin typeface="Arial"/>
              </a:rPr>
              <a:t>Ro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un conjunto particular de propiedades asociadas con un objeto en un contexto partic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objeto puede jugar diferentes roles en diferentes contex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deseable manejar la encapsulación capturando la información asociada a cada rol en una cl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2323dc"/>
                </a:solidFill>
                <a:latin typeface="Arial"/>
              </a:rPr>
              <a:t>La multiplicidad puede ser 1 es a 1 o 1 es a much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52578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5160" y="-8280"/>
            <a:ext cx="8204040" cy="11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ando estudian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040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 ejemplo:  </a:t>
            </a:r>
            <a:r>
              <a:rPr b="0" lang="en-US" sz="1800" spc="-1" strike="noStrike">
                <a:solidFill>
                  <a:srgbClr val="2323dc"/>
                </a:solidFill>
                <a:latin typeface="Arial"/>
              </a:rPr>
              <a:t>un estudiante puede jugar un rol de graduado o no graduado en algún momento. Tambien puede estar jornada parcial o jornada compl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38040" y="2514600"/>
            <a:ext cx="8348760" cy="178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Capítulo 3 Aspectos Básicos de Diseño</dc:title>
</cp:coreProperties>
</file>