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071360" y="728640"/>
            <a:ext cx="5151240" cy="35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3092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1528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4"/>
          </p:nvPr>
        </p:nvSpPr>
        <p:spPr>
          <a:xfrm>
            <a:off x="4140000" y="0"/>
            <a:ext cx="31525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528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6"/>
          </p:nvPr>
        </p:nvSpPr>
        <p:spPr>
          <a:xfrm>
            <a:off x="4140000" y="9120240"/>
            <a:ext cx="31525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63E76-8556-46BB-9049-B11E383654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3C4-62EB-4A81-BD6C-DB90429F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471-CAEB-4553-99E4-2C2A53E2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3957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385-E7E8-4C2C-8F10-1B45BB9C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440" y="160452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60452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440" y="3957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57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E5E-59F8-4399-BD29-8A050BF3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EF5-150D-4BD0-AB3B-B01BB673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7BA-73F6-4BAB-BA10-2C95972A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DB6-3B3B-4498-A3F8-65903093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C9B-F7C3-4231-8BD8-B3CD15D2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520" y="-70200"/>
            <a:ext cx="82087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D99-7D85-408C-A684-14A0B1BC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00D-02CB-4B71-937E-74BD7ED6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3957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E9F-D36A-42E1-B03B-30B9B278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F735-12D8-4E57-A6C2-BE68FD47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099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720"/>
            <a:ext cx="28782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720"/>
            <a:ext cx="21099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269FA-ACE1-461F-AE49-7B58AB9099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13760" cy="13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Relaciones entre  clases: Asociaciones</a:t>
            </a:r>
            <a:br>
              <a:rPr sz="3600"/>
            </a:b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([7] Timothy C. Lethbridge...)</a:t>
            </a:r>
            <a:br>
              <a:rPr sz="3600"/>
            </a:b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Notación de cl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19560" y="2286000"/>
            <a:ext cx="172404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76360" y="2209680"/>
            <a:ext cx="1724040" cy="762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9280" y="3657600"/>
            <a:ext cx="35751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Asociación y multiplic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943280" y="4362480"/>
            <a:ext cx="5143320" cy="18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-158760"/>
            <a:ext cx="8213760" cy="13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Relaciones entre  clases: Asociaciones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([7])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600200"/>
            <a:ext cx="27925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47ff"/>
                </a:solidFill>
                <a:latin typeface="Times New Roman"/>
              </a:rPr>
              <a:t>Asociación y rótu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7696080" cy="790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5600" y="3657600"/>
            <a:ext cx="820260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Tipos de rótul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3333"/>
                </a:solidFill>
                <a:latin typeface="Times New Roman"/>
              </a:rPr>
              <a:t>Nombre de la asocia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o o frase-verbal. Se ubica en la mitad de la aso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3333"/>
                </a:solidFill>
                <a:latin typeface="Times New Roman"/>
              </a:rPr>
              <a:t>Nombre de Ro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stantivo. Adjunto a uno de los extremos de la aso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Cuando usar rótul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regar los rótulos necesarios para que la asociación sea clara y no ambigu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520" y="-158760"/>
            <a:ext cx="8213760" cy="13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Relaciones entre  clases: Asociaciones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([7])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7640640" cy="71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ando y validando asociaciones:</a:t>
            </a:r>
            <a:r>
              <a:rPr b="0" lang="en-US" sz="2400" spc="-1" strike="noStrike">
                <a:solidFill>
                  <a:srgbClr val="0047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Error típic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idad equivocada o muy restri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3333"/>
                </a:solidFill>
                <a:latin typeface="Times New Roman"/>
              </a:rPr>
              <a:t>Recomendació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 mejor ser menos restri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Patrones comunes de multiplic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1-Muchos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a compañia tiene muchos emple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guntas: Es válido 0 empleados?  Compañia de papel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Muchos-Muchos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na secretaria puede trabajar para varios gerente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 gerente puede tener varias secretarias (la relación 1-1 sería la típic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guntas: es válido que un gerente tenga 0 secretarias? Una secretaria es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mporalmente sin gere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1-1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a compañia tiene exactamente un director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gunta: es válido si todos renuncian? Si, pues el concepto de directo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ue existie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-158760"/>
            <a:ext cx="8213760" cy="13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Relaciones entre  clases: Asociaciones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([7])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8308800" cy="43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ando y validando asociaciones:</a:t>
            </a:r>
            <a:r>
              <a:rPr b="0" lang="en-US" sz="2400" spc="-1" strike="noStrike">
                <a:solidFill>
                  <a:srgbClr val="0047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áles son las menos usadas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1-1 ..... Por qu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           … </a:t>
            </a:r>
            <a:r>
              <a:rPr b="0" lang="en-US" sz="1600" spc="-1" strike="noStrike">
                <a:solidFill>
                  <a:srgbClr val="2323dc"/>
                </a:solidFill>
                <a:latin typeface="Times New Roman"/>
              </a:rPr>
              <a:t>porque se puede quizas implementar  mejor usando agregación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2323dc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2323dc"/>
                </a:solidFill>
                <a:latin typeface="Times New Roman"/>
              </a:rPr>
              <a:t>Tiene sentido el directorio sin una compañi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2323d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común: </a:t>
            </a:r>
            <a:r>
              <a:rPr b="0" lang="en-US" sz="1600" spc="-1" strike="noStrike">
                <a:solidFill>
                  <a:srgbClr val="2323dc"/>
                </a:solidFill>
                <a:latin typeface="Times New Roman"/>
              </a:rPr>
              <a:t>crear una asociación 1-1 entre dos clases donde las dos clases son sólo u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828800" y="3705120"/>
            <a:ext cx="5791320" cy="1781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12640" y="5170320"/>
            <a:ext cx="80949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 símbolo </a:t>
            </a:r>
            <a:r>
              <a:rPr b="0" lang="en-US" sz="1600" spc="-1" strike="noStrike">
                <a:solidFill>
                  <a:srgbClr val="2323dc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ignifica variable de instancia o método  público. La herramienta usada 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estra las variables de instancia si son privadas por eso están públicas en el diagrama. </a:t>
            </a:r>
            <a:r>
              <a:rPr b="0" lang="en-US" sz="1600" spc="-1" strike="noStrike">
                <a:solidFill>
                  <a:srgbClr val="ff3333"/>
                </a:solidFill>
                <a:latin typeface="Times New Roman"/>
              </a:rPr>
              <a:t>En u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3333"/>
                </a:solidFill>
                <a:latin typeface="Times New Roman"/>
              </a:rPr>
              <a:t>implementación correcta deben ser privad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aparecer antecedidas por el signo </a:t>
            </a:r>
            <a:r>
              <a:rPr b="0" lang="en-US" sz="1600" spc="-1" strike="noStrike">
                <a:solidFill>
                  <a:srgbClr val="2323dc"/>
                </a:solidFill>
                <a:latin typeface="Times New Roman"/>
              </a:rPr>
              <a:t> 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-158760"/>
            <a:ext cx="8213760" cy="13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Relaciones entre  clases: Asociaciones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([7])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914400"/>
            <a:ext cx="487836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ando y validando asociaciones:</a:t>
            </a:r>
            <a:r>
              <a:rPr b="0" lang="en-US" sz="2400" spc="-1" strike="noStrike">
                <a:solidFill>
                  <a:srgbClr val="0047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324080" y="1828800"/>
            <a:ext cx="6448320" cy="1009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61960" y="3200400"/>
            <a:ext cx="3038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Qué significa?  Es correc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-158760"/>
            <a:ext cx="8213760" cy="13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Relaciones entre  clases: Asociaciones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([7])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1960" y="3200400"/>
            <a:ext cx="3038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3360" y="1222200"/>
            <a:ext cx="762624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Clases asociacione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arecen cuando ciertos atributos no pueden    ser asignados a ninguna de las dos cla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057400" y="2495520"/>
            <a:ext cx="4248000" cy="704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365760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943360" y="5133960"/>
            <a:ext cx="597204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-158760"/>
            <a:ext cx="8213760" cy="13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Relaciones entre  clases: Asociaciones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([7])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1960" y="3200400"/>
            <a:ext cx="3038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222200"/>
            <a:ext cx="762624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Asociaciones reflexiva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 clase se conecta a si mi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735440"/>
            <a:ext cx="800100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Nota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isten asociaciones simétricas (el rol de cada clase 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ramente diferentes) y simétricas. Para diferenciarlas rotular las primeras con nombre de rol y las segundas con un nomb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35520" y="2860560"/>
            <a:ext cx="2114640" cy="1133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2743200"/>
            <a:ext cx="218124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5520" y="-158760"/>
            <a:ext cx="8213760" cy="13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Relaciones entre  clases: Asociaciones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([7])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1960" y="3200400"/>
            <a:ext cx="3038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222200"/>
            <a:ext cx="762624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Asociaciones direccionale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 posible limitar la dirección de la asociación hacia un extre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4800600"/>
            <a:ext cx="6459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Not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decisión de dejar una asociación unidireccional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mienda tomarla cuando se tiene un diseño bien detal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932200" y="3022560"/>
            <a:ext cx="3324240" cy="82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cy hitschfeld</cp:lastModifiedBy>
  <cp:revision>0</cp:revision>
  <dc:subject/>
  <dc:title>Capítulo 3 Aspectos Básicos de Diseño</dc:title>
</cp:coreProperties>
</file>