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071360" y="728640"/>
            <a:ext cx="5151240" cy="35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731520" y="4560840"/>
            <a:ext cx="5830920" cy="42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15288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dt" idx="4"/>
          </p:nvPr>
        </p:nvSpPr>
        <p:spPr>
          <a:xfrm>
            <a:off x="4140000" y="0"/>
            <a:ext cx="31525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5288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 type="sldNum" idx="6"/>
          </p:nvPr>
        </p:nvSpPr>
        <p:spPr>
          <a:xfrm>
            <a:off x="4140000" y="9120240"/>
            <a:ext cx="31525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675326-8E64-4E62-A21E-26759C3DAA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972720" y="4559040"/>
            <a:ext cx="5365800" cy="3849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l diagrama representa las siguiente rela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Una rosa "es una" flor, por lo tanto rosa es más especializada que fl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Pétalo no es un tipo de flor, pero si es parte de una f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Abejas y flores cooperan entre 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972720" y="4559040"/>
            <a:ext cx="5365800" cy="3849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l diagrama representa las siguiente rela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Una rosa "es una" flor, por lo tanto rosa es más especializada que fl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Pétalo no es un tipo de flor, pero si es parte de una f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Abejas y flores cooperan entre 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972720" y="4559040"/>
            <a:ext cx="5365800" cy="3849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l diagrama representa las siguiente rela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Una rosa "es una" flor, por lo tanto rosa es más especializada que fl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Pétalo no es un tipo de flor, pero si es parte de una f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Abejas y flores cooperan entre 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972720" y="4559040"/>
            <a:ext cx="5365800" cy="3849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l diagrama representa las siguiente rela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Una rosa "es una" flor, por lo tanto rosa es más especializada que fl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Pétalo no es un tipo de flor, pero si es parte de una f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Abejas y flores cooperan entre 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972720" y="4559040"/>
            <a:ext cx="5365800" cy="3849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l diagrama representa las siguiente rela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Una rosa "es una" flor, por lo tanto rosa es más especializada que fl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Pétalo no es un tipo de flor, pero si es parte de una f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Abejas y flores cooperan entre 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972720" y="4559040"/>
            <a:ext cx="5365800" cy="3849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l diagrama representa las siguiente rela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Una rosa "es una" flor, por lo tanto rosa es más especializada que fl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Pétalo no es un tipo de flor, pero si es parte de una f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Abejas y flores cooperan entre 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972720" y="4559040"/>
            <a:ext cx="5365800" cy="3849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l diagrama representa las siguiente rela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Una rosa "es una" flor, por lo tanto rosa es más especializada que fl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Pétalo no es un tipo de flor, pero si es parte de una f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Abejas y flores cooperan entre 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972720" y="4559040"/>
            <a:ext cx="5365800" cy="3849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l diagrama representa las siguiente rela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Una rosa "es una" flor, por lo tanto rosa es más especializada que fl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Pétalo no es un tipo de flor, pero si es parte de una f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Abejas y flores cooperan entre 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52A2-CE17-48FB-BFD0-85EFBCF52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-70200"/>
            <a:ext cx="82087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784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6F23-8616-449C-B25C-17281376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-70200"/>
            <a:ext cx="82087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080" y="160452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7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3080" y="3957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5AE6-6DB4-453D-BF73-E770B7151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520" y="-70200"/>
            <a:ext cx="82087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2440" y="160452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8040" y="160452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7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2440" y="3957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8040" y="3957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1750-E7E0-461D-80B8-12B920ADC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520" y="-70200"/>
            <a:ext cx="82087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0908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9933-E1DA-434E-8D48-9A6D3A87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520" y="-70200"/>
            <a:ext cx="82087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0908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4E2F-F28D-4180-AD54-7973CC61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-70200"/>
            <a:ext cx="82087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3080" y="160452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9BE4-44E9-4EA9-ACBC-6F3D0C57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-70200"/>
            <a:ext cx="82087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880E-6B0F-4E6A-B175-C9C8E76F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520" y="-70200"/>
            <a:ext cx="820872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E711-DCC8-419F-A7EF-17290CC8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520" y="-70200"/>
            <a:ext cx="82087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3080" y="160452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7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B9C8-1ADC-4FD3-B7D0-E48763B3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-70200"/>
            <a:ext cx="82087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080" y="160452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3080" y="3957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A4E8-4CC7-460D-B476-8380E4DB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-70200"/>
            <a:ext cx="82087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080" y="160452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784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D7A1-67FA-4C25-9F8F-67E371B0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520" y="-70200"/>
            <a:ext cx="82087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0908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720"/>
            <a:ext cx="21099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6720"/>
            <a:ext cx="28782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6720"/>
            <a:ext cx="21099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4A720-9E7F-4C57-A323-0F950A9613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13760" cy="13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Relaciones entre  clases: Asociaciones</a:t>
            </a:r>
            <a:br>
              <a:rPr sz="3600"/>
            </a:br>
            <a:r>
              <a:rPr b="1" lang="en-GB" sz="2000" spc="-1" strike="noStrike">
                <a:solidFill>
                  <a:srgbClr val="333333"/>
                </a:solidFill>
                <a:latin typeface="Arial"/>
              </a:rPr>
              <a:t>([7] Timothy C. Lethbridge...)</a:t>
            </a:r>
            <a:br>
              <a:rPr sz="3600"/>
            </a:b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323dc"/>
                </a:solidFill>
                <a:latin typeface="Arial"/>
              </a:rPr>
              <a:t>Notación de cl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219560" y="2286000"/>
            <a:ext cx="1724040" cy="762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476360" y="2209680"/>
            <a:ext cx="1724040" cy="762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49280" y="3657600"/>
            <a:ext cx="357516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323dc"/>
                </a:solidFill>
                <a:latin typeface="Times New Roman"/>
              </a:rPr>
              <a:t>Asociación y multiplicid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943280" y="4362480"/>
            <a:ext cx="5143320" cy="180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-158760"/>
            <a:ext cx="8213760" cy="13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Relaciones entre  clases: Asociaciones</a:t>
            </a: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33"/>
                </a:solidFill>
                <a:latin typeface="Arial"/>
              </a:rPr>
              <a:t>([7])</a:t>
            </a: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600200"/>
            <a:ext cx="27925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47ff"/>
                </a:solidFill>
                <a:latin typeface="Times New Roman"/>
              </a:rPr>
              <a:t>Asociación y rótu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5800" y="2514600"/>
            <a:ext cx="7696080" cy="790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55600" y="3657600"/>
            <a:ext cx="8202600" cy="24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323dc"/>
                </a:solidFill>
                <a:latin typeface="Times New Roman"/>
              </a:rPr>
              <a:t>Tipos de rótul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3333"/>
                </a:solidFill>
                <a:latin typeface="Times New Roman"/>
              </a:rPr>
              <a:t>Nombre de la asociació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bo o frase-verbal. Se ubica en la mitad de la aso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3333"/>
                </a:solidFill>
                <a:latin typeface="Times New Roman"/>
              </a:rPr>
              <a:t>Nombre de Ro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stantivo. Adjunto a uno de los extremos de la aso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323dc"/>
                </a:solidFill>
                <a:latin typeface="Times New Roman"/>
              </a:rPr>
              <a:t>Cuando usar rótul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regar los rótulos necesarios para que la asociación sea clara y no ambigu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5520" y="-158760"/>
            <a:ext cx="8213760" cy="13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Relaciones entre  clases: Asociaciones</a:t>
            </a: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33"/>
                </a:solidFill>
                <a:latin typeface="Arial"/>
              </a:rPr>
              <a:t>([7])</a:t>
            </a: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914400"/>
            <a:ext cx="7640640" cy="71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izando y validando asociaciones:</a:t>
            </a:r>
            <a:r>
              <a:rPr b="0" lang="en-US" sz="2400" spc="-1" strike="noStrike">
                <a:solidFill>
                  <a:srgbClr val="0047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2323dc"/>
                </a:solidFill>
                <a:latin typeface="Times New Roman"/>
              </a:rPr>
              <a:t>Error típic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icidad equivocada o muy restri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ff3333"/>
                </a:solidFill>
                <a:latin typeface="Times New Roman"/>
              </a:rPr>
              <a:t>Recomendación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s mejor ser menos restri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2323dc"/>
                </a:solidFill>
                <a:latin typeface="Times New Roman"/>
              </a:rPr>
              <a:t>Patrones comunes de multiplicid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323dc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2323dc"/>
                </a:solidFill>
                <a:latin typeface="Times New Roman"/>
              </a:rPr>
              <a:t>1-Muchos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a compañia tiene muchos emple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guntas: Es válido 0 empleados?  Compañia de papel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2323dc"/>
                </a:solidFill>
                <a:latin typeface="Times New Roman"/>
              </a:rPr>
              <a:t>Muchos-Muchos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una secretaria puede trabajar para varios gerentes 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 gerente puede tener varias secretarias (la relación 1-1 sería la típica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guntas: es válido que un gerente tenga 0 secretarias? Una secretaria est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mporalmente sin geren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2323dc"/>
                </a:solidFill>
                <a:latin typeface="Times New Roman"/>
              </a:rPr>
              <a:t>1-1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a compañia tiene exactamente un directori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gunta: es válido si todos renuncian? Si, pues el concepto de director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ue existien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5520" y="-158760"/>
            <a:ext cx="8213760" cy="13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Relaciones entre  clases: Asociaciones</a:t>
            </a: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33"/>
                </a:solidFill>
                <a:latin typeface="Arial"/>
              </a:rPr>
              <a:t>([7])</a:t>
            </a: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914400"/>
            <a:ext cx="8308800" cy="43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izando y validando asociaciones:</a:t>
            </a:r>
            <a:r>
              <a:rPr b="0" lang="en-US" sz="2400" spc="-1" strike="noStrike">
                <a:solidFill>
                  <a:srgbClr val="0047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áles son las menos usadas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2323dc"/>
                </a:solidFill>
                <a:latin typeface="Times New Roman"/>
              </a:rPr>
              <a:t>1-1 ..... Por qué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323dc"/>
                </a:solidFill>
                <a:latin typeface="Times New Roman"/>
              </a:rPr>
              <a:t>           … </a:t>
            </a:r>
            <a:r>
              <a:rPr b="0" lang="en-US" sz="1600" spc="-1" strike="noStrike">
                <a:solidFill>
                  <a:srgbClr val="2323dc"/>
                </a:solidFill>
                <a:latin typeface="Times New Roman"/>
              </a:rPr>
              <a:t>porque se puede quizas implementar  mejor usando agregación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2323dc"/>
                </a:solidFill>
                <a:latin typeface="Times New Roman"/>
              </a:rPr>
              <a:t>                        </a:t>
            </a:r>
            <a:r>
              <a:rPr b="0" lang="en-US" sz="1600" spc="-1" strike="noStrike">
                <a:solidFill>
                  <a:srgbClr val="2323dc"/>
                </a:solidFill>
                <a:latin typeface="Times New Roman"/>
              </a:rPr>
              <a:t>Tiene sentido el directorio sin una compañi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2323dc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 común: </a:t>
            </a:r>
            <a:r>
              <a:rPr b="0" lang="en-US" sz="1600" spc="-1" strike="noStrike">
                <a:solidFill>
                  <a:srgbClr val="2323dc"/>
                </a:solidFill>
                <a:latin typeface="Times New Roman"/>
              </a:rPr>
              <a:t>crear una asociación 1-1 entre dos clases donde las dos clases son sólo u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828800" y="3705120"/>
            <a:ext cx="5791320" cy="1781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12640" y="5170320"/>
            <a:ext cx="80949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a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 símbolo </a:t>
            </a:r>
            <a:r>
              <a:rPr b="0" lang="en-US" sz="1600" spc="-1" strike="noStrike">
                <a:solidFill>
                  <a:srgbClr val="2323dc"/>
                </a:solidFill>
                <a:latin typeface="Times New Roman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ignifica variable de instancia o método  público. La herramienta usada n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uestra las variables de instancia si son privadas por eso están públicas en el diagrama. </a:t>
            </a:r>
            <a:r>
              <a:rPr b="0" lang="en-US" sz="1600" spc="-1" strike="noStrike">
                <a:solidFill>
                  <a:srgbClr val="ff3333"/>
                </a:solidFill>
                <a:latin typeface="Times New Roman"/>
              </a:rPr>
              <a:t>En u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3333"/>
                </a:solidFill>
                <a:latin typeface="Times New Roman"/>
              </a:rPr>
              <a:t>implementación correcta deben ser privada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aparecer antecedidas por el signo </a:t>
            </a:r>
            <a:r>
              <a:rPr b="0" lang="en-US" sz="1600" spc="-1" strike="noStrike">
                <a:solidFill>
                  <a:srgbClr val="2323dc"/>
                </a:solidFill>
                <a:latin typeface="Times New Roman"/>
              </a:rPr>
              <a:t> -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-158760"/>
            <a:ext cx="8213760" cy="13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Relaciones entre  clases: Asociaciones</a:t>
            </a: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33"/>
                </a:solidFill>
                <a:latin typeface="Arial"/>
              </a:rPr>
              <a:t>([7])</a:t>
            </a: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914400"/>
            <a:ext cx="487836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izando y validando asociaciones:</a:t>
            </a:r>
            <a:r>
              <a:rPr b="0" lang="en-US" sz="2400" spc="-1" strike="noStrike">
                <a:solidFill>
                  <a:srgbClr val="0047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324080" y="1828800"/>
            <a:ext cx="6448320" cy="1009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61960" y="3200400"/>
            <a:ext cx="3038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2323dc"/>
                </a:solidFill>
                <a:latin typeface="Times New Roman"/>
              </a:rPr>
              <a:t>Qué significa?  Es correct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-158760"/>
            <a:ext cx="8213760" cy="13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Relaciones entre  clases: Asociaciones</a:t>
            </a: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33"/>
                </a:solidFill>
                <a:latin typeface="Arial"/>
              </a:rPr>
              <a:t>([7])</a:t>
            </a: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61960" y="3200400"/>
            <a:ext cx="3038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3360" y="1222200"/>
            <a:ext cx="7626240" cy="15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323dc"/>
                </a:solidFill>
                <a:latin typeface="Times New Roman"/>
              </a:rPr>
              <a:t>Clases asociacione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arecen cuando ciertos atributos no pueden    ser asignados a ninguna de las dos cla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057400" y="2495520"/>
            <a:ext cx="4248000" cy="704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28600" y="3429000"/>
            <a:ext cx="3657600" cy="1371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943360" y="5133960"/>
            <a:ext cx="5972040" cy="80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5520" y="-158760"/>
            <a:ext cx="8213760" cy="13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Relaciones entre  clases: Asociaciones</a:t>
            </a: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33"/>
                </a:solidFill>
                <a:latin typeface="Arial"/>
              </a:rPr>
              <a:t>([7])</a:t>
            </a: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61960" y="3200400"/>
            <a:ext cx="3038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1222200"/>
            <a:ext cx="7626240" cy="12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323dc"/>
                </a:solidFill>
                <a:latin typeface="Times New Roman"/>
              </a:rPr>
              <a:t>Asociaciones reflexiva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a clase se conecta a si mi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4735440"/>
            <a:ext cx="800100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323dc"/>
                </a:solidFill>
                <a:latin typeface="Times New Roman"/>
              </a:rPr>
              <a:t>Nota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xisten asociaciones simétricas (el rol de cada clase s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ramente diferentes) y simétricas. Para diferenciarlas rotular las primeras con nombre de rol y las segundas con un nomb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835520" y="2860560"/>
            <a:ext cx="2114640" cy="1133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143000" y="2743200"/>
            <a:ext cx="2181240" cy="137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5520" y="-158760"/>
            <a:ext cx="8213760" cy="13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Relaciones entre  clases: Asociaciones</a:t>
            </a: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33"/>
                </a:solidFill>
                <a:latin typeface="Arial"/>
              </a:rPr>
              <a:t>([7])</a:t>
            </a: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1960" y="3200400"/>
            <a:ext cx="3038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222200"/>
            <a:ext cx="7626240" cy="15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323dc"/>
                </a:solidFill>
                <a:latin typeface="Times New Roman"/>
              </a:rPr>
              <a:t>Asociaciones direccionale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 posible limitar la dirección de la asociación hacia un extre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4800600"/>
            <a:ext cx="6459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323dc"/>
                </a:solidFill>
                <a:latin typeface="Times New Roman"/>
              </a:rPr>
              <a:t>Not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decisión de dejar una asociación unidireccional 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mienda tomarla cuando se tiene un diseño bien detall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932200" y="3022560"/>
            <a:ext cx="3324240" cy="82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ncy hitschfeld</cp:lastModifiedBy>
  <cp:revision>0</cp:revision>
  <dc:subject/>
  <dc:title>Capítulo 3 Aspectos Básicos de Diseño</dc:title>
</cp:coreProperties>
</file>