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071720" y="728280"/>
            <a:ext cx="515592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1575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140360" y="0"/>
            <a:ext cx="3157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119880"/>
            <a:ext cx="315756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5720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18F38-71F2-479A-82C9-ACF076097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7964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relaciones entre clases más comune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pecialización (o generalización). Esta relación se conoce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"Is a", dado que los objetos de la subclase son también objetos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uper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Parte/Todo: el objeto descrito por la clase esta compues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 definidos por otr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Asociación: Denota una dependencia semántica entre l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objetos existen  independientemente y colaboran para log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 objetivo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De Uso:  Es cuando un objeto es cliente de otro. Por 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 usa para calcular ciertos val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28680" y="728640"/>
            <a:ext cx="4856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72720" y="4559400"/>
            <a:ext cx="5365800" cy="114314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buena clase se caracteriza por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tá definida por su interfaz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sus métodos no requieren un cierto orden de uso, es decir, que algu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ban ser llamados siempre antes que otros. Este principio de con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o la  lista de compras, pues cuando una persona va al supermercad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uede comenzar comprando cualquiera de los productos ano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 descripción de la clase y de cada uno de los métodos 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ber en una página, de lo contrario el código no es muy leg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debe definir contratos para ayudar a la depura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ograma y la descripción de la clase. Si un contrato reclam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precondición, el culpable es el objeto que llama a ese métod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uario.  Si un contrato se cae en una postcondición, el program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étodo debe revisar el código escrito. Si el invar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iene problemas, también le corresponde al desarroll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stema revisarlo. Por ello hasta es una herramienta muy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la depuración, pues el programa deja de funcionar 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produce el error (el error no se propaga en el códig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B96-F983-4BA9-BCCB-884D3DC6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95E-327F-40E0-B016-BF4DAD46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580-468D-4621-BC5E-585E1FC1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BBF-D1C6-481B-B3CB-2E8DEADF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1EF-37EA-477D-BF2B-AAAAFFED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6AD-9EAF-4FF3-B99B-B519E016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A58-29A0-4BEE-BE4E-0F8B4E0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7F8-3E89-42F4-BE48-A65CB2E9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65520"/>
            <a:ext cx="82137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726-DD18-4358-B8A0-74706BA9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2DD-88C1-4961-8D56-1A52B3F8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C92-8C47-4B48-B38F-6DF494F1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FFE-63A6-4E88-AC94-BD59836B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28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78A9D-313F-4453-9D25-15809BB3F1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464760"/>
            <a:ext cx="6877080" cy="11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spectos Básicos de Diseñ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971800"/>
            <a:ext cx="6400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14280"/>
            <a:ext cx="81532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onocimiento de la implementaci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 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grado su implementación depende del tipo al que es asign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uy dependiente =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luirlo en clase asoc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e decidir en caso que dos criterios den resultados distint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Usar criterio de mayor peso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pende de los requerimientos de la apl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142920"/>
            <a:ext cx="8076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665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/gener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e/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PART-OF, HA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gación y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más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53960"/>
            <a:ext cx="8076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rosa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n rosas de diferentes  co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flor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e compone 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étalos, arom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us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 néctar de  las flores para alime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ayud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polinizar las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lavel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r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453960"/>
            <a:ext cx="86104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4800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81867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4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ferencia entre  composición y agre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Composi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la  variable de instancia está ligada a la del objeto que la 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Agrega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 la variable  de instancia es independiente del objeto que la co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38862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46440"/>
            <a:ext cx="8415360" cy="1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clases (5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9718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4864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886200"/>
            <a:ext cx="144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114800"/>
            <a:ext cx="22860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07920" y="3886200"/>
            <a:ext cx="26964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114800"/>
            <a:ext cx="29718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581360"/>
            <a:ext cx="2241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Asociación diri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3141720"/>
            <a:ext cx="604980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mplementación de una interf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157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126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de us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-65160"/>
            <a:ext cx="8034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Cuándo  usar herencia?    [Alb87]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62920" cy="596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2323dc"/>
                </a:solidFill>
                <a:latin typeface="Arial"/>
              </a:rPr>
              <a:t>Subtip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 forma natural: subconjun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objeto  heredado válido en el  contexto de clase 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 objeto heredado  redefine métodos y/o  agrega  nue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as en caso contrari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Malos dis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Falsas expect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514440"/>
            <a:ext cx="803448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600200"/>
            <a:ext cx="796284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s subconjuntos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isma interfaz, distinta imple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bi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ubclase subconjunto de dos o más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3960"/>
            <a:ext cx="80341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6160" y="2057400"/>
            <a:ext cx="4371840" cy="24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-85680"/>
            <a:ext cx="81867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¿Cuándo NO usar herenci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48860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neralización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generalización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rianz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hermano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rrores comu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de 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 privadamente (C++).   Alternativa: agregación o 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9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ño de  una buena c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aciones entre 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ación U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o correcto  de h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trones de 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aluación de  diseños: 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42880"/>
            <a:ext cx="7162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ómo diseñar  una buena clase?  [Mey97]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162920" cy="39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ase conocida  por su interfaz  (método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cipio de  lista de comp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pción simple y coherente  (no más de   una págin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mbre aprop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o  de  contratos:    precondiciones,  post   condiciones e invariantes (depuración y documentación) [Mey9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canismo  de excepción  para  situaciones   anor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239400"/>
            <a:ext cx="7162920" cy="13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323dc"/>
                </a:solidFill>
                <a:latin typeface="Arial"/>
              </a:rPr>
              <a:t>Pasos a seguir: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(enfoque minimal)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742840"/>
            <a:ext cx="6286320" cy="28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contrar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r su métodos públicos (interfa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finir su implementac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ceso iterativo e increm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321840"/>
            <a:ext cx="716292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Qu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é puede ser un objeto?</a:t>
            </a:r>
            <a:br>
              <a:rPr sz="36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  <a:ea typeface="Arial"/>
              </a:rPr>
              <a:t>[Daniel Halbert y Patrick O'Brien: “Using Types and ...”  ]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6591240" cy="47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Cosas reales o abstr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os, cuentas y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, cola y 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nar, iterador, forma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mo diseñar la interfaz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560" y="1371240"/>
            <a:ext cx="6896160" cy="55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de poner una funcionali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bir un estudiante en un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ur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studian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r una nuev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p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hay una regla clara: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</a:rPr>
              <a:t>depende de los requerimientos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amin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lic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cimiento de la implementa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us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útil este comportamiento en más de un contex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rear clase si  el comportamiento puede ser reusado en varios contextos u otras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correr una lista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mismo recorrido puede ser aplicado a varias listas. (Patrón de diseñ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cepto de rect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gulo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do en ventana y figuras g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plic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886040"/>
            <a:ext cx="7048800" cy="33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relevante es un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Desea la mayor parte de los clientes us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vertir a may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ú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cul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o método en clase String (es solo relevante aqu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í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clase aparte (no es método clásico asociado a String). En Jav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lej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difícil es implement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Crear una clase si el comportamiento es comp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alcular el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a  es sim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incluir  en R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ínea  es complejo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delar este porceso como una 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tersec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 de figuras: va en mas de una clase el mismo método y es complejo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ar  como un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cy hitschfeld</cp:lastModifiedBy>
  <cp:revision>0</cp:revision>
  <dc:subject/>
  <dc:title>Capítulo 3 Aspectos Básicos de Diseño</dc:title>
</cp:coreProperties>
</file>