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071720" y="728280"/>
            <a:ext cx="5155920" cy="35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1575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4"/>
          </p:nvPr>
        </p:nvSpPr>
        <p:spPr>
          <a:xfrm>
            <a:off x="4140360" y="0"/>
            <a:ext cx="31572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9119880"/>
            <a:ext cx="3157560" cy="46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57200" cy="46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68557-06F5-43BD-8B86-E0EF9A76BD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7964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s relaciones entre clases más comune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Especialización (o generalización). Esta relación se conoce 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"Is a", dado que los objetos de la subclase son también objetos d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uper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Parte/Todo: el objeto descrito por la clase esta compuest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bjetos definidos por otras cl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Asociación: Denota una dependencia semántica entre las cl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s objetos existen  independientemente y colaboran para log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n objetivo comú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De Uso:  Es cuando un objeto es cliente de otro. Por 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 usa para calcular ciertos val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28680" y="728640"/>
            <a:ext cx="48560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72720" y="4559400"/>
            <a:ext cx="5365800" cy="114314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na buena clase se caracteriza por l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está definida por su interfaz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sus métodos no requieren un cierto orden de uso, es decir, que algu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ban ser llamados siempre antes que otros. Este principio de con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mo la  lista de compras, pues cuando una persona va al supermercad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uede comenzar comprando cualquiera de los productos ano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 descripción de la clase y de cada uno de los métodos  de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ber en una página, de lo contrario el código no es muy legib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debe definir contratos para ayudar a la depuración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rograma y la descripción de la clase. Si un contrato reclam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precondición, el culpable es el objeto que llama a ese métod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usuario.  Si un contrato se cae en una postcondición, el programador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étodo debe revisar el código escrito. Si el invari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tiene problemas, también le corresponde al desarrollador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istema revisarlo. Por ello hasta es una herramienta muy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a la depuración, pues el programa deja de funcionar 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 produce el error (el error no se propaga en el códig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592-9FCD-4382-AA4F-86BB73A0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989-AF7B-4DCC-8D51-F3BA8242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BBF-B51B-480D-B232-420D9C01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546D-9F3F-4EEF-86A4-2FD99A79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793-8931-4497-8DF6-AEF29BF5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556-5F98-48F5-A14B-C26C8F29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57D-0497-4360-91C3-19C921B5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244-1E21-4D52-928E-96DF74FD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520" y="-65520"/>
            <a:ext cx="821376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100-5A1B-4DEB-B33C-DDF154FF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8E2-27EE-4055-ADF2-9B41099C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5C3-EE71-45DA-9B25-AF938E75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80F-7847-400F-8522-AA337F74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6720"/>
            <a:ext cx="2114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828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14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639FC-9507-4C51-9DC3-2022F9FAEA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464760"/>
            <a:ext cx="6877080" cy="11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spectos Básicos de Diseñ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971800"/>
            <a:ext cx="6400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81d58"/>
                </a:solidFill>
                <a:latin typeface="Arial"/>
              </a:rPr>
              <a:t>Universidad de 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81d58"/>
                </a:solidFill>
                <a:latin typeface="Arial"/>
              </a:rPr>
              <a:t>Departamento de Ciencias de la Comp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   </a:t>
            </a:r>
            <a:r>
              <a:rPr b="1" lang="en-GB" sz="1800" spc="-1" strike="noStrike">
                <a:solidFill>
                  <a:srgbClr val="081d58"/>
                </a:solidFill>
                <a:latin typeface="Arial"/>
              </a:rPr>
              <a:t>Prof.: Nancy Hitschfeld Kah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14280"/>
            <a:ext cx="81532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Conocimiento de la implementaci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  <a:ea typeface="Arial"/>
              </a:rPr>
              <a:t>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52200" y="1885680"/>
            <a:ext cx="7162920" cy="48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 q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é grado su implementación depende del tipo al que es asign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Muy dependiente =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cluirlo en clase asoc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e decidir en caso que dos criterios den resultados distint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Usar criterio de mayor peso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epende de los requerimientos de la aplic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142920"/>
            <a:ext cx="8076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Relaciones entre  clase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665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pecialización/general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-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rte/To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-PART-OF, HAS-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gación y com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oci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abo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 u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ción más dé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53960"/>
            <a:ext cx="8076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laciones entre  clases (2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6292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rosa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 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na  f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en rosas de diferentes  co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flor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se compone 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étalos, arom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abejas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us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l néctar de  las flores para aliment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abejas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ayuda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polinizar las f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clavel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tra  f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453960"/>
            <a:ext cx="861048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Relaciones entre  clases (3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057400" y="2057400"/>
            <a:ext cx="480060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81867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laciones entre  clases (4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ferencia entre  composición y agre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Composición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mpo de  vida de la  variable de instancia está ligada a la del objeto que la cont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Agregación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mpo de  vida de  la variable  de instancia es independiente del objeto que la conti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971800" y="3657600"/>
            <a:ext cx="38862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-46440"/>
            <a:ext cx="8415360" cy="1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laciones entre clases (5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971800"/>
            <a:ext cx="3200400" cy="144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486400"/>
            <a:ext cx="3200400" cy="1440"/>
          </a:xfrm>
          <a:prstGeom prst="line">
            <a:avLst/>
          </a:prstGeom>
          <a:ln w="9360">
            <a:solidFill>
              <a:srgbClr val="33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3886200"/>
            <a:ext cx="1440" cy="457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4114800"/>
            <a:ext cx="228600" cy="2286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07920" y="3886200"/>
            <a:ext cx="269640" cy="2286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4114800"/>
            <a:ext cx="2971800" cy="144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4581360"/>
            <a:ext cx="2241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 Asociación dirig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3141720"/>
            <a:ext cx="604980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mplementación de una interf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157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126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ción de us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-65160"/>
            <a:ext cx="8034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¿Cuándo  usar herencia?    [Alb87]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62920" cy="596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2323dc"/>
                </a:solidFill>
                <a:latin typeface="Arial"/>
              </a:rPr>
              <a:t>Subtipo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 forma natural: subconjunt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l objeto  heredado válido en el  contexto de clase 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l  objeto heredado  redefine métodos y/o  agrega  nue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as en caso contrari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33"/>
                </a:solidFill>
                <a:latin typeface="Arial"/>
              </a:rPr>
              <a:t>Malos dise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33"/>
                </a:solidFill>
                <a:latin typeface="Arial"/>
              </a:rPr>
              <a:t>Falsas expect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514440"/>
            <a:ext cx="803448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¿Cuándo  usar herencia?(2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600200"/>
            <a:ext cx="796284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pecial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ubclases subconjuntos de clas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misma interfaz, distinta imple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mbi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subclase subconjunto de dos o más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3960"/>
            <a:ext cx="80341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¿Cuándo  usar herencia?(3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6160" y="2057400"/>
            <a:ext cx="4371840" cy="24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9680" y="-85680"/>
            <a:ext cx="81867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¿Cuándo NO usar herenci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48860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eneralización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ubclase generalización de clas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arianz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ubclase hermano de clas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rrores comu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Heredar de  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Heredar  privadamente (C++).   Alternativa: agregación o  com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885680"/>
            <a:ext cx="7162920" cy="49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eño de  una buena cl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laciones entre  cl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tación U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o correcto  de h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trones de dise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aluación de  diseños: Métr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42880"/>
            <a:ext cx="71625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¿Cómo diseñar  una buena clase?  [Mey97]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162920" cy="391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lase conocida  por su interfaz  (métodos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incipio de  lista de comp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cripción simple y coherente  (no más de   una página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mbre aprop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o  de  contratos:    precondiciones,  post   condiciones e invariantes (depuración y documentación) [Mey97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canismo  de excepción  para  situaciones   anor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9680" y="239400"/>
            <a:ext cx="7162920" cy="13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2323dc"/>
                </a:solidFill>
                <a:latin typeface="Arial"/>
              </a:rPr>
              <a:t>Pasos a seguir: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(enfoque minimal)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0280" y="2742840"/>
            <a:ext cx="6286320" cy="28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contrar ob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r su métodos públicos (interfa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finir su implementac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ceso iterativo e increm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9680" y="321840"/>
            <a:ext cx="7162920" cy="8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¿Qu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  <a:ea typeface="Arial"/>
              </a:rPr>
              <a:t>é puede ser un objeto?</a:t>
            </a:r>
            <a:br>
              <a:rPr sz="36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  <a:ea typeface="Arial"/>
              </a:rPr>
              <a:t>[Daniel Halbert y Patrick O'Brien: “Using Types and ...”  ]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6591240" cy="471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323dc"/>
                </a:solidFill>
                <a:latin typeface="Arial"/>
              </a:rPr>
              <a:t>Cosas reales o abstr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os, cuentas y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la, cola y gra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323dc"/>
                </a:solidFill>
                <a:latin typeface="Arial"/>
              </a:rPr>
              <a:t>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denar, iterador, forma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C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  <a:ea typeface="Arial"/>
              </a:rPr>
              <a:t>ómo diseñar la interfaz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560" y="1371240"/>
            <a:ext cx="6896160" cy="557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nde poner una funcionalida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inscribir un estudiante en un 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la clase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urs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la clase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studian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r una nueva clase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Inscripci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ó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hay una regla clara: </a:t>
            </a:r>
            <a:r>
              <a:rPr b="0" lang="en-GB" sz="1800" spc="-1" strike="noStrike">
                <a:solidFill>
                  <a:srgbClr val="94476b"/>
                </a:solidFill>
                <a:latin typeface="Arial"/>
              </a:rPr>
              <a:t>depende de los requerimientos de la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amina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u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lic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ocimiento de la implementac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usabil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1885680"/>
            <a:ext cx="7162920" cy="45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útil este comportamiento en más de un contex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rear clase si  el comportamiento puede ser reusado en varios contextos u otras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Recorrer una lista 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mismo recorrido puede ser aplicado a varias listas. (Patrón de diseñ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oncepto de rect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gulo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usado en ventana y figuras g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plicabil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886040"/>
            <a:ext cx="7048800" cy="33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é tan relevante es un comportami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Desea la mayor parte de los clientes usar este comportami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onvertir a may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ú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cul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mo método en clase String (es solo relevante aqu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arsing de una l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í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 clase aparte (no es método clásico asociado a String). En Jav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mplej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é tan difícil es implementar este comportami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Crear una clase si el comportamiento es compl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alcular el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rea  es simp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incluir  en Rec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arsing de una línea  es complejo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odelar este porceso como una 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Intersecci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ó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 de figuras: va en mas de una clase el mismo método y es complejo;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ar  como una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ncy hitschfeld</cp:lastModifiedBy>
  <cp:revision>0</cp:revision>
  <dc:subject/>
  <dc:title>Capítulo 3 Aspectos Básicos de Diseño</dc:title>
</cp:coreProperties>
</file>