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071720" y="728280"/>
            <a:ext cx="5155920" cy="35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0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315756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dt" idx="4"/>
          </p:nvPr>
        </p:nvSpPr>
        <p:spPr>
          <a:xfrm>
            <a:off x="4140360" y="0"/>
            <a:ext cx="3157200" cy="4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ftr" idx="5"/>
          </p:nvPr>
        </p:nvSpPr>
        <p:spPr>
          <a:xfrm>
            <a:off x="-360" y="9119880"/>
            <a:ext cx="315756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 type="sldNum" idx="6"/>
          </p:nvPr>
        </p:nvSpPr>
        <p:spPr>
          <a:xfrm>
            <a:off x="4140360" y="9119880"/>
            <a:ext cx="3157200" cy="46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85A49-036C-4E6F-A8D9-4735A9C5BA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79642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relaciones entre clases más comunes s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pecialización (o generalización). Esta relación se conoce co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"Is a", dado que los objetos de la subclase son también objetos d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upercl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Parte/Todo: el objeto descrito por la clase esta compuesto 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objetos definidos por otr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Asociación: Denota una dependencia semántica entre las clas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s objetos existen  independientemente y colaboran para log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 objetivo comú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De Uso:  Es cuando un objeto es cliente de otro. Por 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o usa para calcular ciertos val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972720" y="4559040"/>
            <a:ext cx="5365800" cy="384948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diagrama representa las siguiente rela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Una rosa "es una" flor, por lo tanto rosa es más especializada que fl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Pétalo no es un tipo de flor, pero si es parte de una f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Abejas y flores cooperan entre s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228680" y="728640"/>
            <a:ext cx="48560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72720" y="4559400"/>
            <a:ext cx="5365800" cy="11431440"/>
          </a:xfrm>
          <a:prstGeom prst="rect">
            <a:avLst/>
          </a:prstGeom>
          <a:noFill/>
          <a:ln w="0">
            <a:noFill/>
          </a:ln>
        </p:spPr>
        <p:txBody>
          <a:bodyPr lIns="97200" rIns="97200" tIns="48600" bIns="486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Una buena clase se caracteriza por lo siguien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está definida por su interfaz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sus métodos no requieren un cierto orden de uso, es decir, que algun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deban ser llamados siempre antes que otros. Este principio de cono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omo la  lista de compras, pues cuando una persona va al supermercado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uede comenzar comprando cualquiera de los productos ano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la descripción de la clase y de cada uno de los métodos  de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caber en una página, de lo contrario el código no es muy legibl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- debe definir contratos para ayudar a la depuración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rograma y la descripción de la clase. Si un contrato reclama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la precondición, el culpable es el objeto que llama a ese método 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el usuario.  Si un contrato se cae en una postcondición, el program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étodo debe revisar el código escrito. Si el invari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tiene problemas, también le corresponde al desarrollador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istema revisarlo. Por ello hasta es una herramienta muy út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para la depuración, pues el programa deja de funcionar don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se produce el error (el error no se propaga en el códig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39840" y="727200"/>
            <a:ext cx="4835520" cy="3587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BFEB-CC4B-4E4F-8B38-4F6F93542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088F-05CC-42DE-9972-91F0AF1EF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67DB-8E6B-4A7F-9ED4-C07ABBD1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42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1640" y="160488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42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1640" y="3960720"/>
            <a:ext cx="26445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C2A8-11FD-4355-B38E-22906487A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8D85-4DB6-4A5D-8A22-1E145BE76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F7D4-FA0A-4CA3-A2EE-128F1BA3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B1E-CB6B-4760-B0B9-02B831885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EC79-81B2-40B1-8CA9-AEF79B41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520" y="-65520"/>
            <a:ext cx="8213760" cy="577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3037-C486-4AE1-88C5-F5707D327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095CF-68EB-4E7C-B67A-17844B8E9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396072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6C5B-D511-4852-BA54-5152F7AF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604880"/>
            <a:ext cx="400824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0720"/>
            <a:ext cx="8213760" cy="21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76A3-73C9-42A7-94B8-0FC74F6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520" y="-65520"/>
            <a:ext cx="821376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7320" y="6246720"/>
            <a:ext cx="28828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6320" y="6246720"/>
            <a:ext cx="211464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3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44E16C-E520-448D-A93B-0FDAEFC4F01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28440" y="464760"/>
            <a:ext cx="6877080" cy="11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br>
              <a:rPr sz="4400"/>
            </a:b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Aspectos Básicos de Diseñ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86000" y="2971800"/>
            <a:ext cx="6400800" cy="24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81d58"/>
                </a:solidFill>
                <a:latin typeface="Arial"/>
              </a:rPr>
              <a:t>Universidad de Chi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Departamento de Ciencias de la Compu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81d58"/>
                </a:solidFill>
                <a:latin typeface="Arial"/>
              </a:rPr>
              <a:t>                      </a:t>
            </a:r>
            <a:r>
              <a:rPr b="1" lang="en-GB" sz="1800" spc="-1" strike="noStrike">
                <a:solidFill>
                  <a:srgbClr val="081d58"/>
                </a:solidFill>
                <a:latin typeface="Arial"/>
              </a:rPr>
              <a:t>Prof.: Nancy Hitschfeld Kah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14280"/>
            <a:ext cx="81532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onocimiento de la implementaci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87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 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grado su implementación depende del tipo al que es asign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uy dependiente =&gt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ncluirlo en clase asoci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e decidir en caso que dos criterios den resultados distintos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Usar criterio de mayor peso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depende de los requerimientos de la apl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-142920"/>
            <a:ext cx="80769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040" y="1295280"/>
            <a:ext cx="7162920" cy="665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/gener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er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rte/To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-PART-OF, HAS-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gación y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oci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 u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más déb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53960"/>
            <a:ext cx="8076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294920"/>
            <a:ext cx="716292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rosa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 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un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n rosas de diferentes  co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na flor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e compone  d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étalos, arom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usa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l néctar de  las flores para alimenta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s abejas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ayudan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 polinizar las fl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lavel </a:t>
            </a: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tra  f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320" y="453960"/>
            <a:ext cx="861048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Relaciones entre  clases 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057400" y="2057400"/>
            <a:ext cx="4800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81867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 clases (4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ferencia entre  composición y agreg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Composi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la  variable de instancia está ligada a la del objeto que la 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2323dc"/>
                </a:solidFill>
                <a:latin typeface="Arial"/>
              </a:rPr>
              <a:t>Agregación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iempo de  vida de  la variable  de instancia es independiente del objeto que la contie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2971800" y="3657600"/>
            <a:ext cx="38862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0040" y="-46440"/>
            <a:ext cx="8415360" cy="14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laciones entre clases (5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29718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28800" y="5486400"/>
            <a:ext cx="3200400" cy="1440"/>
          </a:xfrm>
          <a:prstGeom prst="line">
            <a:avLst/>
          </a:prstGeom>
          <a:ln w="9360">
            <a:solidFill>
              <a:srgbClr val="3333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57400" y="3886200"/>
            <a:ext cx="1440" cy="4572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828800" y="4114800"/>
            <a:ext cx="22860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1807920" y="3886200"/>
            <a:ext cx="269640" cy="22860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057400" y="4114800"/>
            <a:ext cx="2971800" cy="1440"/>
          </a:xfrm>
          <a:prstGeom prst="line">
            <a:avLst/>
          </a:prstGeom>
          <a:ln w="9360">
            <a:solidFill>
              <a:srgbClr val="3333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13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4581360"/>
            <a:ext cx="2241360" cy="41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- Asociación dirig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3141720"/>
            <a:ext cx="6049800" cy="4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19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- Implementación de una interf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52200" y="1371240"/>
            <a:ext cx="7157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126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lación de uso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0040" y="-65160"/>
            <a:ext cx="803448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Cuándo  usar herencia?    [Alb87]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371240"/>
            <a:ext cx="7162920" cy="5961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2323dc"/>
                </a:solidFill>
                <a:latin typeface="Arial"/>
              </a:rPr>
              <a:t>Subtipo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( forma natural: subconjunto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¿Por qué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objeto  heredado válido en el  contexto de clase 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l  objeto heredado  redefine métodos y/o  agrega  n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blemas en caso contrari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Malos diseñ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ff3333"/>
                </a:solidFill>
                <a:latin typeface="Arial"/>
              </a:rPr>
              <a:t>Falsas expectativ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00040" y="514440"/>
            <a:ext cx="8034480" cy="704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2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2200" y="1600200"/>
            <a:ext cx="7962840" cy="492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pecializ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s subconjuntos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Implemen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misma interfaz, distinta implement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Combin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Arial"/>
              </a:rPr>
              <a:t>subclase subconjunto de dos o más cl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160" y="453960"/>
            <a:ext cx="80341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uándo  usar herencia?(3)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486160" y="2057400"/>
            <a:ext cx="4371840" cy="24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99680" y="-85680"/>
            <a:ext cx="81867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333333"/>
                </a:solidFill>
                <a:latin typeface="Arial"/>
              </a:rPr>
              <a:t>¿Cuándo NO usar herencia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040" y="1488600"/>
            <a:ext cx="716292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eneralización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generalización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Varianza: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ubclase hermano de clase pad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rrores comune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de  p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Heredar  privadamente (C++).   Alternativa: agregación o  composi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ntenido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9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ño de  una buena cl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Relaciones entre  cl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otación U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Uso correcto  de her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atrones de diseñ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valuación de  diseños: Métric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542880"/>
            <a:ext cx="7162560" cy="128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¿Cómo diseñar  una buena clase?  [Mey97]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162920" cy="391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lase conocida  por su interfaz  (métodos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incipio de  lista de compr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scripción simple y coherente  (no más de   una página)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mbre apropia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so  de  contratos:    precondiciones,  post   condiciones e invariantes (depuración y documentación) [Mey97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canismo  de excepción  para  situaciones   anorma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9680" y="239400"/>
            <a:ext cx="7162920" cy="13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2323dc"/>
                </a:solidFill>
                <a:latin typeface="Arial"/>
              </a:rPr>
              <a:t>Pasos a seguir:</a:t>
            </a: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(enfoque minimal)</a:t>
            </a:r>
            <a:r>
              <a:rPr b="1" lang="en-GB" sz="2800" spc="-1" strike="noStrike">
                <a:solidFill>
                  <a:srgbClr val="333333"/>
                </a:solidFill>
                <a:latin typeface="Arial"/>
              </a:rPr>
              <a:t>‏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00280" y="2742840"/>
            <a:ext cx="628632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ncontrar objet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ise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ñ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r su métodos públicos (interfaz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finir su implementaci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Proceso iterativo e incremen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99680" y="321840"/>
            <a:ext cx="7162920" cy="87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¿Qu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é puede ser un objeto?</a:t>
            </a:r>
            <a:br>
              <a:rPr sz="36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  <a:ea typeface="Arial"/>
              </a:rPr>
              <a:t>[Daniel Halbert y Patrick O'Brien: “Using Types and ...”  ]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6591240" cy="471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Cosas reales o abstr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í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os, cuentas y perso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ila, cola y graf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2323dc"/>
                </a:solidFill>
                <a:latin typeface="Arial"/>
              </a:rPr>
              <a:t>Proc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rdenar, iterador, formate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000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70000"/>
                <a:tab algn="l" pos="382680"/>
                <a:tab algn="l" pos="839880"/>
                <a:tab algn="l" pos="1297080"/>
                <a:tab algn="l" pos="1754280"/>
                <a:tab algn="l" pos="2211480"/>
                <a:tab algn="l" pos="2668680"/>
                <a:tab algn="l" pos="3125880"/>
                <a:tab algn="l" pos="3583080"/>
                <a:tab algn="l" pos="4040280"/>
                <a:tab algn="l" pos="4497480"/>
                <a:tab algn="l" pos="4954680"/>
                <a:tab algn="l" pos="5411880"/>
                <a:tab algn="l" pos="5869080"/>
                <a:tab algn="l" pos="6326280"/>
                <a:tab algn="l" pos="6783480"/>
                <a:tab algn="l" pos="7240680"/>
                <a:tab algn="l" pos="7697880"/>
                <a:tab algn="l" pos="8155080"/>
                <a:tab algn="l" pos="8612280"/>
                <a:tab algn="l" pos="906948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333333"/>
                </a:solidFill>
                <a:latin typeface="Arial"/>
              </a:rPr>
              <a:t>C</a:t>
            </a:r>
            <a:r>
              <a:rPr b="1" lang="en-GB" sz="3600" spc="-1" strike="noStrike">
                <a:solidFill>
                  <a:srgbClr val="333333"/>
                </a:solidFill>
                <a:latin typeface="Arial"/>
                <a:ea typeface="Arial"/>
              </a:rPr>
              <a:t>ómo diseñar la interfaz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2560" y="1371240"/>
            <a:ext cx="6896160" cy="557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onde poner una funcionalidad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jemplo: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bir un estudiante en un cu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urso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l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Estudiant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6520" indent="-222120">
              <a:lnSpc>
                <a:spcPct val="89000"/>
              </a:lnSpc>
              <a:spcBef>
                <a:spcPts val="675"/>
              </a:spcBef>
              <a:buClr>
                <a:srgbClr val="fc0128"/>
              </a:buClr>
              <a:buSzPct val="119000"/>
              <a:buFont typeface="Wingdings" charset="2"/>
              <a:buChar char="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r una nueva clase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scrip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o hay una regla clara: </a:t>
            </a:r>
            <a:r>
              <a:rPr b="0" lang="en-GB" sz="1800" spc="-1" strike="noStrike">
                <a:solidFill>
                  <a:srgbClr val="94476b"/>
                </a:solidFill>
                <a:latin typeface="Arial"/>
              </a:rPr>
              <a:t>depende de los requerimientos de la aplic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xaminar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lej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lic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ocimiento de la implementaci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352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Reus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52200" y="1885680"/>
            <a:ext cx="7162920" cy="458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s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útil este comportamiento en más de un contex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rear clase si  el comportamiento puede ser reusado en varios contextos u otras cl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correr una lista :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 mismo recorrido puede ser aplicado a varias listas. (Patrón de diseño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erato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cepto de rect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gulo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usado en ventana y figuras g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Aplicabil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886040"/>
            <a:ext cx="7048800" cy="334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relevante es un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Desea la mayor parte de los clientes us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Ejemplo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onvertir a may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ú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scula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omo método en clase String (es solo relevante aqu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í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e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clase aparte (no es método clásico asociado a String). En Java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99680" y="511200"/>
            <a:ext cx="716292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333333"/>
                </a:solidFill>
                <a:latin typeface="Arial"/>
              </a:rPr>
              <a:t>Complejidad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52200" y="1886040"/>
            <a:ext cx="7162920" cy="41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Qu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Arial"/>
              </a:rPr>
              <a:t>é tan difícil es implementar este comportamiento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Crear una clase si el comportamiento es complej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3520" indent="-26352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89000"/>
              <a:buFont typeface="Wingdings" charset="2"/>
              <a:buChar char="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Ejemplo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Calcular el 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rea  es simpl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; incluir  en Rec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á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gu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Parsing de una línea  es complejo;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modelar este porceso como una 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9320" indent="-222120">
              <a:lnSpc>
                <a:spcPct val="89000"/>
              </a:lnSpc>
              <a:spcBef>
                <a:spcPts val="825"/>
              </a:spcBef>
              <a:buClr>
                <a:srgbClr val="fc0128"/>
              </a:buClr>
              <a:buSzPct val="79000"/>
              <a:buFont typeface="Wingdings" charset="2"/>
              <a:buChar char=""/>
              <a:tabLst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Intersecci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  <a:ea typeface="Arial"/>
              </a:rPr>
              <a:t>ó</a:t>
            </a:r>
            <a:r>
              <a:rPr b="0" lang="en-GB" sz="2000" spc="-1" strike="noStrike">
                <a:solidFill>
                  <a:srgbClr val="2323dc"/>
                </a:solidFill>
                <a:latin typeface="Arial"/>
              </a:rPr>
              <a:t>n de figuras: va en mas de una clase el mismo método y es complejo;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delar  como una cl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63520"/>
                <a:tab algn="l" pos="376200"/>
                <a:tab algn="l" pos="833400"/>
                <a:tab algn="l" pos="1290600"/>
                <a:tab algn="l" pos="1747800"/>
                <a:tab algn="l" pos="2205000"/>
                <a:tab algn="l" pos="2662200"/>
                <a:tab algn="l" pos="3119400"/>
                <a:tab algn="l" pos="3576600"/>
                <a:tab algn="l" pos="4033800"/>
                <a:tab algn="l" pos="4491000"/>
                <a:tab algn="l" pos="4948200"/>
                <a:tab algn="l" pos="5405400"/>
                <a:tab algn="l" pos="5862600"/>
                <a:tab algn="l" pos="6319800"/>
                <a:tab algn="l" pos="6777000"/>
                <a:tab algn="l" pos="7234200"/>
                <a:tab algn="l" pos="7691400"/>
                <a:tab algn="l" pos="8148600"/>
                <a:tab algn="l" pos="8605800"/>
                <a:tab algn="l" pos="9063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ologías de diseño y programación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ncy hitschfeld</cp:lastModifiedBy>
  <cp:revision>0</cp:revision>
  <dc:subject/>
  <dc:title>Capítulo 3 Aspectos Básicos de Diseño</dc:title>
</cp:coreProperties>
</file>