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071720" y="728280"/>
            <a:ext cx="5155920" cy="35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15756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4"/>
          </p:nvPr>
        </p:nvSpPr>
        <p:spPr>
          <a:xfrm>
            <a:off x="4140360" y="0"/>
            <a:ext cx="31572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-360" y="9119880"/>
            <a:ext cx="3157560" cy="46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4140360" y="9119880"/>
            <a:ext cx="3157200" cy="46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1CE31-7C1E-4102-8FB0-CE382D7AAB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972720" y="4559040"/>
            <a:ext cx="5365800" cy="79642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s relaciones entre clases más comunes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Especialización (o generalización). Esta relación se conoce co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"Is a", dado que los objetos de la subclase son también objetos de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supercl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Parte/Todo: el objeto descrito por la clase esta compuest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objetos definidos por otras cl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Asociación: Denota una dependencia semántica entre las cl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s objetos existen  independientemente y colaboran para log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un objetivo comú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De Uso:  Es cuando un objeto es cliente de otro. Por 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o usa para calcular ciertos val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972720" y="4559040"/>
            <a:ext cx="5365800" cy="3849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diagrama representa las siguiente rela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Una rosa "es una" flor, por lo tanto rosa es más especializada que fl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Pétalo no es un tipo de flor, pero si es parte de una f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Abejas y flores cooperan entre 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228680" y="728640"/>
            <a:ext cx="48560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72720" y="4559400"/>
            <a:ext cx="5365800" cy="114314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Una buena clase se caracteriza por lo sigui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está definida por su interfaz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sus métodos no requieren un cierto orden de uso, es decir, que algu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deban ser llamados siempre antes que otros. Este principio de con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como la  lista de compras, pues cuando una persona va al supermercad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uede comenzar comprando cualquiera de los productos anot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la descripción de la clase y de cada uno de los métodos  de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caber en una página, de lo contrario el código no es muy legibl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debe definir contratos para ayudar a la depuración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rograma y la descripción de la clase. Si un contrato reclama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 precondición, el culpable es el objeto que llama a ese método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usuario.  Si un contrato se cae en una postcondición, el programador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étodo debe revisar el código escrito. Si el invari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tiene problemas, también le corresponde al desarrollador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sistema revisarlo. Por ello hasta es una herramienta muy ú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ara la depuración, pues el programa deja de funcionar 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se produce el error (el error no se propaga en el códig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06EE-8E8E-4199-9D8A-3B20223FE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072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AAC0-7580-463B-AE2C-31B89520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072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396072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8646-3325-4A1B-BAE6-6F31F8D6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240" y="160488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1640" y="160488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072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240" y="396072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1640" y="396072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6003-74F3-4728-AA88-3BB90C16F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2722-C8DD-4990-83AB-388ED595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7913-2CA2-4A36-9148-1AC61E9C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8B7E-E780-443B-85CA-768733BA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D0AF-117D-42AE-9D20-79CAE9B7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520" y="-65520"/>
            <a:ext cx="821376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4F1F-C95B-49D0-9844-10215E5D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072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DAC5-CB90-4740-99FE-0EC7A5C6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396072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5E80-5915-4285-9EB2-90584B1F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072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3355-3A6E-47FD-B631-316C5A1C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6720"/>
            <a:ext cx="21146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828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146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51CAC-DBD3-4C1F-9ECF-63E7D6EC76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440" y="464760"/>
            <a:ext cx="6877080" cy="11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400"/>
            </a:b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Aspectos Básicos de Diseñ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2971800"/>
            <a:ext cx="640080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81d58"/>
                </a:solidFill>
                <a:latin typeface="Arial"/>
              </a:rPr>
              <a:t>Universidad de Ch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81d58"/>
                </a:solidFill>
                <a:latin typeface="Arial"/>
              </a:rPr>
              <a:t>Departamento de Ciencias de la Compu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81d58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81d58"/>
                </a:solidFill>
                <a:latin typeface="Arial"/>
              </a:rPr>
              <a:t>                      </a:t>
            </a:r>
            <a:r>
              <a:rPr b="1" lang="en-GB" sz="1800" spc="-1" strike="noStrike">
                <a:solidFill>
                  <a:srgbClr val="081d58"/>
                </a:solidFill>
                <a:latin typeface="Arial"/>
              </a:rPr>
              <a:t>Prof.: Nancy Hitschfeld Kah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14280"/>
            <a:ext cx="81532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Conocimiento de la implementaci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  <a:ea typeface="Arial"/>
              </a:rPr>
              <a:t>ó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52200" y="1885680"/>
            <a:ext cx="7162920" cy="487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 qu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é grado su implementación depende del tipo al que es asign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Muy dependiente =&gt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cluirlo en clase asoci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Que decidir en caso que dos criterios den resultados distinto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Usar criterio de mayor peso</a:t>
            </a: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depende de los requerimientos de la aplic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-142920"/>
            <a:ext cx="80769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Relaciones entre  clases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62920" cy="665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specialización/generaliz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-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rte/To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-PART-OF, HAS-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egación y compo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oci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labo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epend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 u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ción más déb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53960"/>
            <a:ext cx="80769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Relaciones entre  clases (2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6292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a rosa</a:t>
            </a: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 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una  f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sten rosas de diferentes  co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a flor </a:t>
            </a: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se compone  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étalos, arom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s abejas </a:t>
            </a: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usa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l néctar de  las flores para aliment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s abejas </a:t>
            </a: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ayuda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polinizar las f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clavel </a:t>
            </a: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tra  f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320" y="453960"/>
            <a:ext cx="861048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Relaciones entre  clases (3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057400" y="2057400"/>
            <a:ext cx="4800600" cy="20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81867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Relaciones entre  clases (4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ferencia entre  composición y agreg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Composición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empo de  vida de la  variable de instancia está ligada a la del objeto que la cont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Agregación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empo de  vida de  la variable  de instancia es independiente del objeto que la conti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971800" y="3657600"/>
            <a:ext cx="388620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0040" y="-46440"/>
            <a:ext cx="8415360" cy="1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Relaciones entre clases (5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2971800"/>
            <a:ext cx="3200400" cy="1440"/>
          </a:xfrm>
          <a:prstGeom prst="line">
            <a:avLst/>
          </a:prstGeom>
          <a:ln w="9360">
            <a:solidFill>
              <a:srgbClr val="333333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5486400"/>
            <a:ext cx="3200400" cy="1440"/>
          </a:xfrm>
          <a:prstGeom prst="line">
            <a:avLst/>
          </a:prstGeom>
          <a:ln w="9360">
            <a:solidFill>
              <a:srgbClr val="3333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3886200"/>
            <a:ext cx="1440" cy="4572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4114800"/>
            <a:ext cx="228600" cy="2286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07920" y="3886200"/>
            <a:ext cx="269640" cy="2286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57400" y="4114800"/>
            <a:ext cx="2971800" cy="1440"/>
          </a:xfrm>
          <a:prstGeom prst="line">
            <a:avLst/>
          </a:prstGeom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4581360"/>
            <a:ext cx="22413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 Asociación dirig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3141720"/>
            <a:ext cx="6049800" cy="4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Implementación de una interf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52200" y="1371240"/>
            <a:ext cx="7157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0">
              <a:lnSpc>
                <a:spcPct val="126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ción de us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-65160"/>
            <a:ext cx="8034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¿Cuándo  usar herencia?    [Alb87]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162920" cy="596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2323dc"/>
                </a:solidFill>
                <a:latin typeface="Arial"/>
              </a:rPr>
              <a:t>Subtipo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( forma natural: subconjunt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¿Por qué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El objeto  heredado válido en el  contexto de clase  p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El  objeto heredado  redefine métodos y/o  agrega  nue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blemas en caso contrari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3333"/>
                </a:solidFill>
                <a:latin typeface="Arial"/>
              </a:rPr>
              <a:t>Malos dise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3333"/>
                </a:solidFill>
                <a:latin typeface="Arial"/>
              </a:rPr>
              <a:t>Falsas expect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0040" y="514440"/>
            <a:ext cx="803448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¿Cuándo  usar herencia?(2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2200" y="1600200"/>
            <a:ext cx="796284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specializ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subclases subconjuntos de clase p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mplement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misma interfaz, distinta imple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mbin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subclase subconjunto de dos o más cl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53960"/>
            <a:ext cx="80341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¿Cuándo  usar herencia?(3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86160" y="2057400"/>
            <a:ext cx="4371840" cy="245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9680" y="-85680"/>
            <a:ext cx="81867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¿Cuándo NO usar herencia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48860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eneralización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subclase generalización de clase p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arianza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subclase hermano de clase p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rrores comun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Heredar de  pa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Heredar  privadamente (C++).   Alternativa: agregación o  compo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71629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885680"/>
            <a:ext cx="7162920" cy="49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seño de  una buena cl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laciones entre  cl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tación U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so correcto  de her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trones de diseñ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valuación de  diseños: Métr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542880"/>
            <a:ext cx="71625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¿Cómo diseñar  una buena clase?  [Mey97]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162920" cy="391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lase conocida  por su interfaz  (métodos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incipio de  lista de comp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scripción simple y coherente  (no más de   una página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mbre apropi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o  de  contratos:    precondiciones,  post   condiciones e invariantes (depuración y documentación) [Mey97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ecanismo  de excepción  para  situaciones   anorm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9680" y="239400"/>
            <a:ext cx="7162920" cy="13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2323dc"/>
                </a:solidFill>
                <a:latin typeface="Arial"/>
              </a:rPr>
              <a:t>Pasos a seguir: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33"/>
                </a:solidFill>
                <a:latin typeface="Arial"/>
              </a:rPr>
              <a:t>(enfoque minimal)</a:t>
            </a:r>
            <a:r>
              <a:rPr b="1" lang="en-GB" sz="28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0280" y="2742840"/>
            <a:ext cx="6286320" cy="283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contrar obje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s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r su métodos públicos (interfaz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finir su implementaci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ceso iterativo e incremen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9680" y="321840"/>
            <a:ext cx="7162920" cy="8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¿Qu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  <a:ea typeface="Arial"/>
              </a:rPr>
              <a:t>é puede ser un objeto?</a:t>
            </a:r>
            <a:br>
              <a:rPr sz="36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  <a:ea typeface="Arial"/>
              </a:rPr>
              <a:t>[Daniel Halbert y Patrick O'Brien: “Using Types and ...”  ]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6591240" cy="471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2323dc"/>
                </a:solidFill>
                <a:latin typeface="Arial"/>
              </a:rPr>
              <a:t>Cosas reales o abstrac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los, cuentas y pers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la, cola y gra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2323dc"/>
                </a:solidFill>
                <a:latin typeface="Arial"/>
              </a:rPr>
              <a:t>Pro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denar, iterador, formate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71629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C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  <a:ea typeface="Arial"/>
              </a:rPr>
              <a:t>ómo diseñar la interfaz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2560" y="1371240"/>
            <a:ext cx="6896160" cy="557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onde poner una funcionalida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inscribir un estudiante en un cu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6520" indent="-222120">
              <a:lnSpc>
                <a:spcPct val="89000"/>
              </a:lnSpc>
              <a:spcBef>
                <a:spcPts val="675"/>
              </a:spcBef>
              <a:buClr>
                <a:srgbClr val="fc0128"/>
              </a:buClr>
              <a:buSzPct val="119000"/>
              <a:buFont typeface="Wingdings" charset="2"/>
              <a:buChar char="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 la clase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Curs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6520" indent="-222120">
              <a:lnSpc>
                <a:spcPct val="89000"/>
              </a:lnSpc>
              <a:spcBef>
                <a:spcPts val="675"/>
              </a:spcBef>
              <a:buClr>
                <a:srgbClr val="fc0128"/>
              </a:buClr>
              <a:buSzPct val="119000"/>
              <a:buFont typeface="Wingdings" charset="2"/>
              <a:buChar char="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 la clase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Estudian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6520" indent="-222120">
              <a:lnSpc>
                <a:spcPct val="89000"/>
              </a:lnSpc>
              <a:spcBef>
                <a:spcPts val="675"/>
              </a:spcBef>
              <a:buClr>
                <a:srgbClr val="fc0128"/>
              </a:buClr>
              <a:buSzPct val="119000"/>
              <a:buFont typeface="Wingdings" charset="2"/>
              <a:buChar char="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r una nueva clase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Inscripci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ó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hay una regla clara: </a:t>
            </a:r>
            <a:r>
              <a:rPr b="0" lang="en-GB" sz="1800" spc="-1" strike="noStrike">
                <a:solidFill>
                  <a:srgbClr val="94476b"/>
                </a:solidFill>
                <a:latin typeface="Arial"/>
              </a:rPr>
              <a:t>depende de los requerimientos de la a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amina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us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lej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lic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ocimiento de la implementac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71629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Reusabilida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1885680"/>
            <a:ext cx="7162920" cy="458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útil este comportamiento en más de un contex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Crear clase si  el comportamiento puede ser reusado en varios contextos u otras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Recorrer una lista 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 mismo recorrido puede ser aplicado a varias listas. (Patrón de diseñ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erat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Concepto de rect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á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ngulo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usado en ventana y figuras g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71629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Aplicabilida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886040"/>
            <a:ext cx="7048800" cy="33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é tan relevante es un comportamien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Desea la mayor parte de los clientes usar este comportamien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Ejempl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Convertir a may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ú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scul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mo método en clase String (es solo relevante aqu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Parsing de una l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í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ne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n clase aparte (no es método clásico asociado a String). En Jav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71629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omplejida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3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é tan difícil es implementar este comportamien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Crear una clase si el comportamiento es comple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Calcular el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á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rea  es simp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 incluir  en Rec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Parsing de una línea  es complejo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odelar este porceso como una  c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Intersecci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ó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n de figuras: va en mas de una clase el mismo método y es complejo;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ar  como una c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ncy hitschfeld</cp:lastModifiedBy>
  <cp:revision>0</cp:revision>
  <dc:subject/>
  <dc:title>Capítulo 3 Aspectos Básicos de Diseño</dc:title>
</cp:coreProperties>
</file>