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3876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1160" y="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1160" y="8686800"/>
            <a:ext cx="29653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33495-5434-4DE0-995E-FB16003A6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5E5-2AEB-4B73-B219-92C04C3C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E68-8BC1-4E12-8E48-76C817EC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A54-9B0E-44A2-B5C7-872ED8A2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48F-5B3E-439D-9EFD-74ECE570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94C8-914F-49AA-9614-18678C00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1A36-EF63-4D42-94F9-6A4F5BBD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A90F-CB17-4EE1-9666-86989B2F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AD26-4DCA-4B2B-890C-615D62ED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2464-DDCA-4C39-AF2C-FDE14857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2F07-258C-45D8-BA2F-899596E7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C43-C73B-4B09-978E-0A557F4F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2FB-2B85-4C9D-9CD3-DE17C735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58C8-E714-4CAB-BA48-2EF2E9C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EA4A-165F-4E3D-946E-4CFC877D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AE1A-DCB1-43EB-8C07-2BCD10C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4876-52AC-47A6-B8C4-3CC44D16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16B3-BAA2-4BC5-8C79-B7F32418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8EE-E11A-4673-93AE-A5638A7E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2F5-B3CD-4A36-A774-7E06067D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89E-93C0-4923-937C-A1401921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9040"/>
            <a:ext cx="82198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C7C-3E83-458D-BB62-A5E6B54D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6F5-A2FC-4849-BADE-5AA7EB1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203-B276-40B5-B1AE-9E44A47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095-F7C8-468C-BDC1-BD20E9F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49397-0BEE-48AA-84BF-1E0805B88C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59040"/>
            <a:ext cx="8219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07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893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EAC3C-6263-4F6F-8D73-A4E8AD2C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software orientado a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ncy Hitschfeld Ka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ánto probar una clase que no se modifica?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Una de las afirmaciones más conocidas es que orientación a objetos permite que el código heredado puede ser reusado fácilmente y confiablemente. Esta afirmación sugiere que métodos heredados no deberían ser  probados nuevamente aplicados sobre objetos de la clase deriv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A{ // n&gt;=0                                    class B extends A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 A(){ n=0;}                                    public B()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int value(){ return next(n);}          protected  int next(int i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 void strange(){ next(-3);}                          return n= n+ (n+1)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ext(int i){ n=n+i*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 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de la clase A a instancias de ella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 instancias tienen siempre un estado  &gt;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ndo los métodos heredados de A sobre instancias de la clase   B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éstas pueden tener un estad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= new B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or = a.valu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.strange();  // n &lt;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 = a.val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uso de contratos en forma explícita permite detectar este tipo de errores fácilment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sting y her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me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l código heredado debe ser testeado nuevamente sobre objetos definidos usando las clases derivadas p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s subclases pueden modificar variables de instancia de una clas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Métodos de la clase base pueden usar métodos re-definidos  en las clases deriv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iveles de te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métodos  y variables de in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uster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acción entre grupo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istem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ar todas las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rco para probar software orientado a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47ff"/>
                </a:solidFill>
                <a:latin typeface="Arial"/>
              </a:rPr>
              <a:t>Testing de  una clas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rden sugerido de testing de acuerdo a los tipos de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r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elect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edicad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ornan boo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odificador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odifica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De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It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0120"/>
                <a:tab algn="l" pos="712800"/>
                <a:tab algn="l" pos="1170000"/>
                <a:tab algn="l" pos="1627200"/>
                <a:tab algn="l" pos="2084400"/>
                <a:tab algn="l" pos="2541600"/>
                <a:tab algn="l" pos="2998800"/>
                <a:tab algn="l" pos="3456000"/>
                <a:tab algn="l" pos="3913200"/>
                <a:tab algn="l" pos="4370400"/>
                <a:tab algn="l" pos="4827600"/>
                <a:tab algn="l" pos="5284800"/>
                <a:tab algn="l" pos="5742000"/>
                <a:tab algn="l" pos="6199200"/>
                <a:tab algn="l" pos="6656400"/>
                <a:tab algn="l" pos="7113600"/>
                <a:tab algn="l" pos="7570800"/>
                <a:tab algn="l" pos="8028000"/>
                <a:tab algn="l" pos="8485200"/>
                <a:tab algn="l" pos="8942400"/>
                <a:tab algn="l" pos="9399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984920"/>
            <a:ext cx="8001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Necesidad de tener conocimiento de la estructura interna del objeto, es decir, de su estado y como ca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idad de técnicas para hacer testing del comportamiento de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los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re las técnicas existentes están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ón de estados (Matriz de transición)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para probar una clase/objeto con pocos estados y mé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inputs que generan distintos estados del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47ff"/>
                </a:solidFill>
                <a:latin typeface="Arial"/>
              </a:rPr>
              <a:t>Casos extremos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bordes (incluir parámetros de los método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993366"/>
                </a:solidFill>
                <a:latin typeface="Arial"/>
              </a:rPr>
              <a:t>La  matriz de transición ayuda a visualizar el efecto de cada llamada a un método sobre el estado. Los parámetros van en otra dimensión de la matr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Transiciones de identidad: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 que consiste en identificar secuencias de llamadas a métodos que lleven  a un mismo estado (axiomas dentro de la descripción den un TDA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413000"/>
            <a:ext cx="3382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unter(int x){value=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reset(){ value=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in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+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id decr(int i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 i&gt;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-=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value(){ return 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75200" y="1557360"/>
            <a:ext cx="494172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lass BoundedCounter: public Counter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 max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rtual int invariante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turn   0&lt;=value &amp;&amp; value &lt;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undedCounter(int x, int max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ue=x; max_value = m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sert(invariante()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oolean isDone(){ return value == max_value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2640" y="1371600"/>
            <a:ext cx="7468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2  (0 y &gt;0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47ff"/>
                </a:solidFill>
                <a:latin typeface="Arial"/>
              </a:rPr>
              <a:t>BoundedCounte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úmero de estados = 3 (0, ]0,max[, max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Es importante considerar los parámetros de los métodos p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puede influir en el cambio del estado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i="1" lang="es-CL" sz="1800" spc="-1" strike="noStrike">
                <a:solidFill>
                  <a:srgbClr val="993366"/>
                </a:solidFill>
                <a:latin typeface="Arial"/>
              </a:rPr>
              <a:t>Los errores pueden ser considerados como un estado 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producidos por un resultado erróneo o un estado ileg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omo detectar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entro del objeto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contr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i="1" lang="es-CL" sz="1600" spc="-1" strike="noStrike">
                <a:solidFill>
                  <a:srgbClr val="993366"/>
                </a:solidFill>
                <a:latin typeface="Arial"/>
                <a:ea typeface="DejaVu Sans"/>
              </a:rPr>
              <a:t>Durante la interacción de muchos objetos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DejaVu Sans"/>
              </a:rPr>
              <a:t> protocolos de inter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800" spc="-1" strike="noStrike">
                <a:solidFill>
                  <a:srgbClr val="0047ff"/>
                </a:solidFill>
                <a:latin typeface="Arial"/>
              </a:rPr>
              <a:t>Cuáles casos probar?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tectar casos límite: inputs que producen un camb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e estado y inputs que mantienen el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70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2276640"/>
            <a:ext cx="7058160" cy="1801800"/>
            <a:chOff x="826920" y="2276640"/>
            <a:chExt cx="7058160" cy="1801800"/>
          </a:xfrm>
        </p:grpSpPr>
        <p:sp>
          <p:nvSpPr>
            <p:cNvPr id="132" name=""/>
            <p:cNvSpPr/>
            <p:nvPr/>
          </p:nvSpPr>
          <p:spPr>
            <a:xfrm>
              <a:off x="5075280" y="3691080"/>
              <a:ext cx="2808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0960" y="3691080"/>
              <a:ext cx="2524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6920" y="3691080"/>
              <a:ext cx="1724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5280" y="3219480"/>
              <a:ext cx="28083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50960" y="3219480"/>
              <a:ext cx="2524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6920" y="3219480"/>
              <a:ext cx="1724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75280" y="2747880"/>
              <a:ext cx="28083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0960" y="2747880"/>
              <a:ext cx="252432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6920" y="2747880"/>
              <a:ext cx="172404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5280" y="2276640"/>
              <a:ext cx="28083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2) value &gt;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0960" y="2276640"/>
              <a:ext cx="25243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(1) value=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2276640"/>
              <a:ext cx="17240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6920" y="2276640"/>
              <a:ext cx="705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6920" y="2747880"/>
              <a:ext cx="705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2194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3691080"/>
              <a:ext cx="705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" y="4076640"/>
              <a:ext cx="7056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6920" y="2276640"/>
              <a:ext cx="180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50960" y="2276640"/>
              <a:ext cx="180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5280" y="2276640"/>
              <a:ext cx="1440" cy="18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3640" y="2276640"/>
              <a:ext cx="144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26920" y="4437000"/>
            <a:ext cx="7859880" cy="1873440"/>
            <a:chOff x="826920" y="4437000"/>
            <a:chExt cx="7859880" cy="1873440"/>
          </a:xfrm>
        </p:grpSpPr>
        <p:sp>
          <p:nvSpPr>
            <p:cNvPr id="154" name=""/>
            <p:cNvSpPr/>
            <p:nvPr/>
          </p:nvSpPr>
          <p:spPr>
            <a:xfrm>
              <a:off x="6719760" y="5881680"/>
              <a:ext cx="1965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59200" y="5881680"/>
              <a:ext cx="1960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7560" y="5881680"/>
              <a:ext cx="1871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920" y="5881680"/>
              <a:ext cx="2060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ue(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9760" y="5432400"/>
              <a:ext cx="19656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59200" y="5432400"/>
              <a:ext cx="1960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, 1,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7560" y="5432400"/>
              <a:ext cx="1871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6920" y="5432400"/>
              <a:ext cx="2060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19760" y="4970520"/>
              <a:ext cx="1965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59200" y="4970520"/>
              <a:ext cx="19605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87560" y="4970520"/>
              <a:ext cx="1871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2,3,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4970520"/>
              <a:ext cx="2060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cr(i)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9760" y="4437000"/>
              <a:ext cx="1965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3) value==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9200" y="4437000"/>
              <a:ext cx="196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2) 0&lt;value&lt;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4437000"/>
              <a:ext cx="1871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(1) value=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920" y="4437000"/>
              <a:ext cx="2060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oundedCou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6920" y="443700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6920" y="497052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6920" y="543240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920" y="5881680"/>
              <a:ext cx="785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920" y="6308640"/>
              <a:ext cx="785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4437000"/>
              <a:ext cx="180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75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5920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19760" y="4437000"/>
              <a:ext cx="180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85360" y="4437000"/>
              <a:ext cx="144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92200" y="1557360"/>
            <a:ext cx="68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trices de transición para las clases Counter y Bounded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Ejemplos de transiciones de ident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para la clase Cou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0); int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incr(3); c.incr(4); c.decr(7);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=c.value(); c. decr(4); c.incr(4);          =&gt;  n==c.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general, </a:t>
            </a:r>
            <a:r>
              <a:rPr b="0" lang="es-CL" sz="2200" spc="-1" strike="noStrike">
                <a:solidFill>
                  <a:srgbClr val="0047ff"/>
                </a:solidFill>
                <a:latin typeface="Arial"/>
              </a:rPr>
              <a:t>probar tambien con secuencias para producir error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y notar que estos son detectados por el contr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incr(-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unter c(5); n=c.value(); c.decr(6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Métodos d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y 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co  para probar software orientado 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del comportamiento de l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esting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Testing el comportamiento de objet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detectar errores en la interacción de múltiples obje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ntr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ás orientados a una clase en si, pero las precondiciones ayudan en esta etapa tambien a detectar problemas en la interacción entre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transiciones de ident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-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volucrar multiples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Prueba estáti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Leer cuidadosamente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Inspección de códig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ejor en grupo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Walkthrough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imular un cálculo leyendo las partes del código rela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bar formalmente que el programa es 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testear clases automát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Al implementar una cl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ar sus casos de prueba para probar su correct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disponer de un conjunto de casos de prueba es muy útil cuando se cambia la implementación: permite verificar si lo que funcionaba antes aún func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ómo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para cada clase una clase asociada que contiene los casos de prueb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aso de prueba se pone en un método cuyo nombre comienza con “tes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Java genera automáticamente el esqueleto de las clases de 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JUnit (Java)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1828800"/>
            <a:ext cx="475308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mport junit.framework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Test extends TestCa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Ad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1 = new Day(1970,1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n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y d2 = d1.addDays(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sert  d2.daysFrom(d1) ==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void testDaysBetween()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mpilar de necesita el archivo junit.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vac –classpath .:junit.jar –ea junit.swingui.TestRunner  Day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628640"/>
            <a:ext cx="36720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ómo se recomienda probar la siguiente cl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class Day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(int aYear, int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 aDat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ulian = toJulian(aYear, aMont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a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Day addDays(int n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ublic int daysFrom(Day other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ivate int julian; //julian day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numero de días desde el 1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// enero de 4713 antes de cri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sof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rrectitu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atisface requerimientos funcionales d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bustez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responde adecuadamente bajo circunstancias an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Validación es en la práctica  generalmente restringido a aspectos de la funcionalidad y de la interfaz del usuario. Sin embargo, las propiedades estructurales también son import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Validación de softwa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software fácil de adap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uso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osee componente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tibilidad: 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omponentes compatibles con otras para construir nuevos sistemas(plug-in’s)</a:t>
            </a: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Testing es el proceso de juzgar experimentalmente si un sistema y sus componentes satisfacen los requerimientos funcionales.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Este proceso involucra en general la ejecución del programa y no métodos formales de prueb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993366"/>
                </a:solidFill>
                <a:latin typeface="Arial"/>
              </a:rPr>
              <a:t>Cómo verificar criterios estructu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ting involuc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Casos de prueba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 una cierta entrada esperamos un cierto resultado (input-output behavior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Procedimientos de prueb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fica los pasos a seguir para validar un programa usando los casos de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asos de pru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Orden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993366"/>
                </a:solidFill>
                <a:latin typeface="Arial"/>
              </a:rPr>
              <a:t>Cuándo parar de prob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n el caso de software orientado a objetos se debe diseñar un proceso para </a:t>
            </a:r>
            <a:r>
              <a:rPr b="0" i="1" lang="es-CL" sz="2000" spc="-1" strike="noStrike">
                <a:solidFill>
                  <a:srgbClr val="993366"/>
                </a:solidFill>
                <a:latin typeface="Arial"/>
              </a:rPr>
              <a:t>probar cada uno de los métodos de un objet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con el objetivo de descubrir errores de implementación en los métodos o en el estado del objeto, o amb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Una buena práctica de testing intenta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in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de producir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(en términos de tiempo y costo), b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test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y c)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esfuerzo en ejecutarlo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, y al mismo tiempo 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maximiza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el número de errores detectados</a:t>
            </a:r>
            <a:r>
              <a:rPr b="0" i="1" lang="es-CL" sz="2000" spc="-1" strike="noStrike">
                <a:solidFill>
                  <a:srgbClr val="0047ff"/>
                </a:solidFill>
                <a:latin typeface="Arial"/>
              </a:rPr>
              <a:t> y </a:t>
            </a:r>
            <a:r>
              <a:rPr b="1" i="1" lang="es-CL" sz="2000" spc="-1" strike="noStrike">
                <a:solidFill>
                  <a:srgbClr val="0047ff"/>
                </a:solidFill>
                <a:latin typeface="Arial"/>
              </a:rPr>
              <a:t>la confiafibilidad del software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en términos de el número de tests pasados exitosamente)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s imposible decidir con absoluta certeza si un software está completamente libre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47ff"/>
                </a:solidFill>
                <a:latin typeface="Arial"/>
              </a:rPr>
              <a:t>Cuándo decidir parar de pro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ués de detectar N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a razón entre el número de errores y el tiempo dedicado a buscarlos es lo suficientemente pequ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negra (Black-box testing)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 un representant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Extr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ja Blanca (White-box testing)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ueb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instruc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instrucción es ejecutada al men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Cubrir condicion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a condición debe hacerse verdadera y fa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étodos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1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uble sqrt(double x), x &gt;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47ff"/>
                </a:solidFill>
                <a:latin typeface="Arial"/>
              </a:rPr>
              <a:t>Clases de equivalencia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negativos]…,0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0,1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s positivos ]1,…[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egir, por ejemplo el númer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47ff"/>
                </a:solidFill>
                <a:latin typeface="Arial"/>
              </a:rPr>
              <a:t>Extrem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 2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r casos de prueba para Black y White-box testing clases de Quicksort sobre un arreglo de tamaño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400" spc="-1" strike="noStrike">
                <a:solidFill>
                  <a:srgbClr val="0047ff"/>
                </a:solidFill>
                <a:latin typeface="Arial"/>
              </a:rPr>
              <a:t>Ciclo de tes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cualquier metodologí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 de mód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integr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funcion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bilidad: es satisfactoria la interfaz al usu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lumen: cómo responde a grandes volúmenes de da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tress: reacciona bien con una red carg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ridad: provee un nivel suficiente de protecc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empeño: es adecuado en los casos comu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336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000" spc="-1" strike="noStrike">
                <a:solidFill>
                  <a:srgbClr val="0047ff"/>
                </a:solidFill>
                <a:latin typeface="Arial"/>
              </a:rPr>
              <a:t>Pruebas de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ncy hitschfeld</dc:creator>
  <dc:description/>
  <dc:language>en-US</dc:language>
  <cp:lastModifiedBy>nancy hitschfeld</cp:lastModifiedBy>
  <cp:revision>0</cp:revision>
  <dc:subject/>
  <dc:title>Testing de software orientado a objetos</dc:title>
</cp:coreProperties>
</file>