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002960" y="694800"/>
            <a:ext cx="4838760" cy="34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3881160" y="0"/>
            <a:ext cx="2965320" cy="4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116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FD910-47E7-4252-AB97-15A81A37D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3F57-92D3-47ED-A011-9BA3E8FB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57A2-166E-4840-A3FA-C94CC72E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31B0-3EE7-4B78-986A-690A6729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9EB2-F37D-44A2-8764-AA7E4805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712E-82F2-421F-B504-FCBBBA96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DF4E-349B-40B5-A782-7DAC3644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B22F-658B-4D49-9A16-D1AE07D1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992A-B878-411E-831C-EF806A30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DC50-8E0D-48BA-951F-DC8DFAA2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5160" y="-59040"/>
            <a:ext cx="82198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3F5F-2EE3-491B-B37F-BE1F66A4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0CD1-1307-4BAB-B39D-F1F7E111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B445-7E25-4965-9F45-F8963B59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19D1-0B39-49A2-A35A-7C78B031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1D77-C0C2-4E06-A7D6-CFFD24F4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32BD-D6AF-4C0B-8E7D-5B076883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7930-900B-4E8F-BDD8-603577B2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3702-E905-4C94-BF5A-05299AFE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E120-334A-4887-A80D-1B4A3D30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B8DE-DAA8-4743-88DD-1A567142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2F0A-7B4B-490E-923A-0A64F8A7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-59040"/>
            <a:ext cx="82198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E000-C0F7-4DEE-9A5D-ED89854B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41E2-2E82-45A8-A281-A7532B52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189D-5AFF-4864-9081-6DD76F2E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AD1D-4292-4E6E-B405-51307F27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07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893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112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E629C-51C7-4BDD-AD9B-14EC01A3E5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07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893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112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86F84-EFE9-44E4-9884-30C4BD842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Testing software orientado a objet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ancy Hitschfeld Kah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partamento de Ciencias de la Compu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Testing y herenci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uánto probar una clase que no se modifica?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Una de las afirmaciones más conocidas es que orientación a objetos permite que el código heredado puede ser reusado fácilmente y confiablemente. Esta afirmación sugiere que métodos heredados no deberían ser  probados nuevamente aplicados sobre objetos de la clase deriv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lass A{ // n&gt;=0                                    class B extends A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blic  A(){ n=0;}                                    public B()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blic int value(){ return next(n);}          protected  int next(int i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blic void strange(){ next(-3);}                          return n= n+ (n+1)*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}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tected int next(int i){ n=n+i*i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tected int 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Testing y herenci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licando los métodos de la clase A a instancias de ella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 instancias tienen siempre un estado  &gt;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 a= new A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 valor = a.value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.strange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or = a.valu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licando los métodos heredados de A sobre instancias de la clase   B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éstas pueden tener un estado 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 a= new B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 valor = a.value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.strange();  // n &lt;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or = a.valu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El uso de contratos en forma explícita permite detectar este tipo de errores fácilmente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Testing y herenci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sumen: 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El código heredado debe ser testeado nuevamente sobre objetos definidos usando las clases derivadas por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Arial"/>
              </a:rPr>
              <a:t>Métodos de las subclases pueden modificar variables de instancia de una clas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Arial"/>
              </a:rPr>
              <a:t>Métodos de la clase base pueden usar métodos re-definidos  en las clases deriv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Marco para probar software orientado a objet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iveles de tes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las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---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teracción entre métodos  y variables de ins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luster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---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teracción entre grupos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sistema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---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ar todas las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Marco para probar software orientado a objet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0120" indent="-600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47ff"/>
                </a:solidFill>
                <a:latin typeface="Arial"/>
              </a:rPr>
              <a:t>Testing de  una clase: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orden sugerido de testing de acuerdo a los tipos de mé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re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Selectore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tornan el es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redicado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tornan bool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Modificadore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odifican el es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Destr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Iter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4984920"/>
            <a:ext cx="8001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Necesidad de tener conocimiento de la estructura interna del objeto, es decir, de su estado y como ca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cesidad de técnicas para hacer testing del comportamiento de los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esting el comportamiento de los objet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re las técnicas existentes están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Transición de estados (Matriz de transición):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écnica para probar una clase/objeto con pocos estados y mét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47ff"/>
                </a:solidFill>
                <a:latin typeface="Arial"/>
              </a:rPr>
              <a:t>Clases de equivalencia: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inputs que generan distintos estados del obje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47ff"/>
                </a:solidFill>
                <a:latin typeface="Arial"/>
              </a:rPr>
              <a:t>Casos extremos: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bordes (incluir parámetros de los métodos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600" spc="-1" strike="noStrike">
                <a:solidFill>
                  <a:srgbClr val="993366"/>
                </a:solidFill>
                <a:latin typeface="Arial"/>
              </a:rPr>
              <a:t>La  matriz de transición ayuda a visualizar el efecto de cada llamada a un método sobre el estado. Los parámetros van en otra dimensión de la matri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Transiciones de identidad: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écnica que consiste en identificar secuencias de llamadas a métodos que lleven  a un mismo estado (axiomas dentro de la descripción den un TDA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Testing el comportamiento de objet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1413000"/>
            <a:ext cx="33829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lass Counter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tect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 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irtual int invariante(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turn   0&lt;=value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unter(int x){value=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invariante()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oid reset(){ value=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invariante()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oid incr(int i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 i&gt;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ue+=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invariante()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oid decr(int i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 i&gt;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ue-=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invariante()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 value(){ return value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75200" y="1557360"/>
            <a:ext cx="494172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lass BoundedCounter: public Counter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tect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 max_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irtual int invariante(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turn   0&lt;=value &amp;&amp; value &lt;= max_value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oundedCounter(int x, int max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ue=x; max_value = ma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invariante()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oolean isDone(){ return value == max_value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904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esting el comportamiento de  objet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2640" y="1371600"/>
            <a:ext cx="746820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47ff"/>
                </a:solidFill>
                <a:latin typeface="Arial"/>
              </a:rPr>
              <a:t>Counter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úmero de estados = 2  (0 y &gt;0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47ff"/>
                </a:solidFill>
                <a:latin typeface="Arial"/>
              </a:rPr>
              <a:t>BoundedCounter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úmero de estados = 3 (0, ]0,max[, max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i="1" lang="es-CL" sz="1800" spc="-1" strike="noStrike">
                <a:solidFill>
                  <a:srgbClr val="993366"/>
                </a:solidFill>
                <a:latin typeface="Arial"/>
              </a:rPr>
              <a:t>Es importante considerar los parámetros de los métodos p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993366"/>
                </a:solidFill>
                <a:latin typeface="Arial"/>
              </a:rPr>
              <a:t>puede influir en el cambio del estado del obj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i="1" lang="es-CL" sz="1800" spc="-1" strike="noStrike">
                <a:solidFill>
                  <a:srgbClr val="993366"/>
                </a:solidFill>
                <a:latin typeface="Arial"/>
              </a:rPr>
              <a:t>Los errores pueden ser considerados como un estado m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(producidos por un resultado erróneo o un estado ileg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s-CL" sz="1800" spc="-1" strike="noStrike">
                <a:solidFill>
                  <a:srgbClr val="0047ff"/>
                </a:solidFill>
                <a:latin typeface="Arial"/>
              </a:rPr>
              <a:t>Como detectar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</a:t>
            </a:r>
            <a:r>
              <a:rPr b="0" i="1" lang="es-CL" sz="1600" spc="-1" strike="noStrike">
                <a:solidFill>
                  <a:srgbClr val="993366"/>
                </a:solidFill>
                <a:latin typeface="Arial"/>
                <a:ea typeface="DejaVu Sans"/>
              </a:rPr>
              <a:t>Dentro del objeto: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  <a:ea typeface="DejaVu Sans"/>
              </a:rPr>
              <a:t> contr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  <a:ea typeface="DejaVu Sans"/>
              </a:rPr>
              <a:t>    </a:t>
            </a:r>
            <a:r>
              <a:rPr b="0" i="1" lang="es-CL" sz="1600" spc="-1" strike="noStrike">
                <a:solidFill>
                  <a:srgbClr val="993366"/>
                </a:solidFill>
                <a:latin typeface="Arial"/>
                <a:ea typeface="DejaVu Sans"/>
              </a:rPr>
              <a:t>Durante la interacción de muchos objetos: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  <a:ea typeface="DejaVu Sans"/>
              </a:rPr>
              <a:t> protocolos de intera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s-CL" sz="1800" spc="-1" strike="noStrike">
                <a:solidFill>
                  <a:srgbClr val="0047ff"/>
                </a:solidFill>
                <a:latin typeface="Arial"/>
              </a:rPr>
              <a:t>Cuáles casos probar? 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detectar casos límite: inputs que producen un camb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de estado y inputs que mantienen el es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1702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esting el comportamiento de objet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26920" y="2276640"/>
            <a:ext cx="7058160" cy="1801800"/>
            <a:chOff x="826920" y="2276640"/>
            <a:chExt cx="7058160" cy="1801800"/>
          </a:xfrm>
        </p:grpSpPr>
        <p:sp>
          <p:nvSpPr>
            <p:cNvPr id="132" name=""/>
            <p:cNvSpPr/>
            <p:nvPr/>
          </p:nvSpPr>
          <p:spPr>
            <a:xfrm>
              <a:off x="5075280" y="3691080"/>
              <a:ext cx="2808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50960" y="3691080"/>
              <a:ext cx="25243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6920" y="3691080"/>
              <a:ext cx="172404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alue()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75280" y="3219480"/>
              <a:ext cx="280836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rror, 1,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50960" y="3219480"/>
              <a:ext cx="252432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rr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6920" y="3219480"/>
              <a:ext cx="172404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decr(i)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75280" y="2747880"/>
              <a:ext cx="280836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50960" y="2747880"/>
              <a:ext cx="252432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26920" y="2747880"/>
              <a:ext cx="172404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incr(i)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75280" y="2276640"/>
              <a:ext cx="280836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(2) value &gt;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50960" y="2276640"/>
              <a:ext cx="252432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(1) value==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2276640"/>
              <a:ext cx="172404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Cou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6920" y="2276640"/>
              <a:ext cx="7056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6920" y="2747880"/>
              <a:ext cx="705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219480"/>
              <a:ext cx="705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26920" y="3691080"/>
              <a:ext cx="705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6920" y="4076640"/>
              <a:ext cx="70567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26920" y="2276640"/>
              <a:ext cx="1800" cy="180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50960" y="2276640"/>
              <a:ext cx="1800" cy="18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75280" y="2276640"/>
              <a:ext cx="1440" cy="18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83640" y="2276640"/>
              <a:ext cx="1440" cy="180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826920" y="4437000"/>
            <a:ext cx="7859880" cy="1873440"/>
            <a:chOff x="826920" y="4437000"/>
            <a:chExt cx="7859880" cy="1873440"/>
          </a:xfrm>
        </p:grpSpPr>
        <p:sp>
          <p:nvSpPr>
            <p:cNvPr id="154" name=""/>
            <p:cNvSpPr/>
            <p:nvPr/>
          </p:nvSpPr>
          <p:spPr>
            <a:xfrm>
              <a:off x="6719760" y="5881680"/>
              <a:ext cx="196560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59200" y="5881680"/>
              <a:ext cx="19605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87560" y="5881680"/>
              <a:ext cx="18716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26920" y="5881680"/>
              <a:ext cx="20606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alue()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19760" y="5432400"/>
              <a:ext cx="19656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rror, 1,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59200" y="5432400"/>
              <a:ext cx="196056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rror, 1,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87560" y="5432400"/>
              <a:ext cx="1871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rr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6920" y="5432400"/>
              <a:ext cx="2060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decr(i)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19760" y="4970520"/>
              <a:ext cx="19656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rr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59200" y="4970520"/>
              <a:ext cx="196056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,3,err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87560" y="4970520"/>
              <a:ext cx="18716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2,3,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26920" y="4970520"/>
              <a:ext cx="20606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incr(i)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19760" y="4437000"/>
              <a:ext cx="19656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(3) value==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59200" y="4437000"/>
              <a:ext cx="196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(2) 0&lt;value&lt;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87560" y="4437000"/>
              <a:ext cx="18716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(1) value=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26920" y="4437000"/>
              <a:ext cx="20606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BoundedCou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6920" y="4437000"/>
              <a:ext cx="785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26920" y="4970520"/>
              <a:ext cx="785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6920" y="5432400"/>
              <a:ext cx="785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6920" y="5881680"/>
              <a:ext cx="785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6920" y="6308640"/>
              <a:ext cx="785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6920" y="4437000"/>
              <a:ext cx="180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87560" y="4437000"/>
              <a:ext cx="1800" cy="18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59200" y="4437000"/>
              <a:ext cx="1800" cy="18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19760" y="4437000"/>
              <a:ext cx="1800" cy="18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85360" y="4437000"/>
              <a:ext cx="144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92200" y="1557360"/>
            <a:ext cx="68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trices de transición para las clases Counter y Bounded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Testing el comportamiento de objet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200" spc="-1" strike="noStrike">
                <a:solidFill>
                  <a:srgbClr val="0047ff"/>
                </a:solidFill>
                <a:latin typeface="Arial"/>
              </a:rPr>
              <a:t>Ejemplos de transiciones de identidad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para la clase Count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unter c(0); int 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=c.value(); c.incr(3); c.incr(4); c.decr(7);     =&gt;  n==c.valu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unter c(1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=c.value(); c. decr(4); c.incr(4);          =&gt;  n==c.valu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n general, </a:t>
            </a:r>
            <a:r>
              <a:rPr b="0" lang="es-CL" sz="2200" spc="-1" strike="noStrike">
                <a:solidFill>
                  <a:srgbClr val="0047ff"/>
                </a:solidFill>
                <a:latin typeface="Arial"/>
              </a:rPr>
              <a:t>probar tambien con secuencias para producir errores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y notar que estos son detectados por el contra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unter c(5); n=c.value(); c.incr(-5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unter c(5); n=c.value(); c.decr(6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alidación de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Métodos d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Testing y h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rco  para probar software orientado a obj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Testing del comportamiento de los ob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Testing est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JUnit (Java)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Testing el comportamiento de objet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mo detectar errores en la interacción de múltiples obje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ontrat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--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ás orientados a una clase en si, pero las precondiciones ayudan en esta etapa tambien a detectar problemas en la interacción entre obje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transiciones de identidad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--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l involucrar multiples obje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Prueba estátic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Leer cuidadosamente el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Inspección de códig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mejor en grupo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Walkthrough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 Simular un cálculo leyendo las partes del código relacion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Probar formalmente que el programa es 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JUnit (Java)</a:t>
            </a: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mite testear clases automátic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Al implementar una cl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señar sus casos de prueba para probar su correctit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disponer de un conjunto de casos de prueba es muy útil cuando se cambia la implementación: permite verificar si lo que funcionaba antes aún funci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ómo hacerl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rear para cada clase una clase asociada que contiene los casos de prueb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da caso de prueba se pone en un método cuyo nombre comienza con “tes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87360" indent="-21276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Java genera automáticamente el esqueleto de las clases de pru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JUnit (Java)</a:t>
            </a: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24360" y="1828800"/>
            <a:ext cx="4753080" cy="38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mport junit.framework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class DayTest extends TestCa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void testAdd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ay d1 = new Day(1970,1,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t n= 1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ay d2 = d1.addDays(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ssert  d2.daysFrom(d1) == 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void testDaysBetween(){…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compilar de necesita el archivo junit.j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avac –classpath .:junit.jar –ea junit.swingui.TestRunner  Day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1628640"/>
            <a:ext cx="367200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ómo se recomienda probar la siguiente cla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class Day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Day(int aYear, int aMonth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t aDate)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julian = toJulian(aYear, aMonth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a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Day addDays(int n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…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int daysFrom(Day other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…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ivate int julian; //julian day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// numero de días desde el 1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// enero de 4713 antes de cri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Validación de softwar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lidad del sofw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rrectitu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satisface requerimientos funcionales del usu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obustez: 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responde adecuadamente bajo circunstancias anor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Validación es en la práctica  generalmente restringido a aspectos de la funcionalidad y de la interfaz del usuario. Sin embargo, las propiedades estructurales también son important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Validación de softwar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iterios estruct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tención: 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software fácil de adap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uso: 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osee componentes reu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atibilidad: 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omponentes compatibles con otras para construir nuevos sistemas(plug-in’s)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993366"/>
                </a:solidFill>
                <a:latin typeface="Arial"/>
              </a:rPr>
              <a:t>Testing es el proceso de juzgar experimentalmente si un sistema y sus componentes satisfacen los requerimientos funcionales.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Este proceso involucra en general la ejecución del programa y no métodos formales de prueba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993366"/>
                </a:solidFill>
                <a:latin typeface="Arial"/>
              </a:rPr>
              <a:t>Cómo verificar criterios estructura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Métodos de Test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sting involuc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Casos de prueba: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ado una cierta entrada esperamos un cierto resultado (input-output behavior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Procedimientos de prueba: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pecifica los pasos a seguir para validar un programa usando los casos de pru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7360" indent="-21276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Arial"/>
              </a:rPr>
              <a:t>Casos de prue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87360" indent="-21276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Arial"/>
              </a:rPr>
              <a:t>Orden de ejec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87360" indent="-21276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Arial"/>
              </a:rPr>
              <a:t>Cuándo parar de prob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En el caso de software orientado a objetos se debe diseñar un proceso para </a:t>
            </a:r>
            <a:r>
              <a:rPr b="0" i="1" lang="es-CL" sz="2000" spc="-1" strike="noStrike">
                <a:solidFill>
                  <a:srgbClr val="993366"/>
                </a:solidFill>
                <a:latin typeface="Arial"/>
              </a:rPr>
              <a:t>probar cada uno de los métodos de un objeto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con el objetivo de descubrir errores de implementación en los métodos o en el estado del objeto, o ambo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Métodos de test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Una buena práctica de testing intenta </a:t>
            </a:r>
            <a:r>
              <a:rPr b="0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minimizar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a) </a:t>
            </a: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el esfuerzo de producir tests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(en términos de tiempo y costo), b) </a:t>
            </a: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el número de tests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y c) </a:t>
            </a: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el esfuerzo en ejecutarlos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, y al mismo tiempo  </a:t>
            </a:r>
            <a:r>
              <a:rPr b="0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maximizar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el número de errores detectados</a:t>
            </a:r>
            <a:r>
              <a:rPr b="0" i="1" lang="es-CL" sz="2000" spc="-1" strike="noStrike">
                <a:solidFill>
                  <a:srgbClr val="0047ff"/>
                </a:solidFill>
                <a:latin typeface="Arial"/>
              </a:rPr>
              <a:t> y </a:t>
            </a: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la confiafibilidad del software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(en términos de el número de tests pasados exitosamente)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Es imposible decidir con absoluta certeza si un software está completamente libre de err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i="1" lang="es-CL" sz="2400" spc="-1" strike="noStrike">
                <a:solidFill>
                  <a:srgbClr val="0047ff"/>
                </a:solidFill>
                <a:latin typeface="Arial"/>
              </a:rPr>
              <a:t>Cuándo decidir parar de prob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pués de detectar N err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la razón entre el número de errores y el tiempo dedicado a buscarlos es lo suficientemente pequ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Métodos de test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ja negra (Black-box testing)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ueba fun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lases de equivalencia:</a:t>
            </a:r>
            <a:r>
              <a:rPr b="0" lang="es-CL" sz="24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egir un representante de la cl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Extre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ja Blanca (White-box testing)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ueb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ubrir instruccione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da instrucción es ejecutada al men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v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ubrir condicione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da condición debe hacerse verdadera y fal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Métodos de test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jemplo 1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uble sqrt(double x), x &gt;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600" spc="-1" strike="noStrike">
                <a:solidFill>
                  <a:srgbClr val="0047ff"/>
                </a:solidFill>
                <a:latin typeface="Arial"/>
              </a:rPr>
              <a:t>Clases de equivalencia: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úmeros negativos]…,0[.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egir, por ejemplo el número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úmeros positivos ]0,1[.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egir, por ejemplo el número 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úmeros positivos ]1,…[.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egir, por ejemplo el númer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úmer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Extremos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0,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jemplo 2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finir casos de prueba para Black y White-box testing clases de Quicksort sobre un arreglo de tamaño 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47ff"/>
                </a:solidFill>
                <a:latin typeface="Arial"/>
              </a:rPr>
              <a:t>Ciclo de test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cualquier metodologí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rueba de mód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ruebas de integració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ruebas funcional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ruebas del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sabilidad: es satisfactoria la interfaz al usuar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olumen: cómo responde a grandes volúmenes de dat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tress: reacciona bien con una red carga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guridad: provee un nivel suficiente de protecció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sempeño: es adecuado en los casos comun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ruebas de acep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ncy hitschfeld</dc:creator>
  <dc:description/>
  <dc:language>en-US</dc:language>
  <cp:lastModifiedBy>nancy hitschfeld</cp:lastModifiedBy>
  <cp:revision>0</cp:revision>
  <dc:subject/>
  <dc:title>Testing de software orientado a objetos</dc:title>
</cp:coreProperties>
</file>