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838760" cy="34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1160" y="0"/>
            <a:ext cx="29653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116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DA8E3-1416-4CF2-A557-8B78A45A8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D780-5609-4FC3-8525-E7F5BAD3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95D2-4FF9-4ED5-830B-978C93C7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5A8-95AC-4246-8094-A03C2F88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37E3-6EDB-428D-B81C-FE6E78CA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8126-FD54-4B65-933D-080D46B1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6023-1DEC-40FE-A941-33F3CBF5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0447-F86C-4106-80B6-EC5CE466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3794-3F58-4805-8D2B-5C965A8E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9C50-6706-4BD0-9C9C-E883F0F5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5160" y="-59040"/>
            <a:ext cx="82198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C054-BFD9-4325-8D93-7CD181F1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76EF-898C-4050-9875-16EA345B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B4E-66CF-4723-8322-CFE4A722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438E-E228-4FB3-BB70-579E3DED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30B8-20E8-48FC-9D0F-73CE74C6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8A5E-A4A8-421F-82EC-D2BDE6DF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521C-5AF8-4AAB-821F-F58E0DCB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A4BC-BCC3-492C-A9A2-3D94AEDD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DB31-C81E-44A1-B124-5DA1E80E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AC3B-85E9-47BB-B1E6-94BF12E6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8C5E-0B66-479C-A2F9-CD13347A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-59040"/>
            <a:ext cx="82198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08D3-4FEB-4C0E-AC87-33793ADE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44B0-EBCB-46C4-A2CE-3B8CBE99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C64-090C-4653-BFA3-70D117E6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11E-E654-4A10-87C5-0DCCC21F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07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893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11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3B704-56F2-432E-A725-9DFC37C190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07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893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11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6AE48-21BF-4510-B760-BA1260635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sting software orientado a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ancy Hitschfeld Kah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artamento de Ciencias de la Compu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sting y herenc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uánto probar una clase que no se modifica?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Una de las afirmaciones más conocidas es que orientación a objetos permite que el código heredado puede ser reusado fácilmente y confiablemente. Esta afirmación sugiere que métodos heredados no deberían ser  probados nuevamente aplicados sobre objetos de la clase deriv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lass A{ // n&gt;=0                                    class B extends A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blic  A(){ n=0;}                                    public B()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blic int value(){ return next(n);}          protected  int next(int i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blic void strange(){ next(-3);}                          return n= n+ (n+1)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}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ted int next(int i){ n=n+i*i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ted int 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sting y herenc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licando los métodos de la clase A a instancias de ella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 instancias tienen siempre un estado  &gt;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 a= new A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valor = a.value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.strange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 = a.valu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licando los métodos heredados de A sobre instancias de la clase   B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éstas pueden tener un estado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 a= new B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valor = a.value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.strange();  // n &lt;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 = a.valu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l uso de contratos en forma explícita permite detectar este tipo de errores fácilmente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sting y herenc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umen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El código heredado debe ser testeado nuevamente sobre objetos definidos usando las clases derivadas por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Métodos de las subclases pueden modificar variables de instancia de una clas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Métodos de la clase base pueden usar métodos re-definidos  en las clases deriv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arco para probar software orientado a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iveles de tes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las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teracción entre métodos  y variables de in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luster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teracción entre grupos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sistema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ar todas las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arco para probar software orientado a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0120" indent="-600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47ff"/>
                </a:solidFill>
                <a:latin typeface="Arial"/>
              </a:rPr>
              <a:t>Testing de  una clase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orden sugerido de testing de acuerdo a los tipos de 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re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Selector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tornan el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edicado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tornan bool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Modificador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odifican el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De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Iter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984920"/>
            <a:ext cx="8001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Necesidad de tener conocimiento de la estructura interna del objeto, es decir, de su estado y como ca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cesidad de técnicas para hacer testing del comportamiento de los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esting el comportamiento de los obje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re las técnicas existentes están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Transición de estados (Matriz de transición):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 para probar una clase/objeto con pocos estados y mét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47ff"/>
                </a:solidFill>
                <a:latin typeface="Arial"/>
              </a:rPr>
              <a:t>Clases de equivalencia: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inputs que generan distintos estados del obje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47ff"/>
                </a:solidFill>
                <a:latin typeface="Arial"/>
              </a:rPr>
              <a:t>Casos extremos: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bordes (incluir parámetros de los métodos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600" spc="-1" strike="noStrike">
                <a:solidFill>
                  <a:srgbClr val="993366"/>
                </a:solidFill>
                <a:latin typeface="Arial"/>
              </a:rPr>
              <a:t>La  matriz de transición ayuda a visualizar el efecto de cada llamada a un método sobre el estado. Los parámetros van en otra dimensión de la matr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Transiciones de identidad: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 que consiste en identificar secuencias de llamadas a métodos que lleven  a un mismo estado (axiomas dentro de la descripción den un TDA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Testing el comportamiento de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1413000"/>
            <a:ext cx="33829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lass Counter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t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irtual int invariante(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turn   0&lt;=value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unter(int x){value=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oid reset(){ value=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oid incr(int i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 i&gt;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ue+=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oid decr(int i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 i&gt;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ue-=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value(){ return value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75200" y="1557360"/>
            <a:ext cx="494172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lass BoundedCounter: public Counter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t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max_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irtual int invariante(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turn   0&lt;=value &amp;&amp; value &lt;= max_value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oundedCounter(int x, int max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ue=x; max_value = m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oolean isDone(){ return value == max_value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esting el comportamiento de  obje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2640" y="1371600"/>
            <a:ext cx="746820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47ff"/>
                </a:solidFill>
                <a:latin typeface="Arial"/>
              </a:rPr>
              <a:t>Counter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úmero de estados = 2  (0 y &gt;0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47ff"/>
                </a:solidFill>
                <a:latin typeface="Arial"/>
              </a:rPr>
              <a:t>BoundedCounter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úmero de estados = 3 (0, ]0,max[, max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i="1" lang="es-CL" sz="1800" spc="-1" strike="noStrike">
                <a:solidFill>
                  <a:srgbClr val="993366"/>
                </a:solidFill>
                <a:latin typeface="Arial"/>
              </a:rPr>
              <a:t>Es importante considerar los parámetros de los métodos p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993366"/>
                </a:solidFill>
                <a:latin typeface="Arial"/>
              </a:rPr>
              <a:t>puede influir en el cambio del estado del obj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i="1" lang="es-CL" sz="1800" spc="-1" strike="noStrike">
                <a:solidFill>
                  <a:srgbClr val="993366"/>
                </a:solidFill>
                <a:latin typeface="Arial"/>
              </a:rPr>
              <a:t>Los errores pueden ser considerados como un estado m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producidos por un resultado erróneo o un estado ileg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s-CL" sz="1800" spc="-1" strike="noStrike">
                <a:solidFill>
                  <a:srgbClr val="0047ff"/>
                </a:solidFill>
                <a:latin typeface="Arial"/>
              </a:rPr>
              <a:t>Como detectar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r>
              <a:rPr b="0" i="1" lang="es-CL" sz="1600" spc="-1" strike="noStrike">
                <a:solidFill>
                  <a:srgbClr val="993366"/>
                </a:solidFill>
                <a:latin typeface="Arial"/>
                <a:ea typeface="DejaVu Sans"/>
              </a:rPr>
              <a:t>Dentro del objeto: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DejaVu Sans"/>
              </a:rPr>
              <a:t> contr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r>
              <a:rPr b="0" i="1" lang="es-CL" sz="1600" spc="-1" strike="noStrike">
                <a:solidFill>
                  <a:srgbClr val="993366"/>
                </a:solidFill>
                <a:latin typeface="Arial"/>
                <a:ea typeface="DejaVu Sans"/>
              </a:rPr>
              <a:t>Durante la interacción de muchos objetos: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DejaVu Sans"/>
              </a:rPr>
              <a:t> protocolos de inter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CL" sz="1800" spc="-1" strike="noStrike">
                <a:solidFill>
                  <a:srgbClr val="0047ff"/>
                </a:solidFill>
                <a:latin typeface="Arial"/>
              </a:rPr>
              <a:t>Cuáles casos probar?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detectar casos límite: inputs que producen un camb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de estado y inputs que mantienen el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1702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esting el comportamiento de obje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26920" y="2276640"/>
            <a:ext cx="7058160" cy="1801800"/>
            <a:chOff x="826920" y="2276640"/>
            <a:chExt cx="7058160" cy="1801800"/>
          </a:xfrm>
        </p:grpSpPr>
        <p:sp>
          <p:nvSpPr>
            <p:cNvPr id="132" name=""/>
            <p:cNvSpPr/>
            <p:nvPr/>
          </p:nvSpPr>
          <p:spPr>
            <a:xfrm>
              <a:off x="5075280" y="3691080"/>
              <a:ext cx="2808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50960" y="3691080"/>
              <a:ext cx="25243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6920" y="3691080"/>
              <a:ext cx="17240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lue(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75280" y="3219480"/>
              <a:ext cx="280836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, 1,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50960" y="3219480"/>
              <a:ext cx="25243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6920" y="3219480"/>
              <a:ext cx="172404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cr(i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75280" y="2747880"/>
              <a:ext cx="280836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50960" y="2747880"/>
              <a:ext cx="252432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26920" y="2747880"/>
              <a:ext cx="172404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cr(i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75280" y="2276640"/>
              <a:ext cx="280836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(2) value &gt;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50960" y="2276640"/>
              <a:ext cx="252432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(1) value==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2276640"/>
              <a:ext cx="172404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Cou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6920" y="2276640"/>
              <a:ext cx="705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6920" y="2747880"/>
              <a:ext cx="705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219480"/>
              <a:ext cx="705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6920" y="3691080"/>
              <a:ext cx="705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6920" y="4076640"/>
              <a:ext cx="70567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6920" y="2276640"/>
              <a:ext cx="1800" cy="180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50960" y="2276640"/>
              <a:ext cx="1800" cy="18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75280" y="2276640"/>
              <a:ext cx="1440" cy="18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83640" y="2276640"/>
              <a:ext cx="1440" cy="180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26920" y="4437000"/>
            <a:ext cx="7859880" cy="1873440"/>
            <a:chOff x="826920" y="4437000"/>
            <a:chExt cx="7859880" cy="1873440"/>
          </a:xfrm>
        </p:grpSpPr>
        <p:sp>
          <p:nvSpPr>
            <p:cNvPr id="154" name=""/>
            <p:cNvSpPr/>
            <p:nvPr/>
          </p:nvSpPr>
          <p:spPr>
            <a:xfrm>
              <a:off x="6719760" y="5881680"/>
              <a:ext cx="196560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59200" y="5881680"/>
              <a:ext cx="19605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87560" y="5881680"/>
              <a:ext cx="18716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6920" y="5881680"/>
              <a:ext cx="20606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lue(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19760" y="5432400"/>
              <a:ext cx="19656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, 1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59200" y="5432400"/>
              <a:ext cx="19605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, 1,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87560" y="5432400"/>
              <a:ext cx="1871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6920" y="5432400"/>
              <a:ext cx="2060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cr(i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19760" y="4970520"/>
              <a:ext cx="19656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59200" y="4970520"/>
              <a:ext cx="196056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,3,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87560" y="4970520"/>
              <a:ext cx="1871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2,3,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6920" y="4970520"/>
              <a:ext cx="2060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cr(i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19760" y="4437000"/>
              <a:ext cx="19656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(3) value==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59200" y="4437000"/>
              <a:ext cx="196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(2) 0&lt;value&lt;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7560" y="4437000"/>
              <a:ext cx="18716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(1) value=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6920" y="4437000"/>
              <a:ext cx="20606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oundedCou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6920" y="4437000"/>
              <a:ext cx="785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6920" y="4970520"/>
              <a:ext cx="785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6920" y="5432400"/>
              <a:ext cx="785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6920" y="5881680"/>
              <a:ext cx="785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6920" y="6308640"/>
              <a:ext cx="785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6920" y="4437000"/>
              <a:ext cx="180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87560" y="4437000"/>
              <a:ext cx="1800" cy="18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59200" y="4437000"/>
              <a:ext cx="1800" cy="18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19760" y="4437000"/>
              <a:ext cx="1800" cy="18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85360" y="4437000"/>
              <a:ext cx="144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92200" y="1557360"/>
            <a:ext cx="68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trices de transición para las clases Counter y Bounded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Testing el comportamiento de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200" spc="-1" strike="noStrike">
                <a:solidFill>
                  <a:srgbClr val="0047ff"/>
                </a:solidFill>
                <a:latin typeface="Arial"/>
              </a:rPr>
              <a:t>Ejemplos de transiciones de identidad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para la clase Count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unter c(0); int 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=c.value(); c.incr(3); c.incr(4); c.decr(7);     =&gt;  n==c.valu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unter c(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=c.value(); c. decr(4); c.incr(4);          =&gt;  n==c.valu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 general, </a:t>
            </a:r>
            <a:r>
              <a:rPr b="0" lang="es-CL" sz="2200" spc="-1" strike="noStrike">
                <a:solidFill>
                  <a:srgbClr val="0047ff"/>
                </a:solidFill>
                <a:latin typeface="Arial"/>
              </a:rPr>
              <a:t>probar tambien con secuencias para producir errore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y notar que estos son detectados por el contra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unter c(5); n=c.value(); c.incr(-5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unter c(5); n=c.value(); c.decr(6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idación d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Métodos d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Testing y h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rco  para probar software orientado a obj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Testing del comportamiento de los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Testing est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JUnit (Java)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Testing el comportamiento de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mo detectar errores en la interacción de múltiples obje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ontrat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ás orientados a una clase en si, pero las precondiciones ayudan en esta etapa tambien a detectar problemas en la interacción entre obje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transiciones de ident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--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 involucrar multiples obje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Prueba estátic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Leer cuidadosamente el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Inspección de códig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mejor en grupo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Walkthrough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Simular un cálculo leyendo las partes del código relacio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Probar formalmente que el programa es 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JUnit (Java)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testear clases automátic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Al implementar una cl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señar sus casos de prueba para probar su correctit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disponer de un conjunto de casos de prueba es muy útil cuando se cambia la implementación: permite verificar si lo que funcionaba antes aún funci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ómo hacer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rear para cada clase una clase asociada que contiene los casos de prueb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da caso de prueba se pone en un método cuyo nombre comienza con “tes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Java genera automáticamente el esqueleto de las clases de pru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JUnit (Java)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4360" y="1828800"/>
            <a:ext cx="4753080" cy="38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mport junit.framework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class DayTest extends TestCa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void testAd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ay d1 = new Day(1970,1,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t n= 1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ay d2 = d1.addDays(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ssert  d2.daysFrom(d1) == 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void testDaysBetween(){…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ompilar de necesita el archivo junit.j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vac –classpath .:junit.jar –ea junit.swingui.TestRunner  Day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1628640"/>
            <a:ext cx="367200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ómo se recomienda probar la siguiente cla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class Day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Day(int aYear, int aMont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t aDate)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julian = toJulian(aYear, aMont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a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Day addDays(int n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…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int daysFrom(Day other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…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ivate int julian; //julian day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// numero de días desde el 1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// enero de 4713 antes de cri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Validación de softwar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lidad del sofw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rrectitu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satisface requerimientos funcionales de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bustez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responde adecuadamente bajo circunstancias anor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Validación es en la práctica  generalmente restringido a aspectos de la funcionalidad y de la interfaz del usuario. Sin embargo, las propiedades estructurales también son important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Validación de softwar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iterios estruc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tención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software fácil de adap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uso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osee componentes reu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atibilidad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omponentes compatibles con otras para construir nuevos sistemas(plug-in’s)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993366"/>
                </a:solidFill>
                <a:latin typeface="Arial"/>
              </a:rPr>
              <a:t>Testing es el proceso de juzgar experimentalmente si un sistema y sus componentes satisfacen los requerimientos funcionales.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Este proceso involucra en general la ejecución del programa y no métodos formales de prueba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993366"/>
                </a:solidFill>
                <a:latin typeface="Arial"/>
              </a:rPr>
              <a:t>Cómo verificar criterios estructur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Métodos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sting involuc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Casos de prueba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do una cierta entrada esperamos un cierto resultado (input-output behavior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Procedimientos de prueba: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pecifica los pasos a seguir para validar un programa usando los casos de pru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Casos de prue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Orden de 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Cuándo parar de prob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n el caso de software orientado a objetos se debe diseñar un proceso para </a:t>
            </a:r>
            <a:r>
              <a:rPr b="0" i="1" lang="es-CL" sz="2000" spc="-1" strike="noStrike">
                <a:solidFill>
                  <a:srgbClr val="993366"/>
                </a:solidFill>
                <a:latin typeface="Arial"/>
              </a:rPr>
              <a:t>probar cada uno de los métodos de un objeto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con el objetivo de descubrir errores de implementación en los métodos o en el estado del objeto, o amb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Métodos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Una buena práctica de testing intenta </a:t>
            </a:r>
            <a:r>
              <a:rPr b="0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minimizar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a)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el esfuerzo de producir tests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(en términos de tiempo y costo), b)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el número de tests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y c)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el esfuerzo en ejecutarlos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, y al mismo tiempo  </a:t>
            </a:r>
            <a:r>
              <a:rPr b="0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maximizar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el número de errores detectados</a:t>
            </a:r>
            <a:r>
              <a:rPr b="0" i="1" lang="es-CL" sz="2000" spc="-1" strike="noStrike">
                <a:solidFill>
                  <a:srgbClr val="0047ff"/>
                </a:solidFill>
                <a:latin typeface="Arial"/>
              </a:rPr>
              <a:t> y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la confiafibilidad del software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(en términos de el número de tests pasados exitosamente)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s imposible decidir con absoluta certeza si un software está completamente libre de err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47ff"/>
                </a:solidFill>
                <a:latin typeface="Arial"/>
              </a:rPr>
              <a:t>Cuándo decidir parar de prob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pués de detectar N err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la razón entre el número de errores y el tiempo dedicado a buscarlos es lo suficientemente pequ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Métodos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ja negra (Black-box testing)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ueba fun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lases de equivalencia:</a:t>
            </a:r>
            <a:r>
              <a:rPr b="0" lang="es-CL" sz="24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egir un representante de la cl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Extr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ja Blanca (White-box testing)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ueb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ubrir instruccion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da instrucción es ejecutada al men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v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ubrir condicion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da condición debe hacerse verdadera y fa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Métodos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jemplo 1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uble sqrt(double x), x &gt;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600" spc="-1" strike="noStrike">
                <a:solidFill>
                  <a:srgbClr val="0047ff"/>
                </a:solidFill>
                <a:latin typeface="Arial"/>
              </a:rPr>
              <a:t>Clases de equivalencia: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s negativos]…,0[.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egir, por ejemplo el número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s positivos ]0,1[.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egir, por ejemplo el número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s positivos ]1,…[.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egir, por ejemplo el númer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Extremos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0,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jemplo 2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r casos de prueba para Black y White-box testing clases de Quicksort sobre un arreglo de tamaño 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47ff"/>
                </a:solidFill>
                <a:latin typeface="Arial"/>
              </a:rPr>
              <a:t>Ciclo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cualquier metodologí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 de mód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s de integr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s funcional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s d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sabilidad: es satisfactoria la interfaz al usuar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olumen: cómo responde a grandes volúmenes de dat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tress: reacciona bien con una red carg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guridad: provee un nivel suficiente de protecció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sempeño: es adecuado en los casos comun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s de ace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ncy hitschfeld</dc:creator>
  <dc:description/>
  <dc:language>en-US</dc:language>
  <cp:lastModifiedBy>nancy hitschfeld</cp:lastModifiedBy>
  <cp:revision>0</cp:revision>
  <dc:subject/>
  <dc:title>Testing de software orientado a objetos</dc:title>
</cp:coreProperties>
</file>