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002960" y="739800"/>
            <a:ext cx="483084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7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387828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7828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44CEB-8A0E-4EA3-B849-B184CFE94C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522000" y="4641840"/>
            <a:ext cx="6124680" cy="12972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specificando objetos en forma abstracta. Lo esencial en un  stack es que sirve para almacenar datos (contenedor) en forma de pila: “el último que llega es el primero que sale. Ejemplo: pila de libros. Las típicas operaciones de un stack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ush (put)    - pop (remove)      - top (item)  - empty       -  creador o inicializador (mak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paso clave para definir un buen tipo de datos abstracto es olvidarse de la implementación.  Un  stack debe ser visto como una estructura a la cual un "cliente" puede aplicar las operaciones definidas más arri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sistencia de nombres.  ¿Debieran  considerarse los nombres originales, definidos en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teratura para ciertos estructuras, o  uniformarse de acuerdo al objetivo que cumplen o funcionalidad que tien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stacks representan una rama de las estructuras conten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que son llamados más especificamente dispensers (dispensadores). Un dispensador permite a sus "clientes" almacenar información pero no permite ningún control sobre la posición en que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macena y de donde se recupera la información. A este grupo también pertenecen las co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o del mismo nombre para acciones similares en distintos tipos de contenedores lleva a que los usuarios de las componentes reusables encuentren mas rápido lo que bus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tratos, clientes y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clientes son módulos que usan ciertos servicios (operacion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finidos en otros módulos (proveedores). El protocolo o la form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teractúan cliente y proveedor lo llamaremos con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, es decir, las que no están definidos sobre todo el dominio, se denotan por ---/-&gt;. Por ejemplo, pop y top  no se pueden apl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 el STACK esta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729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Por qué funciones y no procedimient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DT es un modelo mate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 necesario contar con algún concepto para modelar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. El concepto de función es el más parec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funciones las clasificaremos en tr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reación:  (new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nsulta:  (item, empty). Nos permiten obtener propi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l objeto asociado 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mando:  Nos permiten obtener nuevas instancias del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 partir de instancia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axiomas definen el comportamiento de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 (como pop y top)  deben espec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econdiciones, dado que no están definidas para todo objeto asoc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10782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clase es un TDA  equipado  de  una implementación (posiblemente parc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pendiendo que tan completa es la implementación habla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efectiva: especifica completament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abstracta: puede estar implementada parcialmente  o nada. En este último caso, su definición es equivalente a la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concepto de clase abstracta es muy útil para análisis y diseño 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análisis se descubre el dominio del problema. El concepto de clase se usa sólo por su poder descriptivo pero no se desea ningún detalle de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diseño, la idea es especificar clases abstractas. La idea no es especificar  todos los detalles de implementación. En la etapa implementación, las clases deben ser ef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ás adelante veremos que las clases abstractas son muchas veces transformadas en efectivas a través de la herencia. El hacerlo así, permite módulos fáciles de exte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180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Cómo se implementa una clase efectiv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ública: La especificación del 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rivada: implementar todas sus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unque en el modelo matemático del TDA, todas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 se especifican como funciones, en la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remos el estilo estándar de programación en donde,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andos de implementan como procedimientos y las consultas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funciones. Los axiomas y las precondiciones también pasa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r parte de la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siguiente es una implemantación de un stack usando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racterísticas  de c++ que permiten la implementación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628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  es el concepto usado para representar los elementos que surgen del análisis del dominio del problema o más tarde como parte del diseño  de la apl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ntro del ambiente de programación, los objetos se conocen como instancias de una clase. Un objeto se caracteriz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estado:  definido a través de las variables de in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comportamiento: definido a través de las operaciones( método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identidad: la identidad se preserva durante su existenc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esar que el estado camb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84080" y="741240"/>
            <a:ext cx="5280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732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tipos de datos abstractos son la base para definir bu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.  Esta sección está dedicada a estudiar algunos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atemáticos elementales que ayudan a especificarlos correc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describir los objetos adecuadamente,  se necesita contar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gún método que satisfaga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precisas y no ambi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completas (al menos tan completas como se desea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no debieran estar sobre especific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013-6D2C-4165-A750-CFD2762A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ECC-5952-433C-833B-3899DB06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FC1-B56D-4649-B6D1-8C275524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528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532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528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AE0-76F6-49D5-B761-69137001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28A-ED5B-4F27-A1AC-5CA9235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47D-2C32-41C2-A0E6-FA890534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945-5FA0-41CB-9157-CA889EB5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2D7-352D-477F-BB32-913EED40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0440" y="-54000"/>
            <a:ext cx="890280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004-6D09-4C48-B1A4-5A8A337E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66B-F04F-4ED4-8A15-0EC96BA4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D25-6814-40DD-AAE7-791FC03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8FC-8284-4A48-81DE-570412C2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6720"/>
            <a:ext cx="22953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7600" y="6246720"/>
            <a:ext cx="312768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2080" y="6246720"/>
            <a:ext cx="229572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936AE-2A81-4803-8CCE-579DC73A2F3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484200"/>
            <a:ext cx="6400800" cy="15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971800"/>
            <a:ext cx="734688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</a:t>
            </a:r>
            <a:r>
              <a:rPr b="1" lang="en-GB" sz="16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228600"/>
            <a:ext cx="908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2800" y="1523880"/>
            <a:ext cx="7759800" cy="502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(almacenamiento de datos en una pila)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ípicas op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u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emp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new (creador)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62164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2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tos (contracts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 de definir los derechos y deberes de los clientes y 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condición 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requ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recondición que  impone los deberes de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-condición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promi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ostcondición que impone los deberes del desarrollador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ariante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invaria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xpresa propiedades semánticas del TDA, y restricciones de integridad de la clase que lo implementa. Estas deben ser mantenidas por todas sus rut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86932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8604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os de una especificación form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las operaciones (interfaz)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xioma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el comportamiento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condiciones: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parte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1440" y="-143280"/>
            <a:ext cx="8786880" cy="15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[G], donde G es un tipo arbitr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sh:      STACK[G]xG  ---&gt;   STACK[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p:     STACK[G]  -/-&gt;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:      STACK[G]   -/-&gt;  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ty: STACK[G]  ---&gt;    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:     ---&gt;                   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7044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98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 qué funciones y no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DA es un modelo mate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pto de función ya ex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1000"/>
              </a:lnSpc>
              <a:spcAft>
                <a:spcPts val="1137"/>
              </a:spcAft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ificación de fun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ción (new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 (top, empty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propi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  (pop, push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nuevas instancias a partir de las ya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080" y="9360"/>
            <a:ext cx="86216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9440" cy="56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push(s,x)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push(s,x))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ty(new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empty(push(s,x)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condiciones (funciones parcial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908028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Qué es una clase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DA equipado con una implementación (variables de instancia y algoritmos), posiblement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efectiv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pecifica completamente su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abstract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ede esta implementada parcialmente o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uál es la forma de definir una clase efectiv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cificar un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ger un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r las funciones, axiomas y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759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Cómo se implementa una clase efec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: funciones del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rivada: parte dependiente de l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TDA se implementa como sig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s             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s              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iomas                 postcondicones o in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ondiciones     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en 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49240"/>
            <a:ext cx="8458200" cy="46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de C++ que permiten la implementación de un T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cialización y limpieza de objetos (constructor y de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gnación e inicialización (redefinir operador de asignación y redefinir constructor de copi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finición de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amada implícita y explícita de destru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pos parametrizados (templat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7759440" cy="68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8534520" cy="495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Stack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~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ush(T element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 t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emp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* contened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operator==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nvariante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tamano &gt; 0 &amp;&amp; tope &gt;=-1 &amp;&amp; tope &lt; tamano &amp;&amp; contenedor !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6640" y="1142640"/>
            <a:ext cx="7759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to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ado, comportamiento e id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TDA a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C+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0240" y="1371240"/>
            <a:ext cx="866808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int t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t&gt;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s.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s.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s.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s.tamano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nt i=0; i&lt;=tope; i++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i] = s.contenedor[i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s.invariante() &amp;&amp; s == *th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1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~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contenedor[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ush(T elemento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(tope+1) &lt; taman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tope+1] = elem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+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contenedor[tope] == elemento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-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0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T Stack&lt;T&gt;::t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ontenedor[tope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int Stack&lt;T&gt;::operator==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invariante() || s.invariante(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solo el contenido debe der igual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tope != s.tope 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=0; i &lt;= tope;  i++ 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contenedor[i] != s.contenedor[i]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5920" y="1301760"/>
            <a:ext cx="8667720" cy="52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“stack.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s(1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8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3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-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2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nuevo_stack=s; // inicializ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s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 inicializado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nuevo_stack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nuevo_stack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nuevo_stack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25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&lt;float&gt; *puntero_a_stack  = new Stack&lt;float&gt;(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5.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1.2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puntero_a_stack; // destruccion explí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destrucción implícita de s y nuevo_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importantes e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icialización (con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ción de objetos genéricos a través del tipo Object y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colección automática de ba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8840" y="1294920"/>
            <a:ext cx="866772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ck generico en java: (version simple usando Object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y_stack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lass My_stack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op(){ top--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o de la clase My_stack genérico en java: (version simple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Example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mport My_sta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class Examp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_stack s1 = new My_stack(10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1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2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1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ystem.out.print(s1.top()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9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4080" y="1143000"/>
            <a:ext cx="831852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{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// Stack genérico co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286000"/>
            <a:ext cx="70866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 + 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Elemento que surge del análisis del dominio del problema a re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Instancia de una clase (programac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n)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Tipo de molde o plantilla que define los valores que almacena un objeto en sus variables de instancia, y acciones u operaciones que se le pueden aplicar a trav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  <a:ea typeface="Arial"/>
              </a:rPr>
              <a:t>és de su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080" y="-54000"/>
            <a:ext cx="89089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9144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7080"/>
            <a:ext cx="84106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&lt;T&gt;{  //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ack genérico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on templates  y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0080" y="-9360"/>
            <a:ext cx="890892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1924200"/>
            <a:ext cx="5667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+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04320" cy="484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ede consta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bles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Variables de la clase (sta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jemplo de una clase en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 class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6b"/>
                </a:solidFill>
                <a:latin typeface="Antique Olive Roman"/>
                <a:ea typeface="Arial"/>
              </a:rPr>
              <a:t>private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int x;   // variable 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rivate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x=0; y=0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int _x, int _y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x=_x;  y= _y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X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x; }  // 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Y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y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1400" y="1885680"/>
            <a:ext cx="775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752480"/>
            <a:ext cx="769608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larac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n y uso de un objeto de la clase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point =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  <a:ea typeface="Arial Unicode MS"/>
              </a:rPr>
              <a:t>n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(5,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 x = point.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getX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acterísticas de un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stado:  definido a través de las variables de in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omportamiento:  definido a través de las operaciones o 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dentidad: es lo que se preserva a pesar que el estado cam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definic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ón de clases </a:t>
            </a:r>
            <a:r>
              <a:rPr b="1" lang="en-GB" sz="4400" spc="-1" strike="noStrike">
                <a:solidFill>
                  <a:srgbClr val="2323dc"/>
                </a:solidFill>
                <a:latin typeface="Arial"/>
                <a:ea typeface="Arial"/>
              </a:rPr>
              <a:t>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280" y="1863720"/>
            <a:ext cx="40068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x=0; y=0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int _x, int _y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= _x; y = _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int getX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return x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loat  rgb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gb[0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gb[1] = rgb[2]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float r, float 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loat b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057400"/>
            <a:ext cx="45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Point _cent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 _color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_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 = _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void move(Point  point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 poin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 whe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72720"/>
            <a:ext cx="769608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bjetos: declarac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ón, estado y comportamie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34960"/>
            <a:ext cx="800100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o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blue(0,0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a(1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b(2,3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rectangl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circle(position_a,blue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mov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position_b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position_a = 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whe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to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371600"/>
            <a:ext cx="4114800" cy="42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lue: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1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b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0,0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ircle: (1,1)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2,3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ortamiento d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ctang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ident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2960" y="1371600"/>
            <a:ext cx="430992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*p2 y *p3 </a:t>
            </a:r>
            <a:r>
              <a:rPr b="0" lang="en-GB" sz="2000" spc="-1" strike="noStrike">
                <a:solidFill>
                  <a:srgbClr val="944794"/>
                </a:solidFill>
                <a:latin typeface="Times New Roman"/>
              </a:rPr>
              <a:t>son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p4 y *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son el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600200"/>
            <a:ext cx="4343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47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p2 y 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3 y p4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l 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82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Libro (Mey97)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9036000" cy="42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ómo definir buenos objetos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 un buen T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Qué característica debe cumplir un buen TDA?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Su descripción 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cisa y no ambi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sobre-especifi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ependiente de la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1  Conceptos básicos:  clases y objetos</dc:title>
</cp:coreProperties>
</file>