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907588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0080" cy="9748800"/>
          </a:xfrm>
          <a:custGeom>
            <a:avLst/>
            <a:gdLst>
              <a:gd name="textAreaLeft" fmla="*/ 360 w 6850080"/>
              <a:gd name="textAreaRight" fmla="*/ 6849720 w 685008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40">
                <a:moveTo>
                  <a:pt x="5" y="0"/>
                </a:moveTo>
                <a:arcTo wR="5" hR="5" stAng="16200000" swAng="-5400000"/>
                <a:lnTo>
                  <a:pt x="0" y="30735"/>
                </a:lnTo>
                <a:arcTo wR="5" hR="5" stAng="10800000" swAng="-5400000"/>
                <a:lnTo>
                  <a:pt x="21595" y="30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0080" cy="9748800"/>
          </a:xfrm>
          <a:custGeom>
            <a:avLst/>
            <a:gdLst>
              <a:gd name="textAreaLeft" fmla="*/ 360 w 6850080"/>
              <a:gd name="textAreaRight" fmla="*/ 6849720 w 685008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40">
                <a:moveTo>
                  <a:pt x="5" y="0"/>
                </a:moveTo>
                <a:arcTo wR="5" hR="5" stAng="16200000" swAng="-5400000"/>
                <a:lnTo>
                  <a:pt x="0" y="30735"/>
                </a:lnTo>
                <a:arcTo wR="5" hR="5" stAng="10800000" swAng="-5400000"/>
                <a:lnTo>
                  <a:pt x="21595" y="30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0080" cy="9748800"/>
          </a:xfrm>
          <a:custGeom>
            <a:avLst/>
            <a:gdLst>
              <a:gd name="textAreaLeft" fmla="*/ 360 w 6850080"/>
              <a:gd name="textAreaRight" fmla="*/ 6849720 w 685008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40">
                <a:moveTo>
                  <a:pt x="5" y="0"/>
                </a:moveTo>
                <a:arcTo wR="5" hR="5" stAng="16200000" swAng="-5400000"/>
                <a:lnTo>
                  <a:pt x="0" y="30735"/>
                </a:lnTo>
                <a:arcTo wR="5" hR="5" stAng="10800000" swAng="-5400000"/>
                <a:lnTo>
                  <a:pt x="21595" y="30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0080" cy="9748800"/>
          </a:xfrm>
          <a:custGeom>
            <a:avLst/>
            <a:gdLst>
              <a:gd name="textAreaLeft" fmla="*/ 360 w 6850080"/>
              <a:gd name="textAreaRight" fmla="*/ 6849720 w 685008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40">
                <a:moveTo>
                  <a:pt x="5" y="0"/>
                </a:moveTo>
                <a:arcTo wR="5" hR="5" stAng="16200000" swAng="-5400000"/>
                <a:lnTo>
                  <a:pt x="0" y="30735"/>
                </a:lnTo>
                <a:arcTo wR="5" hR="5" stAng="10800000" swAng="-5400000"/>
                <a:lnTo>
                  <a:pt x="21595" y="30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1520" cy="9748800"/>
          </a:xfrm>
          <a:custGeom>
            <a:avLst/>
            <a:gdLst>
              <a:gd name="textAreaLeft" fmla="*/ 360 w 6851520"/>
              <a:gd name="textAreaRight" fmla="*/ 6851160 w 685152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33">
                <a:moveTo>
                  <a:pt x="5" y="0"/>
                </a:moveTo>
                <a:arcTo wR="5" hR="5" stAng="16200000" swAng="-5400000"/>
                <a:lnTo>
                  <a:pt x="0" y="30728"/>
                </a:lnTo>
                <a:arcTo wR="5" hR="5" stAng="10800000" swAng="-5400000"/>
                <a:lnTo>
                  <a:pt x="21595" y="307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0080" cy="9748800"/>
          </a:xfrm>
          <a:custGeom>
            <a:avLst/>
            <a:gdLst>
              <a:gd name="textAreaLeft" fmla="*/ 360 w 6850080"/>
              <a:gd name="textAreaRight" fmla="*/ 6849720 w 685008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40">
                <a:moveTo>
                  <a:pt x="5" y="0"/>
                </a:moveTo>
                <a:arcTo wR="5" hR="5" stAng="16200000" swAng="-5400000"/>
                <a:lnTo>
                  <a:pt x="0" y="30735"/>
                </a:lnTo>
                <a:arcTo wR="5" hR="5" stAng="10800000" swAng="-5400000"/>
                <a:lnTo>
                  <a:pt x="21595" y="30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0080" cy="9748800"/>
          </a:xfrm>
          <a:custGeom>
            <a:avLst/>
            <a:gdLst>
              <a:gd name="textAreaLeft" fmla="*/ 360 w 6850080"/>
              <a:gd name="textAreaRight" fmla="*/ 6849720 w 685008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40">
                <a:moveTo>
                  <a:pt x="5" y="0"/>
                </a:moveTo>
                <a:arcTo wR="5" hR="5" stAng="16200000" swAng="-5400000"/>
                <a:lnTo>
                  <a:pt x="0" y="30735"/>
                </a:lnTo>
                <a:arcTo wR="5" hR="5" stAng="10800000" swAng="-5400000"/>
                <a:lnTo>
                  <a:pt x="21595" y="30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002960" y="739800"/>
            <a:ext cx="4830840" cy="36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73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592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3878280" y="-360"/>
            <a:ext cx="29592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9259920"/>
            <a:ext cx="295920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78280" y="9259920"/>
            <a:ext cx="295920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3A1F8-74C2-4656-B477-3A8ECD257C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522000" y="4641840"/>
            <a:ext cx="6124680" cy="12972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specificando objetos en forma abstracta. Lo esencial en un  stack es que sirve para almacenar datos (contenedor) en forma de pila: “el último que llega es el primero que sale. Ejemplo: pila de libros. Las típicas operaciones de un stack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push (put)    - pop (remove)      - top (item)  - empty       -  creador o inicializador (mak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paso clave para definir un buen tipo de datos abstracto es olvidarse de la implementación.  Un  stack debe ser visto como una estructura a la cual un "cliente" puede aplicar las operaciones definidas más arrib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Consistencia de nombres.  ¿Debieran  considerarse los nombres originales, definidos en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iteratura para ciertos estructuras, o  uniformarse de acuerdo al objetivo que cumplen o funcionalidad que tienen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os stacks representan una rama de las estructuras conten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que son llamados más especificamente dispensers (dispensadores). Un dispensador permite a sus "clientes" almacenar información pero no permite ningún control sobre la posición en que 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almacena y de donde se recupera la información. A este grupo también pertenecen las co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uso del mismo nombre para acciones similares en distintos tipos de contenedores lleva a que los usuarios de las componentes reusables encuentren mas rápido lo que busc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Contratos, clientes y prove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os clientes son módulos que usan ciertos servicios (operacione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definidos en otros módulos (proveedores). El protocolo o la forma en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interactúan cliente y proveedor lo llamaremos contra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 funciones parciales, es decir, las que no están definidos sobre todo el dominio, se denotan por ---/-&gt;. Por ejemplo, pop y top  no se pueden apli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si el STACK esta vací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10800" y="4627080"/>
            <a:ext cx="5025960" cy="7294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¿Por qué funciones y no procedimient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ADT es un modelo matemá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Es necesario contar con algún concepto para modelar 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operaciones. El concepto de función es el más parec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s funciones las clasificaremos en tres ti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Creación:  (new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Consulta:  (item, empty). Nos permiten obtener propie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del objeto asociado al T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Comando:  Nos permiten obtener nuevas instancias del ob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a partir de instancias exist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os axiomas definen el comportamiento del T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 funciones parciales (como pop y top)  deben especifi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recondiciones, dado que no están definidas para todo objeto asoc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al T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10800" y="4627080"/>
            <a:ext cx="5025960" cy="10782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Una clase es un TDA  equipado  de  una implementación (posiblemente parcia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Dependiendo que tan completa es la implementación hablare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de lo sigui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clase efectiva: especifica completamente su 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clase abstracta: puede estar implementada parcialmente  o nada. En este último caso, su definición es equivalente a la de un T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concepto de clase abstracta es muy útil para análisis y diseño O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n la etapa de análisis se descubre el dominio del problema. El concepto de clase se usa sólo por su poder descriptivo pero no se desea ningún detalle de imple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n la etapa de diseño, la idea es especificar clases abstractas. La idea no es especificar  todos los detalles de implementación. En la etapa implementación, las clases deben ser efecti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ás adelante veremos que las clases abstractas son muchas veces transformadas en efectivas a través de la herencia. El hacerlo así, permite módulos fáciles de exten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7180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¿Cómo se implementa una clase efectiv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arte pública: La especificación del T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arte privada: implementar todas sus caracterís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Aunque en el modelo matemático del TDA, todas 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operaciones se especifican como funciones, en la 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usaremos el estilo estándar de programación en donde, 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comandos de implementan como procedimientos y las consultas co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funciones. Los axiomas y las precondiciones también pasan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ser parte de la imple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 siguiente es una implemantación de un stack usando 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características  de c++ que permiten la implementación de un T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0800" y="4627080"/>
            <a:ext cx="5025960" cy="6286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Objeto  es el concepto usado para representar los elementos que surgen del análisis del dominio del problema o más tarde como parte del diseño  de la aplic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Dentro del ambiente de programación, los objetos se conocen como instancias de una clase. Un objeto se caracteriza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estado:  definido a través de las variables de in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comportamiento: definido a través de las operaciones( método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identidad: la identidad se preserva durante su existencia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esar que el estado camb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84080" y="741240"/>
            <a:ext cx="5280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003320" y="739800"/>
            <a:ext cx="4836960" cy="36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003320" y="739800"/>
            <a:ext cx="4836960" cy="36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7732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os tipos de datos abstractos son la base para definir bue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objetos.  Esta sección está dedicada a estudiar algunos concep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atemáticos elementales que ayudan a especificarlos correct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ara describir los objetos adecuadamente,  se necesita contar 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algún método que satisfaga lo sigui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Las descripciones deben ser precisas y no ambigu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Las descripciones deben ser completas (al menos tan completas como se desean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Las descripciones no debieran estar sobre especific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4C82-DF0D-4E73-AAC3-9CD1772D1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028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962160"/>
            <a:ext cx="89028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E99A-CD47-4052-BF08-B6E26EF8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60452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96216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396216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692C-7D9E-48B2-9DF1-67B568FC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663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5320" y="1604520"/>
            <a:ext cx="28663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5280" y="1604520"/>
            <a:ext cx="28663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962160"/>
            <a:ext cx="28663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5320" y="3962160"/>
            <a:ext cx="28663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5280" y="3962160"/>
            <a:ext cx="28663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74F6-5FCF-4C9D-B970-4A41754B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028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41AE-520F-4C13-A04A-FE20A4FA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028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F974-A936-40F7-B15F-1B50B975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444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604520"/>
            <a:ext cx="43444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57BA-51B3-422C-966C-5D739EE1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061A-9A02-41CA-8BA2-21DD4991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0440" y="-54000"/>
            <a:ext cx="8902800" cy="57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CB62-3112-40EC-B341-D8E22ECC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604520"/>
            <a:ext cx="43444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96216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5DBA-D024-4CAA-B80D-7CEAA2B3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444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60452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396216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01EC-6AAB-4166-BF8D-030C000D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60452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962160"/>
            <a:ext cx="89028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455F-85D9-4E60-99DE-181E42A5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028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6720"/>
            <a:ext cx="2295360" cy="6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7600" y="6246720"/>
            <a:ext cx="3127680" cy="6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02080" y="6246720"/>
            <a:ext cx="2295720" cy="6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B6EC1-9B4A-4F42-8187-449E03F036F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484200"/>
            <a:ext cx="6400800" cy="157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ases y objetos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2971800"/>
            <a:ext cx="7346880" cy="24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81d58"/>
                </a:solidFill>
                <a:latin typeface="Arial"/>
              </a:rPr>
              <a:t>Universidad de Ch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81d58"/>
                </a:solidFill>
                <a:latin typeface="Arial"/>
              </a:rPr>
              <a:t>Departamento de Ciencias de la Compu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81d58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81d58"/>
                </a:solidFill>
                <a:latin typeface="Arial"/>
              </a:rPr>
              <a:t>                   </a:t>
            </a:r>
            <a:r>
              <a:rPr b="1" lang="en-GB" sz="1600" spc="-1" strike="noStrike">
                <a:solidFill>
                  <a:srgbClr val="081d58"/>
                </a:solidFill>
                <a:latin typeface="Arial"/>
              </a:rPr>
              <a:t>Prof.: Nancy Hitschfeld Kah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2560" y="228600"/>
            <a:ext cx="908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pos de datos abstractos (TDA)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72800" y="1523880"/>
            <a:ext cx="7759800" cy="502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ack </a:t>
            </a:r>
            <a:r>
              <a:rPr b="0" lang="en-GB" sz="2400" spc="-1" strike="noStrike">
                <a:solidFill>
                  <a:srgbClr val="94476b"/>
                </a:solidFill>
                <a:latin typeface="Arial"/>
              </a:rPr>
              <a:t>(almacenamiento de datos en una pila)</a:t>
            </a:r>
            <a:r>
              <a:rPr b="0" lang="en-GB" sz="2400" spc="-1" strike="noStrike">
                <a:solidFill>
                  <a:srgbClr val="94476b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ípicas opera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pu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        </a:t>
            </a: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p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        </a:t>
            </a: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t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        </a:t>
            </a: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emp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        </a:t>
            </a: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new (creador)</a:t>
            </a: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1080" y="-142920"/>
            <a:ext cx="8621640" cy="17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pos de datos abstractos (TDA)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543800" cy="428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tratos (contracts)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a de definir los derechos y deberes de los clientes y 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26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-condición (</a:t>
            </a:r>
            <a:r>
              <a:rPr b="0" lang="en-GB" sz="2400" spc="-1" strike="noStrike">
                <a:solidFill>
                  <a:srgbClr val="94476b"/>
                </a:solidFill>
                <a:latin typeface="Arial"/>
              </a:rPr>
              <a:t>requi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precondición que  impone los deberes de el c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26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-condición(</a:t>
            </a:r>
            <a:r>
              <a:rPr b="0" lang="en-GB" sz="2400" spc="-1" strike="noStrike">
                <a:solidFill>
                  <a:srgbClr val="94476b"/>
                </a:solidFill>
                <a:latin typeface="Arial"/>
              </a:rPr>
              <a:t>promi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postcondición que impone los deberes del desarrollador d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26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ariante(</a:t>
            </a:r>
            <a:r>
              <a:rPr b="0" lang="en-GB" sz="2400" spc="-1" strike="noStrike">
                <a:solidFill>
                  <a:srgbClr val="94476b"/>
                </a:solidFill>
                <a:latin typeface="Arial"/>
              </a:rPr>
              <a:t>invaria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expresa propiedades semánticas del TDA, y restricciones de integridad de la clase que lo implementa. Estas deben ser mantenidas por todas sus rut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41080" y="-142920"/>
            <a:ext cx="8869320" cy="17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pos de datos abstractos (TDA)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86040"/>
            <a:ext cx="8105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ementos de una especificación form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i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unciones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finen las operaciones (interfaz) del T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xiomas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finen el comportamiento del T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econdiciones: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finen parte del contr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1440" y="-143280"/>
            <a:ext cx="8786880" cy="151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pos de datos abstractos (TDA)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7315200" cy="516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i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[G], donde G es un tipo arbitr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un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sh:      STACK[G]xG  ---&gt;   STACK[G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p:     STACK[G]  -/-&gt;    STACK[G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p:      STACK[G]   -/-&gt;   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pty: STACK[G]  ---&gt;     boo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:     ---&gt;                       STACK[G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70444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pos de datos abstractos (TDA)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31400" y="1886040"/>
            <a:ext cx="775980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r qué funciones y no procedimient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DA es un modelo matem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epto de función ya ex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lnSpc>
                <a:spcPct val="91000"/>
              </a:lnSpc>
              <a:spcAft>
                <a:spcPts val="1137"/>
              </a:spcAft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lasificación de funcion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ción (new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 (top, empty)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tención de propie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ando  (pop, push)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tención de nuevas instancias a partir de las ya 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dur="indefinite" fill="hold">
                      <p:stCondLst>
                        <p:cond delay="indefinite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1080" y="9360"/>
            <a:ext cx="862164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pos de datos abstractos (TDA) 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59440" cy="562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2080" indent="-2620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xio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p(push(s,x))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p(push(s,x)) =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pty(new) =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empty(push(s,x)) =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condiciones (funciones parciales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p(s:STACK[G]) require not empty(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p(s:STACK[G]) require not empty(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dur="indefinite" fill="hold">
                      <p:stCondLst>
                        <p:cond delay="indefinite"/>
                      </p:stCondLst>
                      <p:childTnLst>
                        <p:par>
                          <p:cTn id="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dur="indefinite" fill="hold">
                      <p:stCondLst>
                        <p:cond delay="indefinite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dur="indefinite" fill="hold">
                      <p:stCondLst>
                        <p:cond delay="indefinite"/>
                      </p:stCondLst>
                      <p:childTnLst>
                        <p:par>
                          <p:cTn id="2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447920"/>
            <a:ext cx="908028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¿Qué es una clase?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DA equipado con una implementación (variables de instancia y algoritmos), posiblemente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675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e efectiva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pecifica completamente su imple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675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e abstracta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ede esta implementada parcialmente o 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¿Cuál es la forma de definir una clase efectiv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pecificar un T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coger una 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ar las funciones, axiomas y precond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dur="indefinite" fill="hold">
                      <p:stCondLst>
                        <p:cond delay="indefinite"/>
                      </p:stCondLst>
                      <p:childTnLst>
                        <p:par>
                          <p:cTn id="2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dur="indefinite" fill="hold">
                      <p:stCondLst>
                        <p:cond delay="indefinite"/>
                      </p:stCondLst>
                      <p:childTnLst>
                        <p:par>
                          <p:cTn id="2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dur="indefinite" fill="hold">
                      <p:stCondLst>
                        <p:cond delay="indefinite"/>
                      </p:stCondLst>
                      <p:childTnLst>
                        <p:par>
                          <p:cTn id="2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dur="indefinite" fill="hold">
                      <p:stCondLst>
                        <p:cond delay="indefinite"/>
                      </p:stCondLst>
                      <p:childTnLst>
                        <p:par>
                          <p:cTn id="3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759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¿Cómo se implementa una clase efectiv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e pública: funciones del T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e privada: parte dependiente de la 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 TDA se implementa como sig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andos             procedi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s               fun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xiomas                 postcondicones o invari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condiciones      precond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dur="indefinite" fill="hold">
                      <p:stCondLst>
                        <p:cond delay="indefinite"/>
                      </p:stCondLst>
                      <p:childTnLst>
                        <p:par>
                          <p:cTn id="3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dur="indefinite" fill="hold">
                      <p:stCondLst>
                        <p:cond delay="indefinite"/>
                      </p:stCondLst>
                      <p:childTnLst>
                        <p:par>
                          <p:cTn id="3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dur="indefinite" fill="hold">
                      <p:stCondLst>
                        <p:cond delay="indefinite"/>
                      </p:stCondLst>
                      <p:childTnLst>
                        <p:par>
                          <p:cTn id="3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(en c++)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749240"/>
            <a:ext cx="8458200" cy="468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ectos de C++ que permiten la implementación de un T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cialización y limpieza de objetos (constructor y destructor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ignación e inicialización (redefinir operador de asignación y redefinir constructor de copi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efinición de ope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e pública y priv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lamada implícita y explícita de destru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pos parametrizados (template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1440" y="377640"/>
            <a:ext cx="7759440" cy="68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(c++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8534520" cy="495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Stack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t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tack(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tack(Stack&lt;T&gt;&amp;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~St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push(T elemento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pop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 top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empty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* contened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taman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to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operator==(Stack&lt;T&gt;&amp;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invariante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tamano &gt; 0 &amp;&amp; tope &gt;=-1 &amp;&amp; tope &lt; tamano &amp;&amp; contenedor !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26640" y="1142640"/>
            <a:ext cx="7759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lases y obje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bjetos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stado, comportamiento e ident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ipos de datos abstractos (TDA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 TDA a cl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jemplo de TDA genérico en C+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jemplo de TDA genérico en Ja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(c++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60240" y="1371240"/>
            <a:ext cx="8668080" cy="449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Stack&lt;T&gt;::Stack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Stack&lt;T&gt;::Stack(int t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t&gt;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amano = 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ope = -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ntenedor = new T[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invariant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Stack&lt;T&gt;::Stack(Stack&lt;T&gt;&amp; s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s.invariant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amano = s.taman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ope = s.to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ntenedor = new T[s.tamano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or(int i=0; i&lt;=tope; i++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ntenedor[i] = s.contenedor[i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invariante() &amp;&amp; s.invariante() &amp;&amp; s == *thi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(c++)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8840" y="1676160"/>
            <a:ext cx="8667720" cy="412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Stack&lt;T&gt;::~Stack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invariant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elete contenedor[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void Stack&lt;T&gt;::push(T elemento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invariante() &amp;&amp; (tope+1) &lt; tamano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ntenedor[tope+1] = element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ope +=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contenedor[tope] == elemento &amp;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variant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void Stack&lt;T&gt;::pop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 !empty() &amp;&amp; invariant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ope -=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(c++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8840" y="1676160"/>
            <a:ext cx="8667720" cy="401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T Stack&lt;T&gt;::top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 !empty() &amp;&amp; invariant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contenedor[tope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int Stack&lt;T&gt;::operator==(Stack&lt;T&gt;&amp; s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 invariante() || s.invariante()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* solo el contenido debe der igual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f( tope != s.tope ) return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or(i=0; i &lt;= tope;  i++ 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f( contenedor[i] != s.contenedor[i]) return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(c++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75920" y="1301760"/>
            <a:ext cx="8667720" cy="52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File: main.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#include “stack.h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ain(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ack&lt;int&gt; s(1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.push(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.push(8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.push(3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.push(-1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.push(2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ack&lt;int&gt; nuevo_stack=s; // inicializ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d::cout &lt;&lt; "Contenido del stack: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while( !s.empty() 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d::cout &lt;&lt; s.top() &lt;&lt; "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.po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d::cout &lt;&lt; "Contenido del stack inicializado: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while( !nuevo_stack.empty() 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d::cout &lt;&lt; nuevo_stack.top() &lt;&lt; "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nuevo_stack.po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(c++)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8840" y="1295280"/>
            <a:ext cx="8667720" cy="25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ile: main.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tack&lt;float&gt; *puntero_a_stack  = new Stack&lt;float&gt;(2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ntero_a_stack-&gt;push(5.8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ntero_a_stack-&gt;push(1.2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elete puntero_a_stack; // destruccion explí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/ destrucción implícita de s y nuevo_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1440" y="169560"/>
            <a:ext cx="77580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´s a clases (java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31400" y="1886040"/>
            <a:ext cx="7758360" cy="479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ectos importantes e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e 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ública y priv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icialización (constructor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finición de objetos genéricos a través del tipo Object y temp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colección automática de bas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(java)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8840" y="1294920"/>
            <a:ext cx="8667720" cy="49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9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ack generico en java: (version simple usando Object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file: My_stack.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class My_stack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rivate Object  v[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rivate int to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rivate int max_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My_stack(int size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ax_size =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v = new Object[size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top =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Object top(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return v[top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void pop(){ top--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void push(Object item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v[++top] = ite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boolean empty(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return top ==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(java)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8840" y="1295280"/>
            <a:ext cx="8667720" cy="491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o de la clase My_stack genérico en java: (version simple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file: Example.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mport My_stac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class Exampl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static void main(String args[]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y_stack s1 = new My_stack(10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1.push(new Integer(1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1.push(new Integer(2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1.push(new Integer(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while( !s1.empty() 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ystem.out.print(s1.top() + " 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1.po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759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´s a clases (java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54080" y="1143000"/>
            <a:ext cx="8318520" cy="53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class My_stack{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// Stack genérico con cont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Object  v[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int to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int max_siz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boolean invariant(){ return -1 &lt;= top &amp;&amp; top &lt; max_size &amp;&amp; v !=null;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My_stack(int size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size &gt; 0 : “size must be greater than 0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max_size = siz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v = new Object[size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top = -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Object top(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!empty() : “stack empty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eturn v[top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void pop(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!empty() : “stack empty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top--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(java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2286000"/>
            <a:ext cx="708660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void push(Object item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(top + 1 &lt; max_size) : “stack full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 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v[++top] = item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boolean empty(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eturn top == -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1440" y="169560"/>
            <a:ext cx="77580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ases y Objet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31400" y="1886040"/>
            <a:ext cx="7758360" cy="47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2080" indent="-2620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lbertus"/>
              </a:rPr>
              <a:t>Elemento que surge del análisis del dominio del problema a resol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lbertus"/>
              </a:rPr>
              <a:t>Instancia de una clase (programaci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ó</a:t>
            </a:r>
            <a:r>
              <a:rPr b="0" lang="en-GB" sz="2000" spc="-1" strike="noStrike">
                <a:solidFill>
                  <a:srgbClr val="000000"/>
                </a:solidFill>
                <a:latin typeface="Albertus"/>
              </a:rPr>
              <a:t>n)</a:t>
            </a:r>
            <a:r>
              <a:rPr b="0" lang="en-GB" sz="2000" spc="-1" strike="noStrike">
                <a:solidFill>
                  <a:srgbClr val="000000"/>
                </a:solidFill>
                <a:latin typeface="Albertu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e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lbertus"/>
              </a:rPr>
              <a:t>Tipo de molde o plantilla que define los valores que almacena un objeto en sus variables de instancia, y acciones u operaciones que se le pueden aplicar a trav</a:t>
            </a:r>
            <a:r>
              <a:rPr b="0" lang="en-GB" sz="2000" spc="-1" strike="noStrike">
                <a:solidFill>
                  <a:srgbClr val="000000"/>
                </a:solidFill>
                <a:latin typeface="Albertus"/>
                <a:ea typeface="Arial"/>
              </a:rPr>
              <a:t>és de sus méto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0080" y="-54000"/>
            <a:ext cx="89089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 TDA's a clases (java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914400"/>
            <a:ext cx="8915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297080"/>
            <a:ext cx="841068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class My_stack&lt;T&gt;{  //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Stack genérico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con templates  y cont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T  v[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int to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int max_siz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bolean invariant(){ return -1 &lt;= top &amp;&amp; top &lt; max_size &amp;&amp; v !=null;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My_stack(int size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size &gt; 0 : “size must be greater than 0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max_size = siz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v = new T[size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top = -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T top(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!empty() : “stack empty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eturn v[top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void pop(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!empty() : “stack empty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top--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0080" y="-9360"/>
            <a:ext cx="8908920" cy="11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 TDA's a clases (java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6080" y="1924200"/>
            <a:ext cx="566748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void push(T item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(top+1 &lt; max_size) : “stack full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 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v[++top] = item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boolean empty(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eturn top == -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41440" y="169560"/>
            <a:ext cx="77580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ases y objet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04320" cy="484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685800" indent="-228600">
              <a:lnSpc>
                <a:spcPct val="79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ede constar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751"/>
              </a:spcBef>
              <a:buClr>
                <a:srgbClr val="fc0128"/>
              </a:buClr>
              <a:buSzPct val="119000"/>
              <a:buFont typeface="Wingdings" charset="2"/>
              <a:buChar char=""/>
              <a:tabLst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ariables de inst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751"/>
              </a:spcBef>
              <a:buClr>
                <a:srgbClr val="fc0128"/>
              </a:buClr>
              <a:buSzPct val="119000"/>
              <a:buFont typeface="Wingdings" charset="2"/>
              <a:buChar char=""/>
              <a:tabLst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Méto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751"/>
              </a:spcBef>
              <a:buClr>
                <a:srgbClr val="fc0128"/>
              </a:buClr>
              <a:buSzPct val="119000"/>
              <a:buFont typeface="Wingdings" charset="2"/>
              <a:buChar char=""/>
              <a:tabLst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Variables de la clase (stati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jemplo de una clase en Ja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944794"/>
                </a:solidFill>
                <a:latin typeface="Antique Olive Roman"/>
                <a:ea typeface="Arial"/>
              </a:rPr>
              <a:t>public class</a:t>
            </a:r>
            <a:r>
              <a:rPr b="0" lang="en-GB" sz="1600" spc="-1" strike="noStrike">
                <a:solidFill>
                  <a:srgbClr val="2323dc"/>
                </a:solidFill>
                <a:latin typeface="Antique Olive Roman"/>
                <a:ea typeface="Arial"/>
              </a:rPr>
              <a:t> Point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94476b"/>
                </a:solidFill>
                <a:latin typeface="Antique Olive Roman"/>
                <a:ea typeface="Arial"/>
              </a:rPr>
              <a:t>private 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int x;   // variable  de inst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944794"/>
                </a:solidFill>
                <a:latin typeface="Antique Olive Roman"/>
                <a:ea typeface="Arial"/>
              </a:rPr>
              <a:t>private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int 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944794"/>
                </a:solidFill>
                <a:latin typeface="Antique Olive Roman"/>
                <a:ea typeface="Arial"/>
              </a:rPr>
              <a:t>public</a:t>
            </a:r>
            <a:r>
              <a:rPr b="0" lang="en-GB" sz="1600" spc="-1" strike="noStrike">
                <a:solidFill>
                  <a:srgbClr val="2323dc"/>
                </a:solidFill>
                <a:latin typeface="Antique Olive Roman"/>
                <a:ea typeface="Arial"/>
              </a:rPr>
              <a:t> Point()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{x=0; y=0;} //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944794"/>
                </a:solidFill>
                <a:latin typeface="Antique Olive Roman"/>
                <a:ea typeface="Arial"/>
              </a:rPr>
              <a:t>public</a:t>
            </a:r>
            <a:r>
              <a:rPr b="0" lang="en-GB" sz="1600" spc="-1" strike="noStrike">
                <a:solidFill>
                  <a:srgbClr val="2323dc"/>
                </a:solidFill>
                <a:latin typeface="Antique Olive Roman"/>
                <a:ea typeface="Arial"/>
              </a:rPr>
              <a:t> Point(int _x, int _y)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{ x=_x;  y= _y;} //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</a:t>
            </a:r>
            <a:r>
              <a:rPr b="0" lang="en-GB" sz="1600" spc="-1" strike="noStrike">
                <a:solidFill>
                  <a:srgbClr val="2323dc"/>
                </a:solidFill>
                <a:latin typeface="Antique Olive Roman"/>
                <a:ea typeface="Arial"/>
              </a:rPr>
              <a:t> </a:t>
            </a:r>
            <a:r>
              <a:rPr b="0" lang="en-GB" sz="1600" spc="-1" strike="noStrike">
                <a:solidFill>
                  <a:srgbClr val="944794"/>
                </a:solidFill>
                <a:latin typeface="Antique Olive Roman"/>
                <a:ea typeface="Arial"/>
              </a:rPr>
              <a:t>public</a:t>
            </a:r>
            <a:r>
              <a:rPr b="0" lang="en-GB" sz="1600" spc="-1" strike="noStrike">
                <a:solidFill>
                  <a:srgbClr val="2323dc"/>
                </a:solidFill>
                <a:latin typeface="Antique Olive Roman"/>
                <a:ea typeface="Arial"/>
              </a:rPr>
              <a:t> int getX()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{ return x; }  // 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to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944794"/>
                </a:solidFill>
                <a:latin typeface="Antique Olive Roman"/>
                <a:ea typeface="Arial"/>
              </a:rPr>
              <a:t>public</a:t>
            </a:r>
            <a:r>
              <a:rPr b="0" lang="en-GB" sz="1600" spc="-1" strike="noStrike">
                <a:solidFill>
                  <a:srgbClr val="2323dc"/>
                </a:solidFill>
                <a:latin typeface="Antique Olive Roman"/>
                <a:ea typeface="Arial"/>
              </a:rPr>
              <a:t> int getY()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{ return y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1440" y="169560"/>
            <a:ext cx="77580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ases y objet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31400" y="1885680"/>
            <a:ext cx="77583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1752480"/>
            <a:ext cx="7696080" cy="35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claraci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ón y uso de un objeto de la clase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23dc"/>
                </a:solidFill>
                <a:latin typeface="Arial"/>
                <a:ea typeface="Arial Unicode MS"/>
              </a:rPr>
              <a:t>Poi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point = </a:t>
            </a:r>
            <a:r>
              <a:rPr b="0" lang="en-GB" sz="1800" spc="-1" strike="noStrike">
                <a:solidFill>
                  <a:srgbClr val="94476b"/>
                </a:solidFill>
                <a:latin typeface="Arial"/>
                <a:ea typeface="Arial Unicode MS"/>
              </a:rPr>
              <a:t>new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2323dc"/>
                </a:solidFill>
                <a:latin typeface="Arial"/>
                <a:ea typeface="Arial Unicode MS"/>
              </a:rPr>
              <a:t>Point(5,8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nt x = point.</a:t>
            </a:r>
            <a:r>
              <a:rPr b="0" lang="en-GB" sz="1800" spc="-1" strike="noStrike">
                <a:solidFill>
                  <a:srgbClr val="2323dc"/>
                </a:solidFill>
                <a:latin typeface="Arial"/>
                <a:ea typeface="Arial Unicode MS"/>
              </a:rPr>
              <a:t>getX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racterísticas de un obj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stado:  definido a través de las variables de ins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Comportamiento:  definido a través de las operaciones o méto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dentidad: es lo que se preserva a pesar que el estado camb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bjetos: definici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ón de clases </a:t>
            </a:r>
            <a:r>
              <a:rPr b="1" lang="en-GB" sz="4400" spc="-1" strike="noStrike">
                <a:solidFill>
                  <a:srgbClr val="2323dc"/>
                </a:solidFill>
                <a:latin typeface="Arial"/>
                <a:ea typeface="Arial"/>
              </a:rPr>
              <a:t>(c++)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4280" y="1863720"/>
            <a:ext cx="4006800" cy="45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Point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944794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944794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Point(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x=0; y=0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Point(int _x, int _y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x = _x; y = _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int getX(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return x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Color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loat  rgb[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944794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Color(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rgb[0]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gb[1] = rgb[2]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Color(float r, float 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float b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2057400"/>
            <a:ext cx="45720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Figur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cent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colo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400" spc="-1" strike="noStrike">
                <a:solidFill>
                  <a:srgbClr val="944794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Figure(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Figure(Point _cente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           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Color _color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enter =_cent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lor = _colo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void move(Point  point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enter = poin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Point where(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cent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72720"/>
            <a:ext cx="769608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Objetos: declaraci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ón, estado y comportamien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434960"/>
            <a:ext cx="8001000" cy="496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o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2323dc"/>
                </a:solidFill>
                <a:latin typeface="Courier New"/>
              </a:rPr>
              <a:t>Color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 blue(0,0,1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2323dc"/>
                </a:solidFill>
                <a:latin typeface="Courier New"/>
              </a:rPr>
              <a:t>Point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 position_a(1,1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2323dc"/>
                </a:solidFill>
                <a:latin typeface="Courier New"/>
              </a:rPr>
              <a:t>Point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 position_b(2,3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2323dc"/>
                </a:solidFill>
                <a:latin typeface="Courier New"/>
              </a:rPr>
              <a:t>Figure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 rectangle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2323dc"/>
                </a:solidFill>
                <a:latin typeface="Courier New"/>
              </a:rPr>
              <a:t>Figure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 circle(position_a,blue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rectangle.</a:t>
            </a:r>
            <a:r>
              <a:rPr b="0" lang="en-GB" sz="1500" spc="-1" strike="noStrike">
                <a:solidFill>
                  <a:srgbClr val="2323dc"/>
                </a:solidFill>
                <a:latin typeface="Courier New"/>
              </a:rPr>
              <a:t>move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(position_b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position_a = rectangle.</a:t>
            </a:r>
            <a:r>
              <a:rPr b="0" lang="en-GB" sz="1500" spc="-1" strike="noStrike">
                <a:solidFill>
                  <a:srgbClr val="2323dc"/>
                </a:solidFill>
                <a:latin typeface="Courier New"/>
              </a:rPr>
              <a:t>where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bjetos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sition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sition_b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1371600"/>
            <a:ext cx="4114800" cy="42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blue: (0,0,1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osition_a: (1,1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osition_b: (2,3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ctangle: (0,0) (1,0,0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ircle: (1,1) (0,0,1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ctangle: (2,3) (1,0,0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osition_a: (2,3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portamiento de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ctang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1440" y="169560"/>
            <a:ext cx="77580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bjetos: identida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2960" y="1371600"/>
            <a:ext cx="4309920" cy="34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p1(1,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*p2 = new Point(3,4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*p3 = new Point(1,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*p4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4 = p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1, *p2 y *p3 </a:t>
            </a:r>
            <a:r>
              <a:rPr b="0" lang="en-GB" sz="2000" spc="-1" strike="noStrike">
                <a:solidFill>
                  <a:srgbClr val="944794"/>
                </a:solidFill>
                <a:latin typeface="Times New Roman"/>
              </a:rPr>
              <a:t>son objetos disti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*p4 y *p3 </a:t>
            </a:r>
            <a:r>
              <a:rPr b="0" lang="en-GB" sz="2000" spc="-1" strike="noStrike">
                <a:solidFill>
                  <a:srgbClr val="94476b"/>
                </a:solidFill>
                <a:latin typeface="Times New Roman"/>
              </a:rPr>
              <a:t>son el mismo ob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600200"/>
            <a:ext cx="4343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47ff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p1 = new Point(1,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p2 = new Point(3,4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p3 = new Point(1,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p4 = p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1, p2 y p3 </a:t>
            </a:r>
            <a:r>
              <a:rPr b="0" lang="en-GB" sz="2000" spc="-1" strike="noStrike">
                <a:solidFill>
                  <a:srgbClr val="94476b"/>
                </a:solidFill>
                <a:latin typeface="Times New Roman"/>
              </a:rPr>
              <a:t>contienen referencias a objetos disti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3 y p4 </a:t>
            </a:r>
            <a:r>
              <a:rPr b="0" lang="en-GB" sz="2000" spc="-1" strike="noStrike">
                <a:solidFill>
                  <a:srgbClr val="94476b"/>
                </a:solidFill>
                <a:latin typeface="Times New Roman"/>
              </a:rPr>
              <a:t>contienen referencias al  mismo ob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7800" y="228600"/>
            <a:ext cx="82915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pos de datos abstractos (TDA)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[Libro (Mey97)]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9036000" cy="42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2080" indent="-262080">
              <a:lnSpc>
                <a:spcPct val="89000"/>
              </a:lnSpc>
              <a:spcBef>
                <a:spcPts val="675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¿Cómo definir buenos objetos?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 un buen T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¿Qué característica debe cumplir un buen TDA? </a:t>
            </a:r>
            <a:r>
              <a:rPr b="0" lang="en-GB" sz="2400" spc="-1" strike="noStrike">
                <a:solidFill>
                  <a:srgbClr val="94476b"/>
                </a:solidFill>
                <a:latin typeface="Arial"/>
              </a:rPr>
              <a:t>Su descripción  debe s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cisa y no ambigu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mple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 sobre-especific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dependiente de la implemen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Capítulo 1  Conceptos básicos:  clases y objetos</dc:title>
</cp:coreProperties>
</file>