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1520" cy="9748800"/>
          </a:xfrm>
          <a:custGeom>
            <a:avLst/>
            <a:gdLst>
              <a:gd name="textAreaLeft" fmla="*/ 360 w 6851520"/>
              <a:gd name="textAreaRight" fmla="*/ 6851160 w 685152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33">
                <a:moveTo>
                  <a:pt x="5" y="0"/>
                </a:moveTo>
                <a:arcTo wR="5" hR="5" stAng="16200000" swAng="-5400000"/>
                <a:lnTo>
                  <a:pt x="0" y="30728"/>
                </a:lnTo>
                <a:arcTo wR="5" hR="5" stAng="10800000" swAng="-5400000"/>
                <a:lnTo>
                  <a:pt x="21595" y="307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0080" cy="9748800"/>
          </a:xfrm>
          <a:custGeom>
            <a:avLst/>
            <a:gdLst>
              <a:gd name="textAreaLeft" fmla="*/ 360 w 6850080"/>
              <a:gd name="textAreaRight" fmla="*/ 6849720 w 685008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40">
                <a:moveTo>
                  <a:pt x="5" y="0"/>
                </a:moveTo>
                <a:arcTo wR="5" hR="5" stAng="16200000" swAng="-5400000"/>
                <a:lnTo>
                  <a:pt x="0" y="30735"/>
                </a:lnTo>
                <a:arcTo wR="5" hR="5" stAng="10800000" swAng="-5400000"/>
                <a:lnTo>
                  <a:pt x="21595" y="307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002960" y="739800"/>
            <a:ext cx="4830840" cy="36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73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59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3878280" y="-360"/>
            <a:ext cx="2959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259920"/>
            <a:ext cx="29592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78280" y="9259920"/>
            <a:ext cx="29592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C77C0-755F-4E52-96B5-3EC7412828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522000" y="4641840"/>
            <a:ext cx="6124680" cy="12972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specificando objetos en forma abstracta. Lo esencial en un  stack es que sirve para almacenar datos (contenedor) en forma de pila: “el último que llega es el primero que sale. Ejemplo: pila de libros. Las típicas operaciones de un stack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ush (put)    - pop (remove)      - top (item)  - empty       -  creador o inicializador (mak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paso clave para definir un buen tipo de datos abstracto es olvidarse de la implementación.  Un  stack debe ser visto como una estructura a la cual un "cliente" puede aplicar las operaciones definidas más arri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nsistencia de nombres.  ¿Debieran  considerarse los nombres originales, definidos en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iteratura para ciertos estructuras, o  uniformarse de acuerdo al objetivo que cumplen o funcionalidad que tiene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stacks representan una rama de las estructuras conten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que son llamados más especificamente dispensers (dispensadores). Un dispensador permite a sus "clientes" almacenar información pero no permite ningún control sobre la posición en que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macena y de donde se recupera la información. A este grupo también pertenecen las co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uso del mismo nombre para acciones similares en distintos tipos de contenedores lleva a que los usuarios de las componentes reusables encuentren mas rápido lo que bus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ntratos, clientes y 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clientes son módulos que usan ciertos servicios (operacion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finidos en otros módulos (proveedores). El protocolo o la forma e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interactúan cliente y proveedor lo llamaremos contr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funciones parciales, es decir, las que no están definidos sobre todo el dominio, se denotan por ---/-&gt;. Por ejemplo, pop y top  no se pueden apl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i el STACK esta vac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729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¿Por qué funciones y no procedimient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DT es un modelo mate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 necesario contar con algún concepto para modelar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raciones. El concepto de función es el más parec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funciones las clasificaremos en tr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reación:  (new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onsulta:  (item, empty). Nos permiten obtener propie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l objeto asociado a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omando:  Nos permiten obtener nuevas instancias del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 partir de instancias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axiomas definen el comportamiento de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funciones parciales (como pop y top)  deben espec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econdiciones, dado que no están definidas para todo objeto asoc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10782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a clase es un TDA  equipado  de  una implementación (posiblemente parc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pendiendo que tan completa es la implementación habla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lase efectiva: especifica completament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clase abstracta: puede estar implementada parcialmente  o nada. En este último caso, su definición es equivalente a la de un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concepto de clase abstracta es muy útil para análisis y diseño 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 la etapa de análisis se descubre el dominio del problema. El concepto de clase se usa sólo por su poder descriptivo pero no se desea ningún detalle de impl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 la etapa de diseño, la idea es especificar clases abstractas. La idea no es especificar  todos los detalles de implementación. En la etapa implementación, las clases deben ser efe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ás adelante veremos que las clases abstractas son muchas veces transformadas en efectivas a través de la herencia. El hacerlo así, permite módulos fáciles de exte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7180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¿Cómo se implementa una clase efectiv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te pública: La especificación del T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te privada: implementar todas sus 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unque en el modelo matemático del TDA, todas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raciones se especifican como funciones, en la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saremos el estilo estándar de programación en donde, 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mandos de implementan como procedimientos y las consultas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funciones. Los axiomas y las precondiciones también pasa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r parte de la impl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siguiente es una implemantación de un stack usando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racterísticas  de c++ que permiten la implementación de un 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0800" y="4627080"/>
            <a:ext cx="5025960" cy="628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  es el concepto usado para representar los elementos que surgen del análisis del dominio del problema o más tarde como parte del diseño  de la apl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ntro del ambiente de programación, los objetos se conocen como instancias de una clase. Un objeto se caracteriz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estado:  definido a través de las variables de in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comportamiento: definido a través de las operaciones( método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identidad: la identidad se preserva durante su existenci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esar que el estado camb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84080" y="741240"/>
            <a:ext cx="5280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03320" y="739800"/>
            <a:ext cx="4836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03320" y="739800"/>
            <a:ext cx="4836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4000" y="4630320"/>
            <a:ext cx="54687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95240" y="738360"/>
            <a:ext cx="5261040" cy="36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0800" y="4627440"/>
            <a:ext cx="5025960" cy="7732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s tipos de datos abstractos son la base para definir bu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s.  Esta sección está dedicada a estudiar algunos 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atemáticos elementales que ayudan a especificarlos correct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a describir los objetos adecuadamente,  se necesita contar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gún método que satisfaga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deben ser precisas y no ambig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deben ser completas (al menos tan completas como se desea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s descripciones no debieran estar sobre especific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44D-4B47-46AF-9BFC-E691B990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216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7DB-1795-45E1-AB5D-E8B2831A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5BB-3948-49CA-A40D-4E0C02F6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5280" y="160452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532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5280" y="3962160"/>
            <a:ext cx="28663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770-07E3-47BC-BA65-621A0C3F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A73-6C08-444A-85EF-A98A8913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CAD-C839-446D-B33B-D8FA86B2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449-CF03-4B0D-8F08-4BFD9877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D0D-1CE2-46EF-9F12-652793E8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0440" y="-54000"/>
            <a:ext cx="890280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738-2F39-4CA2-A67C-2B8B2D10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1CD-15AA-48F6-8E40-B0B035AB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396216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772-D6AB-4647-8D5C-D552EC68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604520"/>
            <a:ext cx="43444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2160"/>
            <a:ext cx="8902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313-E0C4-4A97-930C-1F39257D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0440" y="-54000"/>
            <a:ext cx="89028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02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6720"/>
            <a:ext cx="229536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7600" y="6246720"/>
            <a:ext cx="312768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2080" y="6246720"/>
            <a:ext cx="229572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6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3A405-9FC1-42EE-9913-07252C59C17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484200"/>
            <a:ext cx="6400800" cy="15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2971800"/>
            <a:ext cx="734688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81d58"/>
                </a:solidFill>
                <a:latin typeface="Arial"/>
              </a:rPr>
              <a:t>Universidad de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Departamento de Ciencias de la Compu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</a:t>
            </a:r>
            <a:r>
              <a:rPr b="1" lang="en-GB" sz="1600" spc="-1" strike="noStrike">
                <a:solidFill>
                  <a:srgbClr val="081d58"/>
                </a:solidFill>
                <a:latin typeface="Arial"/>
              </a:rPr>
              <a:t>Prof.: Nancy Hitschfeld Kah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228600"/>
            <a:ext cx="908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2800" y="1523880"/>
            <a:ext cx="7759800" cy="502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(almacenamiento de datos en una pila)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ípicas ope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pu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p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t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emp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        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new (creador)</a:t>
            </a: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1080" y="-142920"/>
            <a:ext cx="862164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28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tos (contracts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 de definir los derechos y deberes de los clientes y 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condición 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requi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recondición que  impone los deberes de 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-condición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promi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ostcondición que impone los deberes del desarrollador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26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ariante(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invaria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xpresa propiedades semánticas del TDA, y restricciones de integridad de la clase que lo implementa. Estas deben ser mantenidas por todas sus rut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1080" y="-142920"/>
            <a:ext cx="886932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86040"/>
            <a:ext cx="810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mentos de una especificación form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ione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las operaciones (interfaz) del T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xioma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el comportamiento del T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condiciones: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n parte del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1440" y="-143280"/>
            <a:ext cx="8786880" cy="15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315200" cy="51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[G], donde G es un tipo arbitr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sh:      STACK[G]xG  ---&gt;   STACK[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p:     STACK[G]  -/-&gt;    STACK[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p:      STACK[G]   -/-&gt;   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ty: STACK[G]  ---&gt;    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:     ---&gt;                       STACK[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70444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980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r qué funciones y no procedimie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DA es un modelo mate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pto de función ya ex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1000"/>
              </a:lnSpc>
              <a:spcAft>
                <a:spcPts val="1137"/>
              </a:spcAft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asificación de func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ción (new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 (top, empty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ención de propie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ando  (pop, push)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tención de nuevas instancias a partir de las ya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1080" y="9360"/>
            <a:ext cx="862164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59440" cy="56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(push(s,x)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(push(s,x)) =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ty(new)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empty(push(s,x))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condiciones (funciones parcial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(s:STACK[G]) require not empty(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(s:STACK[G]) require not empty(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447920"/>
            <a:ext cx="908028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¿Qué es una clase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DA equipado con una implementación (variables de instancia y algoritmos), posiblemente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e efectiv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pecifica completamente su 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e abstract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ede esta implementada parcialmente o 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Cuál es la forma de definir una clase efectiv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ecificar un T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coger una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r las funciones, axiomas y pre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759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¿Cómo se implementa una clase efecti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ública: funciones del T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rivada: parte dependiente de la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TDA se implementa como sig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andos             proced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s              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xiomas                 postcondicones o invar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ondiciones      pre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en 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749240"/>
            <a:ext cx="8458200" cy="46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ectos de C++ que permiten la implementación de un T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cialización y limpieza de objetos (constructor y destructo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ignación e inicialización (redefinir operador de asignación y redefinir constructor de copi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efinición de ope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ública y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lamada implícita y explícita de destru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pos parametrizados (template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1440" y="377640"/>
            <a:ext cx="7759440" cy="68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8534520" cy="495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Stack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(Stack&lt;T&gt;&amp;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~St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push(T element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po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 to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empt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* contened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tama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to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operator==(Stack&lt;T&gt;&amp;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nvariante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tamano &gt; 0 &amp;&amp; tope &gt;=-1 &amp;&amp; tope &lt; tamano &amp;&amp; contenedor !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6640" y="1142640"/>
            <a:ext cx="7759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bjetos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ado, comportamiento e id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 TDA a cl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 de TDA genérico en C+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 de TDA genérico en 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0240" y="1371240"/>
            <a:ext cx="8668080" cy="44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int t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t&gt;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amano = 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= -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 = new T[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Stack(Stack&lt;T&gt;&amp; s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s.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amano = s.tama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= s.to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 = new T[s.tamano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r(int i=0; i&lt;=tope; i++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[i] = s.contenedor[i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 &amp;&amp; s.invariante() &amp;&amp; s == *thi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676160"/>
            <a:ext cx="8667720" cy="412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Stack&lt;T&gt;::~Stack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lete contenedor[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void Stack&lt;T&gt;::push(T elemento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invariante() &amp;&amp; (tope+1) &lt; taman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enedor[tope+1] = elemen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+=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contenedor[tope] == elemento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void Stack&lt;T&gt;::pop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!empty() &amp;&amp; 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pe -=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8840" y="1676160"/>
            <a:ext cx="8667720" cy="40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T Stack&lt;T&gt;::top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!empty() &amp;&amp; invariant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contenedor[tope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&lt;class T&gt; int Stack&lt;T&gt;::operator==(Stack&lt;T&gt;&amp; s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ssert( invariante() || s.invariante(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* solo el contenido debe der igual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 tope != s.tope ) 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r(i=0; i &lt;= tope;  i++ 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( contenedor[i] != s.contenedor[i]) 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5920" y="1301760"/>
            <a:ext cx="8667720" cy="52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main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#include “stack.h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ack&lt;int&gt; s(1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8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3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-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ush(2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ack&lt;int&gt; nuevo_stack=s; // inicializ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"Contenido del stack: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s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s.top() &lt;&lt; "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"Contenido del stack inicializado: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nuevo_stack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d::cout &lt;&lt; nuevo_stack.top() &lt;&lt; "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nuevo_stack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c++)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8840" y="1295280"/>
            <a:ext cx="8667720" cy="25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ile: main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ack&lt;float&gt; *puntero_a_stack  = new Stack&lt;float&gt;(2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ntero_a_stack-&gt;push(5.8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ntero_a_stack-&gt;push(1.2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elete puntero_a_stack; // destruccion explí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destrucción implícita de s y nuevo_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´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8360" cy="47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ectos importantes e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e 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ública y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icialización (constructo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finición de objetos genéricos a través del tipo Object y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colección automática de ba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378000"/>
                <a:tab algn="l" pos="835200"/>
                <a:tab algn="l" pos="1292400"/>
                <a:tab algn="l" pos="1749600"/>
                <a:tab algn="l" pos="2206800"/>
                <a:tab algn="l" pos="2664000"/>
                <a:tab algn="l" pos="3121200"/>
                <a:tab algn="l" pos="3578400"/>
                <a:tab algn="l" pos="4035600"/>
                <a:tab algn="l" pos="4492800"/>
                <a:tab algn="l" pos="4950000"/>
                <a:tab algn="l" pos="5407200"/>
                <a:tab algn="l" pos="5864400"/>
                <a:tab algn="l" pos="6321600"/>
                <a:tab algn="l" pos="6778800"/>
                <a:tab algn="l" pos="7236000"/>
                <a:tab algn="l" pos="7693200"/>
                <a:tab algn="l" pos="8150400"/>
                <a:tab algn="l" pos="8607600"/>
                <a:tab algn="l" pos="9064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8840" y="1294920"/>
            <a:ext cx="866772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9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ck generico en java: (version simple usando Object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My_stack.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lass My_stack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Object  v[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 = new Object[size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Object top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void pop(){ top--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void push(Object item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1440" y="511200"/>
            <a:ext cx="775944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295280"/>
            <a:ext cx="8667720" cy="49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o de la clase My_stack genérico en java: (version simple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ile: Example.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mport My_stac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class Examp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static void main(String args[]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y_stack s1 = new My_stack(10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1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2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ush(new Integer(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while( !s1.empty() 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ystem.out.print(s1.top() + " 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1.po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759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´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54080" y="1143000"/>
            <a:ext cx="8318520" cy="53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lass My_stack{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// Stack genérico con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Object  v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boolean invariant(){ return -1 &lt;= top &amp;&amp; top &lt; max_size &amp;&amp; v !=null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size &gt; 0 : “size must be greater than 0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 = new Object[size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Object t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--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2286000"/>
            <a:ext cx="70866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ush(Object item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(top + 1 &lt; max_size) : “stack full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 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31400" y="1886040"/>
            <a:ext cx="775836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Elemento que surge del análisis del dominio del problema a re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Instancia de una clase (programac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ó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n)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lbertus"/>
              </a:rPr>
              <a:t>Tipo de molde o plantilla que define los valores que almacena un objeto en sus variables de instancia, y acciones u operaciones que se le pueden aplicar a trav</a:t>
            </a:r>
            <a:r>
              <a:rPr b="0" lang="en-GB" sz="2000" spc="-1" strike="noStrike">
                <a:solidFill>
                  <a:srgbClr val="000000"/>
                </a:solidFill>
                <a:latin typeface="Albertus"/>
                <a:ea typeface="Arial"/>
              </a:rPr>
              <a:t>és de sus 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0080" y="-54000"/>
            <a:ext cx="89089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91440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297080"/>
            <a:ext cx="841068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lass My_stack&lt;T&gt;{  //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tack genérico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on templates  y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T  v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to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int max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rivate bolean invariant(){ return -1 &lt;= top &amp;&amp; top &lt; max_size &amp;&amp; v !=null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My_stack(int size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size &gt; 0 : “size must be greater than 0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ax_size = 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 = new T[size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T t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v[top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op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!empty() : “stack empty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p--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0080" y="-9360"/>
            <a:ext cx="8908920" cy="11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 TDA's a clases (java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6080" y="1924200"/>
            <a:ext cx="56674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void push(T item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(top+1 &lt; max_size) : “stack full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 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v[++top] = 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public boolean empty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ssert invariant() : “invalid invariant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eturn top =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04320" cy="484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ede constar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iables de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éto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Variables de la clase (stat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jemplo de una clase en J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 class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6b"/>
                </a:solidFill>
                <a:latin typeface="Antique Olive Roman"/>
                <a:ea typeface="Arial"/>
              </a:rPr>
              <a:t>private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int x;   // variable  de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rivate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x=0; y=0;} //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Point(int _x, int _y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x=_x;  y= _y;} //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int getX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return x; }  // 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944794"/>
                </a:solidFill>
                <a:latin typeface="Antique Olive Roman"/>
                <a:ea typeface="Arial"/>
              </a:rPr>
              <a:t>public</a:t>
            </a:r>
            <a:r>
              <a:rPr b="0" lang="en-GB" sz="1600" spc="-1" strike="noStrike">
                <a:solidFill>
                  <a:srgbClr val="2323dc"/>
                </a:solidFill>
                <a:latin typeface="Antique Olive Roman"/>
                <a:ea typeface="Arial"/>
              </a:rPr>
              <a:t> int getY()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{ return y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ntique Olive Roman"/>
                <a:ea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ntique Olive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ases y objet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31400" y="1885680"/>
            <a:ext cx="77583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752480"/>
            <a:ext cx="7696080" cy="35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larac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ón y uso de un objeto de la clase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Poi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point = </a:t>
            </a:r>
            <a:r>
              <a:rPr b="0" lang="en-GB" sz="1800" spc="-1" strike="noStrike">
                <a:solidFill>
                  <a:srgbClr val="94476b"/>
                </a:solidFill>
                <a:latin typeface="Arial"/>
                <a:ea typeface="Arial Unicode MS"/>
              </a:rPr>
              <a:t>ne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Point(5,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t x = point.</a:t>
            </a:r>
            <a:r>
              <a:rPr b="0" lang="en-GB" sz="1800" spc="-1" strike="noStrike">
                <a:solidFill>
                  <a:srgbClr val="2323dc"/>
                </a:solidFill>
                <a:latin typeface="Arial"/>
                <a:ea typeface="Arial Unicode MS"/>
              </a:rPr>
              <a:t>getX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acterísticas de un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stado:  definido a través de las variables de in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omportamiento:  definido a través de las operaciones o mét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9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dentidad: es lo que se preserva a pesar que el estado cam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58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bjetos: definic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ón de clases </a:t>
            </a:r>
            <a:r>
              <a:rPr b="1" lang="en-GB" sz="4400" spc="-1" strike="noStrike">
                <a:solidFill>
                  <a:srgbClr val="2323dc"/>
                </a:solidFill>
                <a:latin typeface="Arial"/>
                <a:ea typeface="Arial"/>
              </a:rPr>
              <a:t>(c++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280" y="1863720"/>
            <a:ext cx="400680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x=0; y=0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(int _x, int _y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 = _x; y = _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int getX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return x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loat  rgb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gb[0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gb[1] = rgb[2]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(float r, float 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loat b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2057400"/>
            <a:ext cx="45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colo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944794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Figure(Point _cent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       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Color _color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enter =_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lor = _colo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void move(Point  point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enter = poin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oint where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72720"/>
            <a:ext cx="7696080" cy="129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bjetos: declaraci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ón, estado y comportamien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34960"/>
            <a:ext cx="8001000" cy="496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o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Color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blue(0,0,1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position_a(1,1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Point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position_b(2,3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rectangl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Figu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circle(position_a,blue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rectangle.</a:t>
            </a: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mov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(position_b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position_a = rectangle.</a:t>
            </a:r>
            <a:r>
              <a:rPr b="0" lang="en-GB" sz="1500" spc="-1" strike="noStrike">
                <a:solidFill>
                  <a:srgbClr val="2323dc"/>
                </a:solidFill>
                <a:latin typeface="Courier New"/>
              </a:rPr>
              <a:t>where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jeto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sition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sition_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1371600"/>
            <a:ext cx="4114800" cy="42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lue: (0,0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a: (1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b: (2,3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ctangle: (0,0) (1,0,0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ircle: (1,1) (0,0,1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ctangle: (2,3) (1,0,0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sition_a: (2,3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ortamiento d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ctang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1440" y="169560"/>
            <a:ext cx="77580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bjetos: ident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2960" y="1371600"/>
            <a:ext cx="430992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1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2 = new Point(3,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3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*p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4 =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1, *p2 y *p3 </a:t>
            </a:r>
            <a:r>
              <a:rPr b="0" lang="en-GB" sz="2000" spc="-1" strike="noStrike">
                <a:solidFill>
                  <a:srgbClr val="944794"/>
                </a:solidFill>
                <a:latin typeface="Times New Roman"/>
              </a:rPr>
              <a:t>son objeto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p4 y *p3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son el mism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600200"/>
            <a:ext cx="4343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47ff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1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2 = new Point(3,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3 = new Point(1,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oint p4 =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1, p2 y p3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contienen referencias a objeto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3 y p4 </a:t>
            </a:r>
            <a:r>
              <a:rPr b="0" lang="en-GB" sz="2000" spc="-1" strike="noStrike">
                <a:solidFill>
                  <a:srgbClr val="94476b"/>
                </a:solidFill>
                <a:latin typeface="Times New Roman"/>
              </a:rPr>
              <a:t>contienen referencias al  mismo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82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ipos de datos abstractos (TDA)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[Libro (Mey97)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9036000" cy="42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2080" indent="-26208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Cómo definir buenos objetos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 un buen T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Qué característica debe cumplir un buen TDA? </a:t>
            </a:r>
            <a:r>
              <a:rPr b="0" lang="en-GB" sz="2400" spc="-1" strike="noStrike">
                <a:solidFill>
                  <a:srgbClr val="94476b"/>
                </a:solidFill>
                <a:latin typeface="Arial"/>
              </a:rPr>
              <a:t>Su descripción  deb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cisa y no ambi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le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sobre-especific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208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dependiente de la implemen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  <p:transition spd="med">
    <p:pull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Capítulo 1  Conceptos básicos:  clases y objetos</dc:title>
</cp:coreProperties>
</file>