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C1D54EF-5472-49FC-92F1-3CEFE69685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837817-5588-4410-87B1-9974BCF937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DEFD6F-0301-4799-B5ED-EAFF8BC85B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22D552-AEAB-4967-9751-9A7DF11FCC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4F4-71F2-470C-89F0-38EB6306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BFA-68F1-46A2-905C-0DF4C854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2C7-6B9E-45AB-BD59-99655693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72F-9F68-4DCD-AF0B-856D14C0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F70-2DFE-409C-B40D-3778FC10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BF7-D531-457F-ADB4-B4CD4F32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A98-C3A1-4DDE-9E7B-1F889BE0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BF4-923C-4138-866E-2F022DDD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463-46AB-4300-B417-662CD72A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FC1-09BF-4D58-888F-2502B5B8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37A-F4BE-4022-B0D3-8A1828BE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585-189B-4A1E-9206-C3F5F5B2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5C63-4F68-407E-85B1-82A480314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38360" y="554040"/>
          <a:ext cx="811044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554040"/>
                    <a:ext cx="811044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80960" y="471600"/>
          <a:ext cx="830268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71600"/>
                    <a:ext cx="830268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80960" y="461880"/>
          <a:ext cx="8269200" cy="59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1880"/>
                    <a:ext cx="826920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80960" y="461880"/>
          <a:ext cx="8269200" cy="59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1880"/>
                    <a:ext cx="826920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93840" y="255600"/>
          <a:ext cx="8110440" cy="730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55600"/>
                    <a:ext cx="8110440" cy="730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24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24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10-20T20:00:47Z</dcterms:modified>
  <cp:revision>71</cp:revision>
  <dc:subject/>
  <dc:title>Sin título de diapositiva</dc:title>
</cp:coreProperties>
</file>