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BAB656-7122-4BDC-A150-F3317C7B27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38605B-7F02-4661-8CC8-3D55C50090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BEEAE4-0C13-42B1-9E69-B139D15C9C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C8209D-9047-4C58-B3DB-95EEB0258D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EDD-5E12-417A-AC0B-871B1B9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D94-122E-4589-A1E9-3527ABB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A63-4DDE-44F1-8AE8-308F3F8F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EBD-7DE0-4A56-9E9E-4B5E2340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1B4-4F1B-4143-BC4B-3323C71B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F0B-5E9B-4A9E-90E5-68A39505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D14-7174-4392-8A0D-5CCA1A33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5078-999A-421C-B89D-F3182D11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881-9A29-40EF-A939-942D7396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3BD-3E02-4CDC-A8D7-4D836D2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77D-D37D-46E6-BAFA-7CFB6B1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37-08DC-4D23-964B-5851A78C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231-4C96-4CC9-894D-C9B7E9909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80960" y="471600"/>
          <a:ext cx="830268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71600"/>
                    <a:ext cx="830268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80960" y="461880"/>
          <a:ext cx="8269200" cy="599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1880"/>
                    <a:ext cx="826920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93840" y="255600"/>
          <a:ext cx="8110440" cy="730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10440" cy="730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10-20T20:00:47Z</dcterms:modified>
  <cp:revision>71</cp:revision>
  <dc:subject/>
  <dc:title>Sin título de diapositiva</dc:title>
</cp:coreProperties>
</file>