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FA0EA2-3017-4DD1-B776-F2E9220137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B6BDCD-6B62-4650-9576-80271A3C32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5F1033-9D24-41B0-8501-35811B2629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AB94D0-0749-47C7-859E-144095F945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1EE-A5ED-4DE6-B3ED-6B2DB3FB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818-3660-4993-B219-4450AF35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E62-06CD-4D91-8E97-60F5C0F3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C76-49F0-4BA7-9328-FD9DDCE9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3F7-2A29-494B-A6CF-D7EA21A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51B-593F-40B1-A592-511ABFE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20A-8E9E-4240-AE75-C2CA573B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23C-3737-4F1C-A577-4902CC03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88C-089B-477A-BF77-CA2DD68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F58-B44A-4C34-8EE0-166011C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ED3-2C39-42EA-A252-3B7A7E90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35D-8A49-4D89-AD12-D9FCDA8F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3BF-FB65-4A10-8E66-9942E1AA3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80960" y="471600"/>
          <a:ext cx="83026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71600"/>
                    <a:ext cx="83026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93840" y="255600"/>
          <a:ext cx="8110440" cy="73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10440" cy="73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10-20T20:00:47Z</dcterms:modified>
  <cp:revision>71</cp:revision>
  <dc:subject/>
  <dc:title>Sin título de diapositiva</dc:title>
</cp:coreProperties>
</file>