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C9E81C-C4EE-4FB1-91D2-39F138D0B1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74D267-A8C0-462A-AAD4-91CA5301BB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5BF2FF-E856-4A3D-BF6A-E6BE305078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0B5287-E106-417D-B300-FF3046E997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D06-7425-46BB-906D-D0C2C741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5FF-602C-45FB-B284-4A460BD0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FE5-5CF6-44D3-8625-6F8C3F40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1E5-A893-4635-B891-50779D20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C25-82B0-480C-A1EF-655BCA23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117-0F46-4ECA-90F8-5B79C858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9C0-70D6-490C-836E-AD38D76C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E29-BAC3-4F7A-80B8-BB9CCEF2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804-CF0B-46CE-A548-934EE2EF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002-3634-4220-A1E5-9A8A55C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3AA-4750-400D-BD8E-8CA653B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B88-1FC4-462D-997B-BE9277B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6401-92E3-4BC2-8571-85AA9CC7B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80960" y="471600"/>
          <a:ext cx="83026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71600"/>
                    <a:ext cx="83026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93840" y="255600"/>
          <a:ext cx="8110440" cy="730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10440" cy="730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10-20T20:00:47Z</dcterms:modified>
  <cp:revision>71</cp:revision>
  <dc:subject/>
  <dc:title>Sin título de diapositiva</dc:title>
</cp:coreProperties>
</file>