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97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196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97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9359F0B-6FD1-4444-B8F4-C36CAB29CE4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84BDC56-05F0-4E50-A3AF-45C32D94E69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8D6BE88-E3F7-4297-9761-677BA45D61F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EFAB1F2-E61E-41A9-BF48-FE97420CA0C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486B-88B7-4DD1-9E05-9F0C2B46F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E9B4-999F-4CCA-BD06-6CA745A3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CAC6-23A7-423F-B516-02584149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DD27-9501-4883-AD3B-05A7CD67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B27A-3A76-43CE-873E-B9297A66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B350-7284-4B56-B982-4DE6FF95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6EC4-A1BE-44D1-8B01-644CE87A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9704-86D3-49B6-88D3-8A718D50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CD67-4133-4EC5-B3E1-A6510D1F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CA94-CA1F-4553-B6DF-674AD95C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2717-8C11-4D04-B048-44206F42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84AD-6B38-47D5-94CE-91D0D068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F11B-7F69-45AD-A8DD-00D3D71A0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992160" y="770040"/>
          <a:ext cx="75247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770040"/>
                    <a:ext cx="75247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738360" y="554040"/>
          <a:ext cx="8110440" cy="618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360" y="554040"/>
                    <a:ext cx="8110440" cy="61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79280" y="806400"/>
          <a:ext cx="8785440" cy="5430960"/>
        </p:xfrm>
        <a:graphic>
          <a:graphicData uri="http://schemas.openxmlformats.org/drawingml/2006/table">
            <a:tbl>
              <a:tblPr/>
              <a:tblGrid>
                <a:gridCol w="820800"/>
                <a:gridCol w="3756240"/>
                <a:gridCol w="420840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!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1 promedio=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148"/>
          <p:cNvSpPr/>
          <p:nvPr/>
        </p:nvSpPr>
        <p:spPr>
          <a:xfrm>
            <a:off x="3184560" y="13644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9"/>
          <p:cNvSpPr/>
          <p:nvPr/>
        </p:nvSpPr>
        <p:spPr>
          <a:xfrm>
            <a:off x="270036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79280" y="1052640"/>
          <a:ext cx="8713800" cy="4757760"/>
        </p:xfrm>
        <a:graphic>
          <a:graphicData uri="http://schemas.openxmlformats.org/drawingml/2006/table">
            <a:tbl>
              <a:tblPr/>
              <a:tblGrid>
                <a:gridCol w="814320"/>
                <a:gridCol w="3838680"/>
                <a:gridCol w="40608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!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2 promedio=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!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Text Box 70"/>
          <p:cNvSpPr/>
          <p:nvPr/>
        </p:nvSpPr>
        <p:spPr>
          <a:xfrm>
            <a:off x="2860560" y="352440"/>
            <a:ext cx="455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1"/>
          <p:cNvSpPr/>
          <p:nvPr/>
        </p:nvSpPr>
        <p:spPr>
          <a:xfrm>
            <a:off x="2335320" y="47628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480960" y="471600"/>
          <a:ext cx="8302680" cy="61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71600"/>
                    <a:ext cx="8302680" cy="61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480960" y="461880"/>
          <a:ext cx="8269200" cy="599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61880"/>
                    <a:ext cx="8269200" cy="59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480960" y="461880"/>
          <a:ext cx="8269200" cy="599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61880"/>
                    <a:ext cx="8269200" cy="59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393840" y="255600"/>
          <a:ext cx="8110440" cy="730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255600"/>
                    <a:ext cx="8110440" cy="730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79440" y="295200"/>
          <a:ext cx="8524800" cy="625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295200"/>
                    <a:ext cx="8524800" cy="62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554040" y="387360"/>
          <a:ext cx="8183520" cy="621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387360"/>
                    <a:ext cx="8183520" cy="62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1981080"/>
          <a:ext cx="7918560" cy="414504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3"/>
          <p:cNvGraphicFramePr/>
          <p:nvPr/>
        </p:nvGraphicFramePr>
        <p:xfrm>
          <a:off x="517680" y="517680"/>
          <a:ext cx="829440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294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387360" y="442800"/>
          <a:ext cx="8543880" cy="69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442800"/>
                    <a:ext cx="8543880" cy="69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507960" y="527040"/>
          <a:ext cx="828504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27040"/>
                    <a:ext cx="828504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868320" y="573120"/>
          <a:ext cx="7712280" cy="547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8320" y="573120"/>
                    <a:ext cx="771228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jalvarez</cp:lastModifiedBy>
  <cp:lastPrinted>2005-01-12T14:41:26Z</cp:lastPrinted>
  <dcterms:modified xsi:type="dcterms:W3CDTF">2011-10-20T20:00:47Z</dcterms:modified>
  <cp:revision>71</cp:revision>
  <dc:subject/>
  <dc:title>Sin título de diapositiva</dc:title>
</cp:coreProperties>
</file>