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49C9-696C-4B63-B330-ED44BA5843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8D53-885C-44B0-8D7A-F15465F171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15EF-CB1E-4487-9CDF-150E8DA43F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93A-3986-444B-8060-86A4B037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C0C-24F4-475C-88B2-1F15C769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B4F-0880-4AAD-B105-99F1704A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46C-53DC-42ED-9C3D-BB554312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8F1-4C1E-439F-BE8C-A3FC3F1E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33A-1484-42CB-87AC-A17E2BF7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E98-D9A5-4891-A577-041DB017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F37-F422-4EEC-B897-B1E30E65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FEC-1C73-416E-AB73-9A6BED4F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3F9-43C7-43E2-8869-5D0956CE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95C-D39D-44FD-A3D0-64500293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841-7BDC-46EE-B72E-6A187534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29AB-5DB2-4B0C-8F2A-24A88C1A9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84120" y="128520"/>
          <a:ext cx="7904160" cy="66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8520"/>
                    <a:ext cx="790416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255600" y="471600"/>
          <a:ext cx="8416800" cy="53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471600"/>
                    <a:ext cx="84168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225360" y="236520"/>
          <a:ext cx="87613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236520"/>
                    <a:ext cx="87613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166680" y="471600"/>
          <a:ext cx="8829720" cy="638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471600"/>
                    <a:ext cx="8829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187200" y="196920"/>
          <a:ext cx="8858520" cy="66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96920"/>
                    <a:ext cx="8858520" cy="66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689040" y="117360"/>
          <a:ext cx="770724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7360"/>
                    <a:ext cx="770724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10-20T14:46:22Z</dcterms:modified>
  <cp:revision>74</cp:revision>
  <dc:subject/>
  <dc:title>Sin título de diapositiva</dc:title>
</cp:coreProperties>
</file>