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FB6D-743A-4784-835C-3ADEDC692E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9738-A6A3-423D-B775-CAD3F22EA5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5679-FA64-47A8-A95F-94A061239B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04D-70AF-482E-9BE0-F47218FE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CF3-653C-45FF-AD9B-AD5256C1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785-892B-42FA-B940-84979117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AA7-9EE8-4A22-8539-1E124E30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9BB-F703-421A-9658-2CC3EEFE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1E7-AAD2-41F0-9727-87E5696E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E95-D354-4CF4-AAE3-6DDE1CBC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0F9-E1C7-400E-8535-66FB9F71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C34-D17C-44EC-89D4-A655EEB0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A5A-C701-42CE-AEAC-E2F3800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0E6-B1C1-475E-944F-0AA027AE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CB2-04A2-4EBF-9E0A-225F421A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DEC8-7291-440C-84AA-1CA059D9A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84120" y="128520"/>
          <a:ext cx="7904160" cy="66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8520"/>
                    <a:ext cx="79041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255600" y="471600"/>
          <a:ext cx="84168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471600"/>
                    <a:ext cx="84168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225360" y="236520"/>
          <a:ext cx="87613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36520"/>
                    <a:ext cx="87613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166680" y="471600"/>
          <a:ext cx="8829720" cy="63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471600"/>
                    <a:ext cx="8829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187200" y="196920"/>
          <a:ext cx="8858520" cy="66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96920"/>
                    <a:ext cx="8858520" cy="66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689040" y="117360"/>
          <a:ext cx="770724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7360"/>
                    <a:ext cx="770724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10-20T14:46:22Z</dcterms:modified>
  <cp:revision>74</cp:revision>
  <dc:subject/>
  <dc:title>Sin título de diapositiva</dc:title>
</cp:coreProperties>
</file>