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EA22-07E4-44AD-8F54-C77E539A72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6A8-0416-48D3-B923-19995E2733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F50A-382B-4FA0-BFB1-E54C1D467E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4E8-8C87-4BDB-9342-89B2DABE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E48-114B-4BDB-83BE-1A0FFF11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11A-A608-4D78-B997-D4F86ACE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96E-EFE1-4856-914D-DAC230FB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D2A-FAD4-4C29-9986-EBDAC0F4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158-7E46-4E8A-A39A-EEF405D2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ECF-2109-4E01-9848-8584CE54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7FC-3650-4A4A-A093-CEA4E0B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A33-1CA2-435B-8A9F-7B563004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A50-3823-4363-B8FE-A709F6B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707-F76D-4B68-B8E7-647201E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3E2-0042-4D1F-9DE9-9C186E0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3C93-7A4D-46DC-A1EF-27889FE7C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416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416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225360" y="236520"/>
          <a:ext cx="87613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36520"/>
                    <a:ext cx="87613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66680" y="471600"/>
          <a:ext cx="8829720" cy="63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471600"/>
                    <a:ext cx="8829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87200" y="196920"/>
          <a:ext cx="8858520" cy="66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96920"/>
                    <a:ext cx="8858520" cy="66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689040" y="117360"/>
          <a:ext cx="770724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7360"/>
                    <a:ext cx="770724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10-20T14:46:22Z</dcterms:modified>
  <cp:revision>74</cp:revision>
  <dc:subject/>
  <dc:title>Sin título de diapositiva</dc:title>
</cp:coreProperties>
</file>