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89A-5071-4E1E-8EEF-9FB802C91B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89A-6132-4959-8DEE-BB4F7C5444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C32-99E3-4CB2-9A09-3B5F52B1A6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098-771A-4ED9-92E3-5B4E0C90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71A-9639-4347-B496-414AF510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163-2805-4BD5-B41B-8C0A3AB2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2D1-7AC0-4913-89DC-55D34EFD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E54-85D4-41A3-87EE-FF6C7FC1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3CF-FA7B-42CC-AD00-5CF7F7E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674-4EBC-4ED6-8695-482D860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38A-D727-40C6-B656-71EAA7AE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D31-432F-4D48-9BD2-2409DE95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5CD-C902-4F67-8A35-A5B6D43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B57-26DC-4DA0-9E21-839E76A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1A9-138B-4AC1-A582-DAB6255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47B-BE0A-4A77-A3E9-1717BF5F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10-20T14:46:22Z</dcterms:modified>
  <cp:revision>74</cp:revision>
  <dc:subject/>
  <dc:title>Sin título de diapositiva</dc:title>
</cp:coreProperties>
</file>