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4800"/>
            <a:ext cx="4649760" cy="348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8DC5-01E9-49BF-B6FB-72C3E912C7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4C40-79E6-455A-89B9-EB29FD90CDC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D549-0F2A-497E-AABB-8DE40F579B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12F5-248D-4FF1-8ADF-995C71EB78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633-7007-45C5-A7BD-BD5136F1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2E2-717B-4CB1-9864-0145DD10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1B0-022B-44E3-A0B2-D69A0D21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6A0-608C-4867-85EC-3A6B6BCA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F0B-8EEF-4B53-ABA7-9CF4D1EF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BD8-6A3B-49C1-BA54-7868FEF5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A2D-EF6E-4D93-B9AF-09351F96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F4E-0F07-4D99-BCB8-201915F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68D-0180-42C6-AB0C-47870794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0B7-E5C4-4D0E-8F04-2B7E7FD5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B40-4857-4601-8264-66C0679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0E72-8E6F-4093-9FD4-0F032322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2805-4ABB-4808-ABA0-75826B816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 de ejercici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 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 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input(“Ingresar un nº entero de 2 dígitos?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1=n/10    #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 dígi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ej:73/10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2=n-d1*10 #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gundo dígit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ej:73-7*10=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nº invertido =”, 10*d2+d1 #ej: 10*3+7=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calcule la distancia entre dos puntos ubicados en las coordenadas (x1,y1) y (x2,y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 Escribir un programa que lea las coordenadas de 3 puntos y 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sando funciones, calcule el área del triángulo que form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acuerdo al siguiente diálo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1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1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2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2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3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3?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ea=n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18960" y="406440"/>
          <a:ext cx="9014040" cy="53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250920" y="317160"/>
            <a:ext cx="8475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r area de triang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coordenadas de 3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=input(“x1?”); y1=input(“y1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=input(“x2?”); y2=input(“y2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=input(“x3?”); y3=input(“y3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distancia(x1,y1,x2,y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distancia(x2,y2,x3,y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distancia(x1,y1,x3,y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a,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x1 del programa es distinta del parámetro x1 de la función distancia (que “muere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684360" y="488520"/>
            <a:ext cx="807372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scribir un programa que invierta un número de 3 díg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diálogo indicado 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de 3 dígitos?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úmero invertido=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imule un cajero automá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cuerdo a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¿Cuánto dinero necesita? 5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ire los siguientes bille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de $2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de $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684360" y="-122400"/>
            <a:ext cx="81435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atisfaga el diálogo indic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siguien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 en la forma AAAAMMDD ? 200612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echa=31/12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un programa que sume dos fracciones sigui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álogo del sgte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de fracciones: a/b + c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?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?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?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10/8=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sultado debe expresarse como fracción y como númer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cesita simplificar el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ebe su programa sumando varias f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sucede si alguno de los denominadores es c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24000" y="502560"/>
            <a:ext cx="88200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escriba una función que reciba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tregue el que tenga el valor del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edio(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Use la función en un programa que genere 3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zar entre 1 y 100 y los escriba ordenados de menor a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e 4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criba una función que entregue el mayor entre 2 núm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la función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usar max ni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mayor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5120" y="479520"/>
          <a:ext cx="828684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28684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10-13T13:26:29Z</dcterms:modified>
  <cp:revision>92</cp:revision>
  <dc:subject/>
  <dc:title>Sin título de diapositiva</dc:title>
</cp:coreProperties>
</file>