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4800"/>
            <a:ext cx="4649760" cy="348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BBD7-60EF-498C-9CBA-2C3083DAB4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5668-CE94-42A4-B1B2-488978B815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0386-96F0-4ED1-885B-D360719168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FAAC-01D3-49F0-BAC8-8BA358B3FB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34C-D271-424B-A0F5-38406497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039-3BBF-4049-80F8-423796F9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A77-A315-4DCF-8CED-5A183498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79B-9409-4E71-A373-1D97AACD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651-F52E-48C3-B0C0-795409E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95E-8D6A-4557-91E0-88A5DDE9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162-B27E-4E32-90B3-981EBB2F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1E2-96E1-43ED-95F8-932BC82F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9D9-788B-402F-B1E3-CF055C76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509-238F-4E92-828D-092B221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901-2ABB-45BD-8830-83584CD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DAB-CE3E-460D-8ECF-F162C682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4D7B-289F-45A7-851B-C9E4CEB79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 de ejercici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 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 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input(“Ingresar un nº entero de 2 dígitos?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1=n/10    #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 dígi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ej:73/10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2=n-d1*10 #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gundo dígi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ej:73-7*10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nº invertido =”, 10*d2+d1 #ej: 10*3+7=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calcule la distancia entre dos puntos ubicados en las coordenadas (x1,y1) y (x2,y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 Escribir un programa que lea las coordenadas de 3 puntos y 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sando funciones, calcule el área del triángulo que form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acuerdo al siguiente diálo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1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1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2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2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3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3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ea=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18960" y="406440"/>
          <a:ext cx="9014040" cy="53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250920" y="317160"/>
            <a:ext cx="8475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r area de triang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coordenadas de 3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=input(“x1?”); y1=input(“y1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=input(“x2?”); y2=input(“y2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=input(“x3?”); y3=input(“y3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distancia(x1,y1,x2,y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distancia(x2,y2,x3,y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distancia(x1,y1,x3,y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a,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x1 del programa es distinta del parámetro x1 de la función distancia (que “muere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684360" y="488520"/>
            <a:ext cx="8073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scribir un programa que invierta un número de 3 díg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diálogo indicado 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de 3 dígitos?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invertido=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imule un cajero automá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¿Cuánto dinero necesita? 5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ire los siguientes bille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de $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84360" y="-122400"/>
            <a:ext cx="81435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atisfaga el diálogo indic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 en la forma AAAAMMDD ? 20061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=31/12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ume dos fracciones sigui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álogo del sg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de fracciones: a/b + c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?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?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?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10/8=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sultado debe expresarse como fracción y como númer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cesita simplificar el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ebe su programa sumando varia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sucede si alguno de los denominadores es c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24000" y="502560"/>
            <a:ext cx="8820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scriba una función que reciba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tregue el que tenga el valor del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edio(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Use la función en un programa que genere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zar entre 1 y 100 y los escriba ordenados de menor 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e 4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criba una función que entregue el mayor entre 2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la función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max ni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5120" y="479520"/>
          <a:ext cx="828684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28684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10-13T13:26:29Z</dcterms:modified>
  <cp:revision>92</cp:revision>
  <dc:subject/>
  <dc:title>Sin título de diapositiva</dc:title>
</cp:coreProperties>
</file>