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4800"/>
            <a:ext cx="4649760" cy="348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5B84-89BC-4B37-9C31-69479BAC6A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62B8-36CC-432A-B242-9067378FCD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D71F-369F-4B1D-82EA-F5BBF72927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A820-CA3F-46EA-BC97-1566D6C13A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9DF-06FE-45CC-91A5-548DD031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E8F-E03F-4C3F-B989-19F1CB36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CE9-186D-48B8-A466-D2F479EB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6C3-D4F7-498D-82C9-F195A612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6D8-952E-4C42-B906-0C03CFE2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9F3-572A-4F2F-8188-B1F971B8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ADB-E3FC-47D2-8D56-71406EC2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730-964F-4D90-B6CC-204BECDA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62A-EEF0-4B51-9433-EE09065F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08E-A79E-442E-8213-BCEA9BE3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AB2-CF93-4171-BB3B-B51F917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F28-01EB-45A2-BA98-352BF818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2C84-A947-4A1D-BEEF-2B7AC34BE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 de ejercici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 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 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input(“Ingresar un nº entero de 2 dígitos?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1=n/10    #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 dígi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ej:73/10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2=n-d1*10 #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gundo dígi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ej:73-7*10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nº invertido =”, 10*d2+d1 #ej: 10*3+7=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calcule la distancia entre dos puntos ubicados en las coordenadas (x1,y1) y (x2,y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 Escribir un programa que lea las coordenadas de 3 puntos y 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sando funciones, calcule el área del triángulo que form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acuerdo al siguiente diálo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1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1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2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2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3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3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ea=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18960" y="406440"/>
          <a:ext cx="9014040" cy="53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250920" y="317160"/>
            <a:ext cx="8475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r area de triang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coordenadas de 3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=input(“x1?”); y1=input(“y1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=input(“x2?”); y2=input(“y2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=input(“x3?”); y3=input(“y3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distancia(x1,y1,x2,y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distancia(x2,y2,x3,y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distancia(x1,y1,x3,y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a,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x1 del programa es distinta del parámetro x1 de la función distancia (que “muere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684360" y="488520"/>
            <a:ext cx="8073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scribir un programa que invierta un número de 3 díg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diálogo indicado 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de 3 dígitos?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invertido=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imule un cajero automá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¿Cuánto dinero necesita? 5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ire los siguientes bille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de $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84360" y="-122400"/>
            <a:ext cx="81435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atisfaga el diálogo indic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 en la forma AAAAMMDD ? 20061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=31/12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ume dos fracciones sigui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álogo del sg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de fracciones: a/b + c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?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?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?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10/8=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sultado debe expresarse como fracción y como númer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cesita simplificar el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ebe su programa sumando varia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sucede si alguno de los denominadores es c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24000" y="502560"/>
            <a:ext cx="8820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scriba una función que reciba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tregue el que tenga el valor del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edio(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Use la función en un programa que genere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zar entre 1 y 100 y los escriba ordenados de menor 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e 4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criba una función que entregue el mayor entre 2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la función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max ni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5120" y="479520"/>
          <a:ext cx="828684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28684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10-13T13:26:29Z</dcterms:modified>
  <cp:revision>92</cp:revision>
  <dc:subject/>
  <dc:title>Sin título de diapositiva</dc:title>
</cp:coreProperties>
</file>