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560" y="0"/>
            <a:ext cx="3060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7960" y="688680"/>
            <a:ext cx="4684680" cy="351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62480"/>
            <a:ext cx="30607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560" y="8862480"/>
            <a:ext cx="30607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81AE-5E15-41C0-9AFA-5583E5F4790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3FC7-F47E-49A0-AC14-CB6E443F1FF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B340-7106-42E7-87D2-E9598B0F14B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A4AD-70B7-45A0-8059-A5AADE65AB3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F87D-2C65-4E56-A2D1-D93A0242BED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8EA2-EAA0-448B-A2BA-19800335E35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05AA-F17A-4AD0-9E54-D973B331E6F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8000-D14C-41B3-939C-6E14A52CDF4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6793-05EE-49C3-8EEE-7C2C89527BC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3544-D32D-41DE-8CBA-8CE801B6B88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634-2B49-48AF-B0F8-7A0985A4D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841-A3C0-46CE-B3D2-BE0D92FD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DEBB-72CC-48E7-8FE5-3527DFCC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2587-DBD3-430B-AB5A-073EEE58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3527-7239-412A-919E-9FA2C9DB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BE6-3A81-4BFB-BC76-33B5107D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967-AF63-464F-B335-14B1C4B1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43F-EDFD-45C5-96C0-77BB7F76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351-E32C-4C59-877F-D2115601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3071-518F-4C44-B047-36150F8A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D337-7C59-4C05-90BD-7450EAC1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064C-B0EB-41AE-8ED2-749E1796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A0D4-CD16-4A9A-9FCC-7FBBCD5ECC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69800"/>
          <a:ext cx="8513640" cy="759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513640" cy="759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390160" cy="585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39016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235080" y="371520"/>
          <a:ext cx="8785080" cy="708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371520"/>
                    <a:ext cx="8785080" cy="70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69800" y="482760"/>
          <a:ext cx="8550360" cy="69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50360" cy="69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514000" cy="70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588520" cy="77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7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250920" y="128520"/>
            <a:ext cx="864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s 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los programas que implementen los diálogos indicados en los siguientes 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ular área y perímetro de cír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o?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área = 3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ímetro = 6.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gresar un nº de 2 dígitos?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úmero invertido =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79280" y="526680"/>
            <a:ext cx="8640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489880" cy="653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489880" cy="65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04800" y="542880"/>
          <a:ext cx="8304120" cy="822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542880"/>
                    <a:ext cx="8304120" cy="82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1-10-12T13:11:40Z</dcterms:modified>
  <cp:revision>118</cp:revision>
  <dc:subject/>
  <dc:title>Sin título de diapositiva</dc:title>
</cp:coreProperties>
</file>