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560" y="0"/>
            <a:ext cx="3060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7960" y="688680"/>
            <a:ext cx="4684680" cy="351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62480"/>
            <a:ext cx="30607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560" y="8862480"/>
            <a:ext cx="30607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2B99-94E0-4A52-B84C-901201E4F0C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B310-C750-48FD-A95B-7D547E65292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683E-D037-49B3-9522-0A41518235B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CE3B-E50B-496D-A370-3B081D4B028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3754-5999-4C55-A4CC-F900B493AF6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8994-61CE-44EC-AB04-5AC59283863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0312-4101-44AB-BA25-7CF3F01F36D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00FB-3680-4CDC-B73E-50A00D0CC59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5415-A8D6-4CB5-9786-C852FEE9B1F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00F6-D487-46AF-94DC-5DB5DFE5977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9DD8-C704-4C91-A67E-54F8C4CA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ACBE-E5B0-472F-B500-B6AB290C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4B92-DEB2-467D-9405-220CB9CE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B2F-05D2-409E-8142-920AE41B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367-F799-4A5E-B104-27DE2719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C218-B520-4869-9BB9-064F2FBC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EE13-07D5-4257-8945-3A72978B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D04-DA55-47F7-A27D-23C32B65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EC11-F667-4FB4-8CDF-2CEE17E6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940-6703-4FD5-A4E2-1B1DB10C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E97-B074-4907-9CBE-0B08341C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742-BBC4-4BEE-A9A3-9A80D3E8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2499-917A-4976-A7B8-6434ABAF32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69800"/>
          <a:ext cx="8513640" cy="759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513640" cy="759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390160" cy="585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39016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235080" y="371520"/>
          <a:ext cx="8785080" cy="708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371520"/>
                    <a:ext cx="8785080" cy="70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69800" y="482760"/>
          <a:ext cx="8550360" cy="69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50360" cy="69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514000" cy="70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588520" cy="77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7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250920" y="128520"/>
            <a:ext cx="864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s 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los programas que implementen los diálogos indicados en los siguientes 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ular área y perímetro de cír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o?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área = 3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ímetro = 6.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gresar un nº de 2 dígitos?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úmero invertido =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79280" y="526680"/>
            <a:ext cx="8640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489880" cy="653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489880" cy="65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04800" y="542880"/>
          <a:ext cx="8304120" cy="822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542880"/>
                    <a:ext cx="8304120" cy="82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1-10-12T13:11:40Z</dcterms:modified>
  <cp:revision>118</cp:revision>
  <dc:subject/>
  <dc:title>Sin título de diapositiva</dc:title>
</cp:coreProperties>
</file>