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560" y="0"/>
            <a:ext cx="3060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7960" y="688680"/>
            <a:ext cx="4684680" cy="351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62480"/>
            <a:ext cx="30607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560" y="8862480"/>
            <a:ext cx="30607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5623-B1A0-4709-B94D-0BAE0B44A18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AB4E-1990-493B-95E2-465981B0DC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7C96-C3AB-4568-9087-305C26FCD3B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789E-E11B-4B71-B93B-992B2003B3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6157-9478-4B0C-8FDF-BB07E1C3B14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A601-E431-4A22-B575-F961166FEB9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26F1-A435-4C7C-ACB8-6D6DD00B64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F7A7-1E68-4336-A8A9-7635543FFD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1394-0DFD-4C3B-BF65-220ED85A37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E7B8-CDBB-405C-8514-E6B9E5F877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057-807C-4C52-9EA4-B8FC51D7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272-A812-4EA3-9A2B-B46C07BF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EEC-D648-479B-A411-524DFD3B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92D-ED03-42B9-A2E8-FEA670D5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4E2-FBBF-475E-8D2F-DEA3497D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9E5-2455-49C7-B0B3-DBB3993D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46B-E419-47B7-9304-32D74DB5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D7E-E8AD-4591-9D7A-337B71B1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ECC-B15F-438E-8537-6912D58F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0F1-5EA5-4E23-B820-6A0F33B9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7ED-3B28-41AC-A8BA-CEFC2F98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E2F-50D2-4924-91D9-CFB22BAC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0CEA-FA02-4E76-AAE8-B26332EAC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69800"/>
          <a:ext cx="8513640" cy="759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513640" cy="75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390160" cy="585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39016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235080" y="371520"/>
          <a:ext cx="8785080" cy="708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71520"/>
                    <a:ext cx="8785080" cy="70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588520" cy="77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7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250920" y="128520"/>
            <a:ext cx="864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los programas que implementen los diálogos indicados en los siguientes 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ular área y perímetro de cír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o?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área = 3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ímetro = 6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gresar un nº de 2 dígitos?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úmero invertido 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526680"/>
            <a:ext cx="864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489880" cy="65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489880" cy="65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04800" y="542880"/>
          <a:ext cx="8304120" cy="822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42880"/>
                    <a:ext cx="8304120" cy="82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1-10-12T13:11:40Z</dcterms:modified>
  <cp:revision>118</cp:revision>
  <dc:subject/>
  <dc:title>Sin título de diapositiva</dc:title>
</cp:coreProperties>
</file>