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607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7960" y="688680"/>
            <a:ext cx="4684680" cy="3513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62480"/>
            <a:ext cx="30607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5F7-B33F-4E4C-8A54-00DD9747119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0BC1-AAED-4FDA-96B7-3326C043C1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8E12-DF45-4156-ABBB-3F53632F172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B812-4AF6-4B39-BED8-70648F0170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D925-10DF-474A-83EC-D8F6C7E874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ED89-72EA-4241-BE40-1E15F7DDEBE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900-B655-4437-B9BA-E487AC2569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4436-7B79-43F7-A82E-2AFE9B3A20E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36BE-E26C-4778-BBD8-E4B1B1D7AB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0"/>
            <a:ext cx="306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976560" y="8862840"/>
            <a:ext cx="30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AFC3-15B2-4C70-9B49-0A4A6D274A3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38320" y="689040"/>
            <a:ext cx="4684680" cy="3513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7640" y="4432320"/>
            <a:ext cx="5124240" cy="42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61F-7C06-4FD3-82D0-90D3D7AE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BC9B-A303-4173-B53F-7851E7F5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BAFC-426E-4668-B87E-15A1DC98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B1E-0350-4690-BF10-F3878615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AF3B-FE5C-4E96-9482-28CF40C5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279-4407-4901-9C77-077FB4C0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9D7A-33F5-4DC7-8FE4-A323F5B5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FD2-5AA4-451D-A8F2-4391BC86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1FF-32BD-4EDD-B972-AA0AAB92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349-A201-4940-B492-D92084AF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CB0-04C7-4E16-A9CE-DA8956DB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E5EC-22FB-440F-9164-C3C80C38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DA88-82DC-4106-A6E0-5A0659D3D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69800"/>
          <a:ext cx="8513640" cy="759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513640" cy="759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235080" y="371520"/>
          <a:ext cx="8785080" cy="70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71520"/>
                    <a:ext cx="8785080" cy="70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250920" y="128520"/>
            <a:ext cx="864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ir los programas que implementen los diálogos indicados en los siguientes ej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cular área y perímetro de cír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dio?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área = 3.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ímetro = 6.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gresar un nº de 2 dígitos?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úmero invertido 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526680"/>
            <a:ext cx="864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489880" cy="653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489880" cy="65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04800" y="54288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54288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1-10-12T13:11:40Z</dcterms:modified>
  <cp:revision>118</cp:revision>
  <dc:subject/>
  <dc:title>Sin título de diapositiva</dc:title>
</cp:coreProperties>
</file>