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7960" y="688680"/>
            <a:ext cx="4684680" cy="35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877-DFF9-4A33-ADF5-DF8BC2B23E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2DFC-D83B-46AE-96DE-E315BDE39D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337-5778-4F07-9CB7-B5F45634F9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59D7-3879-427B-8CDF-2DCE9BAF8A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06D-AF14-4C7C-B727-842DFBE6B2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219-BD90-4BA6-AB89-9939678DB1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08D2-762E-43F7-89E5-80021A371F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4908-6894-4DE3-AECA-736F4663AC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2A12-2F71-49DB-8A84-E8BBC74BDC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779-8F24-4DB3-9C44-F35674904B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A87-0D48-4F78-A77D-7521B2B7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98B-DE89-4779-A823-A797365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59-DA69-4BF4-B737-E2CAA338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45D-D8DF-41F0-AB3C-6FF7C9A5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F9A-BDFD-4332-B888-F2D615A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25C-DE69-4B66-86B5-7FA4F2E5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055-BA3C-48A8-B623-DCAA16E6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468-4C2B-4188-AAD5-017C4F2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4AD-0823-4EE2-ADE0-FEF8CD11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A10-8BD1-46B1-B4A3-E98CABB6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9FE-E4C2-4AA0-913A-62E16AB2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EF1-E1FA-4171-B4AA-C74CC1B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3DAF-0989-4015-B31F-27630244B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1364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1364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5080" y="371520"/>
          <a:ext cx="8785080" cy="70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71520"/>
                    <a:ext cx="8785080" cy="70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1285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os programas que implementen los diálogos indicados en los siguientes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r área y perímetro de cír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o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= 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ímetro = 6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resar un nº de 2 dígitos?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úmero invertido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10-12T13:11:40Z</dcterms:modified>
  <cp:revision>118</cp:revision>
  <dc:subject/>
  <dc:title>Sin título de diapositiva</dc:title>
</cp:coreProperties>
</file>