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32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omputación I: Introducción (J.Álvarez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804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20880" y="742680"/>
            <a:ext cx="4952880" cy="3714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7C9B8-73BB-4D85-A420-13339806BC92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2"/>
          <p:cNvSpPr/>
          <p:nvPr/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omputación I: Introducción (J.Álvarez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6"/>
          <p:cNvSpPr/>
          <p:nvPr/>
        </p:nvSpPr>
        <p:spPr>
          <a:xfrm>
            <a:off x="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7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43FED-B0A0-4668-A23A-EB21804B2EC9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2"/>
          <p:cNvSpPr/>
          <p:nvPr/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omputación I: Introducción (J.Álvarez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6"/>
          <p:cNvSpPr/>
          <p:nvPr/>
        </p:nvSpPr>
        <p:spPr>
          <a:xfrm>
            <a:off x="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3386B-7CE2-4FE4-99D7-604EE6A3DC14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2"/>
          <p:cNvSpPr/>
          <p:nvPr/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omputación I: Introducción (J.Álvarez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6"/>
          <p:cNvSpPr/>
          <p:nvPr/>
        </p:nvSpPr>
        <p:spPr>
          <a:xfrm>
            <a:off x="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7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E3513-4EF9-49A3-B67A-CC552158422F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832D3-C0A5-4822-856E-2A4DD57DF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8EC83-A779-41EA-8CA6-A42281D9F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E1729-00F8-44B2-B3A9-479F5E7D9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1BD19-178D-457C-AF5E-C7F427572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09DBF-F0DF-4E6C-985A-BD4DF8850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609FB-ECD2-4CDA-992D-580AA62F4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F7307-1121-4A34-8378-D076F7527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88DC2-C7C2-43BE-A3B0-4D67EBD33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18A29-CD5B-4C81-AA8E-B3FBE9F75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1390C-B185-4AD7-8897-0F6804D2D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9A3CE-06E1-4AE2-8951-7D6B609BD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52F2B-5801-4DD4-A31F-1A9D2A715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8A4C2-C121-4C27-A657-C75FB1C495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CC1001- Computación I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5486400" y="1828800"/>
            <a:ext cx="3048120" cy="190512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mpu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Oval 7"/>
          <p:cNvSpPr/>
          <p:nvPr/>
        </p:nvSpPr>
        <p:spPr>
          <a:xfrm>
            <a:off x="4876920" y="3962520"/>
            <a:ext cx="380880" cy="533160"/>
          </a:xfrm>
          <a:prstGeom prst="ellipse">
            <a:avLst/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8"/>
          <p:cNvSpPr/>
          <p:nvPr/>
        </p:nvSpPr>
        <p:spPr>
          <a:xfrm>
            <a:off x="5029200" y="44197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9"/>
          <p:cNvSpPr/>
          <p:nvPr/>
        </p:nvSpPr>
        <p:spPr>
          <a:xfrm flipV="1">
            <a:off x="5105520" y="4495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0"/>
          <p:cNvSpPr/>
          <p:nvPr/>
        </p:nvSpPr>
        <p:spPr>
          <a:xfrm>
            <a:off x="5105520" y="480060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ine 11"/>
          <p:cNvSpPr/>
          <p:nvPr/>
        </p:nvSpPr>
        <p:spPr>
          <a:xfrm flipV="1">
            <a:off x="4952880" y="5410080"/>
            <a:ext cx="76212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2"/>
          <p:cNvSpPr/>
          <p:nvPr/>
        </p:nvSpPr>
        <p:spPr>
          <a:xfrm>
            <a:off x="5715000" y="54100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3"/>
          <p:cNvSpPr/>
          <p:nvPr/>
        </p:nvSpPr>
        <p:spPr>
          <a:xfrm flipV="1">
            <a:off x="4952880" y="5181120"/>
            <a:ext cx="38124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14"/>
          <p:cNvSpPr/>
          <p:nvPr/>
        </p:nvSpPr>
        <p:spPr>
          <a:xfrm>
            <a:off x="5334120" y="51814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1143000" y="54100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oble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AutoShape 18"/>
          <p:cNvSpPr/>
          <p:nvPr/>
        </p:nvSpPr>
        <p:spPr>
          <a:xfrm>
            <a:off x="3429000" y="5638680"/>
            <a:ext cx="533520" cy="304920"/>
          </a:xfrm>
          <a:prstGeom prst="rightArrow">
            <a:avLst>
              <a:gd name="adj1" fmla="val 50000"/>
              <a:gd name="adj2" fmla="val 43743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AutoShape 20"/>
          <p:cNvSpPr/>
          <p:nvPr/>
        </p:nvSpPr>
        <p:spPr>
          <a:xfrm flipH="1">
            <a:off x="304200" y="1752480"/>
            <a:ext cx="4647960" cy="1905120"/>
          </a:xfrm>
          <a:prstGeom prst="cloudCallout">
            <a:avLst>
              <a:gd name="adj1" fmla="val -44467"/>
              <a:gd name="adj2" fmla="val 69912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21"/>
          <p:cNvSpPr/>
          <p:nvPr/>
        </p:nvSpPr>
        <p:spPr>
          <a:xfrm>
            <a:off x="380880" y="1717560"/>
            <a:ext cx="485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azonamiento algorítmico/lóg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apacidad modelamiento/abstra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Habilidad gral resolver proble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Oval 23"/>
          <p:cNvSpPr/>
          <p:nvPr/>
        </p:nvSpPr>
        <p:spPr>
          <a:xfrm>
            <a:off x="5562720" y="4343400"/>
            <a:ext cx="228600" cy="1522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AutoShape 24"/>
          <p:cNvSpPr/>
          <p:nvPr/>
        </p:nvSpPr>
        <p:spPr>
          <a:xfrm>
            <a:off x="5715000" y="4800600"/>
            <a:ext cx="1066680" cy="228600"/>
          </a:xfrm>
          <a:prstGeom prst="parallelogram">
            <a:avLst>
              <a:gd name="adj" fmla="val 116654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" name="AutoShape 27"/>
          <p:cNvCxnSpPr>
            <a:stCxn id="62" idx="6"/>
          </p:cNvCxnSpPr>
          <p:nvPr/>
        </p:nvCxnSpPr>
        <p:spPr>
          <a:xfrm flipV="1">
            <a:off x="5791320" y="3809520"/>
            <a:ext cx="152640" cy="610560"/>
          </a:xfrm>
          <a:prstGeom prst="curvedConnector3">
            <a:avLst>
              <a:gd name="adj1" fmla="val 27659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5" name="AutoShape 28"/>
          <p:cNvCxnSpPr>
            <a:stCxn id="63" idx="0"/>
            <a:endCxn id="49" idx="2"/>
          </p:cNvCxnSpPr>
          <p:nvPr/>
        </p:nvCxnSpPr>
        <p:spPr>
          <a:xfrm flipH="1" flipV="1" rot="5400000">
            <a:off x="6162480" y="3952800"/>
            <a:ext cx="1067040" cy="628920"/>
          </a:xfrm>
          <a:prstGeom prst="curvedConnector3">
            <a:avLst>
              <a:gd name="adj1" fmla="val 24974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66" name="Text Box 29"/>
          <p:cNvSpPr/>
          <p:nvPr/>
        </p:nvSpPr>
        <p:spPr>
          <a:xfrm>
            <a:off x="6781680" y="54864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olu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AutoShape 30"/>
          <p:cNvSpPr/>
          <p:nvPr/>
        </p:nvSpPr>
        <p:spPr>
          <a:xfrm>
            <a:off x="6095880" y="5638680"/>
            <a:ext cx="533520" cy="304920"/>
          </a:xfrm>
          <a:prstGeom prst="rightArrow">
            <a:avLst>
              <a:gd name="adj1" fmla="val 50000"/>
              <a:gd name="adj2" fmla="val 43743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685800" y="189000"/>
            <a:ext cx="77724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Objetiv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4"/>
          <p:cNvSpPr/>
          <p:nvPr/>
        </p:nvSpPr>
        <p:spPr>
          <a:xfrm>
            <a:off x="685800" y="981000"/>
            <a:ext cx="7772400" cy="511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gene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esolver proble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specífi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scribir programas que resuelvan proble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(en lenguajes de programación Python y Matlab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e largo plazo (propósito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azonamientos algorítmico y lóg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apacidades de abstracción y modelamient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habilidad general para resolver proble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Contenid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1. Fundamentos de program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2. Programación orientada a obje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3. Listas y tablas de valo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4. Computación científ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5. Búsqueda y ordenamiento de inform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4"/>
          <p:cNvSpPr/>
          <p:nvPr/>
        </p:nvSpPr>
        <p:spPr>
          <a:xfrm>
            <a:off x="611280" y="189000"/>
            <a:ext cx="74898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Evalu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Rectangle 5"/>
          <p:cNvSpPr/>
          <p:nvPr/>
        </p:nvSpPr>
        <p:spPr>
          <a:xfrm>
            <a:off x="468360" y="836640"/>
            <a:ext cx="8424720" cy="52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NF (nota final): 70%NC+30%NT (NC,NT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4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NT (nota tareas): promedio 5 tareas (1 por ca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Si 3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NT&lt;4 y NC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 4, NF=I + tarea(s) extra(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NC (nota control): prom ponderado contro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971640" y="3309840"/>
          <a:ext cx="6985080" cy="2232000"/>
        </p:xfrm>
        <a:graphic>
          <a:graphicData uri="http://schemas.openxmlformats.org/drawingml/2006/table">
            <a:tbl>
              <a:tblPr/>
              <a:tblGrid>
                <a:gridCol w="1523880"/>
                <a:gridCol w="1932120"/>
                <a:gridCol w="1584360"/>
                <a:gridCol w="19447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ro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enid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ech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n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-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 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-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 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4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xam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-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 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4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Ejercici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5"/>
          <p:cNvSpPr/>
          <p:nvPr/>
        </p:nvSpPr>
        <p:spPr>
          <a:xfrm>
            <a:off x="468360" y="1981080"/>
            <a:ext cx="4103640" cy="468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e evalúan entre 1 y 4 (%=0,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33,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66,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10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se considera promedi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de los 20 mejores (de 27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si tiene menos de 20, NF=I + tarea(s) extra(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sirven para eximir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de examen de acuerdo a la siguiente tabl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4648320" y="1981080"/>
          <a:ext cx="3809880" cy="4556160"/>
        </p:xfrm>
        <a:graphic>
          <a:graphicData uri="http://schemas.openxmlformats.org/drawingml/2006/table">
            <a:tbl>
              <a:tblPr/>
              <a:tblGrid>
                <a:gridCol w="1904760"/>
                <a:gridCol w="1905120"/>
              </a:tblGrid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medio c1,c2,c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medi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jercici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ualquier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≥</a:t>
                      </a: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≥</a:t>
                      </a: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≥</a:t>
                      </a: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≥</a:t>
                      </a: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≥</a:t>
                      </a: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4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Bibliograf</a:t>
            </a: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í</a:t>
            </a: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5"/>
          <p:cNvSpPr/>
          <p:nvPr/>
        </p:nvSpPr>
        <p:spPr>
          <a:xfrm>
            <a:off x="324000" y="1981080"/>
            <a:ext cx="8640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puntes del cur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lase a clase (quedan disponibles en U-curs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ibros” complementarios (disponibles en Interne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Think Python”, Down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ython for Informatics”, Sever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troduction to Programming using Python”, Schuer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ython para todos”, Gonzalez Duqu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ython Tutorial” (+avanzado); Guido van Rossum (creador de Pyth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5T18:57:29Z</dcterms:created>
  <dc:creator>jalvarez</dc:creator>
  <dc:description/>
  <dc:language>en-US</dc:language>
  <cp:lastModifiedBy>jalvarez</cp:lastModifiedBy>
  <cp:lastPrinted>2006-03-02T13:33:10Z</cp:lastPrinted>
  <dcterms:modified xsi:type="dcterms:W3CDTF">2011-10-11T14:08:17Z</dcterms:modified>
  <cp:revision>41</cp:revision>
  <dc:subject/>
  <dc:title>Un curso intensivo de Introducción a la Programación Orientada a Objetos en Java  para estudiantes de secundaria </dc:title>
</cp:coreProperties>
</file>