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9F5D-A88A-4F56-BEC8-519E2402BB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9E60-7256-4A20-9A90-A5E35B71BC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D41E-DD3E-48A2-8C97-EA467366BE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8557-5F35-4F85-A9BF-F376988D9F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819-C39C-4FE8-8CD2-FA794D73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71E-72A9-433F-828E-5FD4AD6E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1D3-BF2C-48BA-B52B-A4CBB1AF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E2C-BA0D-4A14-96B5-DEC23DE0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CAB-1B8D-4D47-B572-B8B4DE5E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124-851E-4F17-A982-C7CB8595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FDE-3179-4963-B413-8A467535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36D-FF0D-46DD-BBD7-4D816E60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05B-D20A-4908-900F-265C9044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77D-DB6A-4059-86F8-D48402FB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914-FBB0-42FA-9484-C83DD686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FF4-2425-47EF-8383-8E4012FB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3BFB-6481-4E9D-BB50-64BE5A91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AutoShape 27"/>
          <p:cNvCxnSpPr>
            <a:stCxn id="62" idx="6"/>
          </p:cNvCxnSpPr>
          <p:nvPr/>
        </p:nvCxnSpPr>
        <p:spPr>
          <a:xfrm flipV="1">
            <a:off x="5791320" y="3809520"/>
            <a:ext cx="152640" cy="610560"/>
          </a:xfrm>
          <a:prstGeom prst="curvedConnector3">
            <a:avLst>
              <a:gd name="adj1" fmla="val 276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AutoShape 28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800"/>
            <a:ext cx="1067040" cy="628920"/>
          </a:xfrm>
          <a:prstGeom prst="curvedConnector3">
            <a:avLst>
              <a:gd name="adj1" fmla="val 24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lenguajes de programación Python y Matl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(s) extra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3309840"/>
          <a:ext cx="6985080" cy="223200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iguien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bliograf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 clase (quedan disponibles en U-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ros” complementarios (disponibles en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nk Python”, Dow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for Informatics”, Sev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roduction to Programming using Python”, Sch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para todos”, Gonzalez Du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Tutorial” (+avanzado); Guido van Rossum (creador de 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1-10-11T14:08:17Z</dcterms:modified>
  <cp:revision>41</cp:revision>
  <dc:subject/>
  <dc:title>Un curso intensivo de Introducción a la Programación Orientada a Objetos en Java  para estudiantes de secundaria </dc:title>
</cp:coreProperties>
</file>