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3151-BF6C-4C50-9723-2824854A32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783-30B7-42DC-97C6-5A40E727C5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768B-AC1C-4E20-ACED-3AE74F345A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7D7-3283-457A-9A70-0C45AFD65F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0B8-0635-4E95-8D3D-7F1466C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AC2-AA5D-4069-B620-0B99A92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31D-AE18-4AF0-9418-9AD29657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7BE-2D4D-4C71-AB4D-DEB80184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5FB-695D-4B9A-92B8-7DFB11B4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214-BE54-450F-8312-6DA36AFB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3C0-B1D0-4956-A812-686771A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E39-E626-49A7-BCAF-188DCD4F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B6E-BE0E-4295-A934-03FACCCC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186-0CA2-4DA2-B74D-61A12CC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2FC-298F-44E9-AC96-89CF332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C13-502D-48F8-BFDA-29DD954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0175-0A5E-433A-ACA9-B6523E6C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10-11T14:08:17Z</dcterms:modified>
  <cp:revision>41</cp:revision>
  <dc:subject/>
  <dc:title>Un curso intensivo de Introducción a la Programación Orientada a Objetos en Java  para estudiantes de secundaria </dc:title>
</cp:coreProperties>
</file>