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32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omputación I: Introducción (J.Álvarez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804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20880" y="742680"/>
            <a:ext cx="4952880" cy="3714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C51D8-46CC-4532-B8B7-8B44FACF86C2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2"/>
          <p:cNvSpPr/>
          <p:nvPr/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omputación I: Introducción (J.Álvarez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6"/>
          <p:cNvSpPr/>
          <p:nvPr/>
        </p:nvSpPr>
        <p:spPr>
          <a:xfrm>
            <a:off x="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7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7391C-6D7C-4D6B-89D1-CA829FD837F0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2"/>
          <p:cNvSpPr/>
          <p:nvPr/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omputación I: Introducción (J.Álvarez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6"/>
          <p:cNvSpPr/>
          <p:nvPr/>
        </p:nvSpPr>
        <p:spPr>
          <a:xfrm>
            <a:off x="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7B477-7A3C-4667-8CC3-64E915D84039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2"/>
          <p:cNvSpPr/>
          <p:nvPr/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omputación I: Introducción (J.Álvarez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6"/>
          <p:cNvSpPr/>
          <p:nvPr/>
        </p:nvSpPr>
        <p:spPr>
          <a:xfrm>
            <a:off x="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7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FD48C-6758-4C2E-BBD2-CAE54709CFE3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A0A07-E01F-4B05-8CA8-45F85C3D2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6C23A-EB3A-4437-AC7A-CEB516ED5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43EB6-E5FD-485C-82F7-2ADE00027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431DC-8ADF-4611-8A64-36619497E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E03C8-FA21-4CCB-8EC9-DECE4D7F7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562D3-4B01-4843-8891-8F7D72F42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D3A59-2F0D-4BEA-8615-5325570A4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0D78B-BFD7-464A-BC5E-CF9EC8A3B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A7B47-191C-4973-8D6C-9F5949BA2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72119-D81F-4DE5-B257-B93CA467D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E02A0-0A00-4725-BCAC-10BA155F4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4EC80-4F1F-4AEA-BF62-601C5BCF5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9A80E-025D-4E33-8D1D-F1CDBD566A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CC1001- Computación I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5486400" y="1828800"/>
            <a:ext cx="3048120" cy="190512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mpu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Oval 7"/>
          <p:cNvSpPr/>
          <p:nvPr/>
        </p:nvSpPr>
        <p:spPr>
          <a:xfrm>
            <a:off x="4876920" y="3962520"/>
            <a:ext cx="380880" cy="533160"/>
          </a:xfrm>
          <a:prstGeom prst="ellipse">
            <a:avLst/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8"/>
          <p:cNvSpPr/>
          <p:nvPr/>
        </p:nvSpPr>
        <p:spPr>
          <a:xfrm>
            <a:off x="5029200" y="44197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9"/>
          <p:cNvSpPr/>
          <p:nvPr/>
        </p:nvSpPr>
        <p:spPr>
          <a:xfrm flipV="1">
            <a:off x="5105520" y="4495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0"/>
          <p:cNvSpPr/>
          <p:nvPr/>
        </p:nvSpPr>
        <p:spPr>
          <a:xfrm>
            <a:off x="5105520" y="480060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ine 11"/>
          <p:cNvSpPr/>
          <p:nvPr/>
        </p:nvSpPr>
        <p:spPr>
          <a:xfrm flipV="1">
            <a:off x="4952880" y="5410080"/>
            <a:ext cx="76212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2"/>
          <p:cNvSpPr/>
          <p:nvPr/>
        </p:nvSpPr>
        <p:spPr>
          <a:xfrm>
            <a:off x="5715000" y="54100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3"/>
          <p:cNvSpPr/>
          <p:nvPr/>
        </p:nvSpPr>
        <p:spPr>
          <a:xfrm flipV="1">
            <a:off x="4952880" y="5181120"/>
            <a:ext cx="38124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14"/>
          <p:cNvSpPr/>
          <p:nvPr/>
        </p:nvSpPr>
        <p:spPr>
          <a:xfrm>
            <a:off x="5334120" y="51814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1143000" y="54100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oble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AutoShape 18"/>
          <p:cNvSpPr/>
          <p:nvPr/>
        </p:nvSpPr>
        <p:spPr>
          <a:xfrm>
            <a:off x="3429000" y="5638680"/>
            <a:ext cx="533520" cy="304920"/>
          </a:xfrm>
          <a:prstGeom prst="rightArrow">
            <a:avLst>
              <a:gd name="adj1" fmla="val 50000"/>
              <a:gd name="adj2" fmla="val 43743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AutoShape 20"/>
          <p:cNvSpPr/>
          <p:nvPr/>
        </p:nvSpPr>
        <p:spPr>
          <a:xfrm flipH="1">
            <a:off x="304200" y="1752480"/>
            <a:ext cx="4647960" cy="1905120"/>
          </a:xfrm>
          <a:prstGeom prst="cloudCallout">
            <a:avLst>
              <a:gd name="adj1" fmla="val -44467"/>
              <a:gd name="adj2" fmla="val 69912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21"/>
          <p:cNvSpPr/>
          <p:nvPr/>
        </p:nvSpPr>
        <p:spPr>
          <a:xfrm>
            <a:off x="380880" y="1717560"/>
            <a:ext cx="485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azonamiento algorítmico/lóg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apacidad modelamiento/abstra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Habilidad gral resolver proble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Oval 23"/>
          <p:cNvSpPr/>
          <p:nvPr/>
        </p:nvSpPr>
        <p:spPr>
          <a:xfrm>
            <a:off x="5562720" y="4343400"/>
            <a:ext cx="228600" cy="1522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AutoShape 24"/>
          <p:cNvSpPr/>
          <p:nvPr/>
        </p:nvSpPr>
        <p:spPr>
          <a:xfrm>
            <a:off x="5715000" y="4800600"/>
            <a:ext cx="1066680" cy="228600"/>
          </a:xfrm>
          <a:prstGeom prst="parallelogram">
            <a:avLst>
              <a:gd name="adj" fmla="val 116654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" name="AutoShape 27"/>
          <p:cNvCxnSpPr>
            <a:stCxn id="62" idx="6"/>
          </p:cNvCxnSpPr>
          <p:nvPr/>
        </p:nvCxnSpPr>
        <p:spPr>
          <a:xfrm flipV="1">
            <a:off x="5791320" y="3809520"/>
            <a:ext cx="152640" cy="610560"/>
          </a:xfrm>
          <a:prstGeom prst="curvedConnector3">
            <a:avLst>
              <a:gd name="adj1" fmla="val 27659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5" name="AutoShape 28"/>
          <p:cNvCxnSpPr>
            <a:stCxn id="63" idx="0"/>
            <a:endCxn id="49" idx="2"/>
          </p:cNvCxnSpPr>
          <p:nvPr/>
        </p:nvCxnSpPr>
        <p:spPr>
          <a:xfrm flipH="1" flipV="1" rot="5400000">
            <a:off x="6162480" y="3952800"/>
            <a:ext cx="1067040" cy="628920"/>
          </a:xfrm>
          <a:prstGeom prst="curvedConnector3">
            <a:avLst>
              <a:gd name="adj1" fmla="val 24974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66" name="Text Box 29"/>
          <p:cNvSpPr/>
          <p:nvPr/>
        </p:nvSpPr>
        <p:spPr>
          <a:xfrm>
            <a:off x="6781680" y="54864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olu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AutoShape 30"/>
          <p:cNvSpPr/>
          <p:nvPr/>
        </p:nvSpPr>
        <p:spPr>
          <a:xfrm>
            <a:off x="6095880" y="5638680"/>
            <a:ext cx="533520" cy="304920"/>
          </a:xfrm>
          <a:prstGeom prst="rightArrow">
            <a:avLst>
              <a:gd name="adj1" fmla="val 50000"/>
              <a:gd name="adj2" fmla="val 43743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685800" y="189000"/>
            <a:ext cx="77724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Objetiv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4"/>
          <p:cNvSpPr/>
          <p:nvPr/>
        </p:nvSpPr>
        <p:spPr>
          <a:xfrm>
            <a:off x="685800" y="981000"/>
            <a:ext cx="7772400" cy="511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gene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esolver proble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specífi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scribir programas que resuelvan proble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(en lenguajes de programación Python y Matlab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e largo plazo (propósito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azonamientos algorítmico y lóg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apacidades de abstracción y modelamient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habilidad general para resolver proble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Contenid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1. Fundamentos de program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2. Programación orientada a obje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3. Listas y tablas de valo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4. Computación científ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5. Búsqueda y ordenamiento de inform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4"/>
          <p:cNvSpPr/>
          <p:nvPr/>
        </p:nvSpPr>
        <p:spPr>
          <a:xfrm>
            <a:off x="611280" y="189000"/>
            <a:ext cx="74898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Evalu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Rectangle 5"/>
          <p:cNvSpPr/>
          <p:nvPr/>
        </p:nvSpPr>
        <p:spPr>
          <a:xfrm>
            <a:off x="468360" y="836640"/>
            <a:ext cx="8424720" cy="52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NF (nota final): 70%NC+30%NT (NC,NT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4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NT (nota tareas): promedio 5 tareas (1 por ca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Si 3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NT&lt;4 y NC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 4, NF=I + tarea(s) extra(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NC (nota control): prom ponderado contro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971640" y="3309840"/>
          <a:ext cx="6985080" cy="2232000"/>
        </p:xfrm>
        <a:graphic>
          <a:graphicData uri="http://schemas.openxmlformats.org/drawingml/2006/table">
            <a:tbl>
              <a:tblPr/>
              <a:tblGrid>
                <a:gridCol w="1523880"/>
                <a:gridCol w="1932120"/>
                <a:gridCol w="1584360"/>
                <a:gridCol w="19447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ro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enid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ech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n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-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 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-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 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4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xam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-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 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4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Ejercici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5"/>
          <p:cNvSpPr/>
          <p:nvPr/>
        </p:nvSpPr>
        <p:spPr>
          <a:xfrm>
            <a:off x="468360" y="1981080"/>
            <a:ext cx="4103640" cy="468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e evalúan entre 1 y 4 (%=0,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33,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66,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10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se considera promedi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de los 20 mejores (de 27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si tiene menos de 20, NF=I + tarea(s) extra(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sirven para eximir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de examen de acuerdo a la siguiente tabl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4648320" y="1981080"/>
          <a:ext cx="3809880" cy="4556160"/>
        </p:xfrm>
        <a:graphic>
          <a:graphicData uri="http://schemas.openxmlformats.org/drawingml/2006/table">
            <a:tbl>
              <a:tblPr/>
              <a:tblGrid>
                <a:gridCol w="1904760"/>
                <a:gridCol w="1905120"/>
              </a:tblGrid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medio c1,c2,c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medi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jercici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ualquier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≥</a:t>
                      </a: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≥</a:t>
                      </a: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≥</a:t>
                      </a: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≥</a:t>
                      </a: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≥</a:t>
                      </a: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4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Bibliograf</a:t>
            </a: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í</a:t>
            </a: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5"/>
          <p:cNvSpPr/>
          <p:nvPr/>
        </p:nvSpPr>
        <p:spPr>
          <a:xfrm>
            <a:off x="324000" y="1981080"/>
            <a:ext cx="8640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puntes del cur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lase a clase (quedan disponibles en U-curs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ibros” complementarios (disponibles en Interne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Think Python”, Down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ython for Informatics”, Sever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troduction to Programming using Python”, Schuer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ython para todos”, Gonzalez Duqu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ython Tutorial” (+avanzado); Guido van Rossum (creador de Pyth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5T18:57:29Z</dcterms:created>
  <dc:creator>jalvarez</dc:creator>
  <dc:description/>
  <dc:language>en-US</dc:language>
  <cp:lastModifiedBy>jalvarez</cp:lastModifiedBy>
  <cp:lastPrinted>2006-03-02T13:33:10Z</cp:lastPrinted>
  <dcterms:modified xsi:type="dcterms:W3CDTF">2011-10-11T14:08:17Z</dcterms:modified>
  <cp:revision>41</cp:revision>
  <dc:subject/>
  <dc:title>Un curso intensivo de Introducción a la Programación Orientada a Objetos en Java  para estudiantes de secundaria </dc:title>
</cp:coreProperties>
</file>