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B220-2945-4BB3-B007-63204C94FC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E9AF-E479-4978-808A-13D7FE09D8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2775-A78B-4D64-B2A6-A951FCFAE3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 (J.Á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D5EE-D8C1-4E6B-8A2F-5F06CE5196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7CE-EFCD-4D4C-BD0A-B45C2B76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2A3-0831-4579-ADA5-35FCE67E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E69-AADE-4C1E-AEE4-8723542B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072-3BDD-4CDD-8FF0-A9840B8B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B50-7810-4176-9599-B16051BB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EC5-A8EC-4AC2-A5C8-E3F8EA0F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3D4-F6DA-4C1D-9F13-88297EEA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F8B-8094-48CC-8EEB-EB6D0454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C60-72F3-478B-8A21-B6458336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6CB-0EE5-4DEC-9539-954E00D7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313-CC19-481A-8C4A-E16C2C28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B1A-AD4C-44FB-9B57-54505CF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4570-AD77-40A4-B500-EC39E088A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AutoShape 27"/>
          <p:cNvCxnSpPr>
            <a:stCxn id="62" idx="6"/>
          </p:cNvCxnSpPr>
          <p:nvPr/>
        </p:nvCxnSpPr>
        <p:spPr>
          <a:xfrm flipV="1">
            <a:off x="5791320" y="3809520"/>
            <a:ext cx="152640" cy="610560"/>
          </a:xfrm>
          <a:prstGeom prst="curvedConnector3">
            <a:avLst>
              <a:gd name="adj1" fmla="val 276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AutoShape 28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800"/>
            <a:ext cx="1067040" cy="628920"/>
          </a:xfrm>
          <a:prstGeom prst="curvedConnector3">
            <a:avLst>
              <a:gd name="adj1" fmla="val 24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580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en lenguajes de programación Python y Matl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cientí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(s) extra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71640" y="3309840"/>
          <a:ext cx="6985080" cy="223200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c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iguien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ibliograf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lase a clase (quedan disponibles en U-cur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bros” complementarios (disponibles en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ink Python”, Dow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for Informatics”, Sev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roduction to Programming using Python”, Schu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para todos”, Gonzalez Du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ython Tutorial” (+avanzado); Guido van Rossum (creador de Pyth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11-10-11T14:08:17Z</dcterms:modified>
  <cp:revision>41</cp:revision>
  <dc:subject/>
  <dc:title>Un curso intensivo de Introducción a la Programación Orientada a Objetos en Java  para estudiantes de secundaria </dc:title>
</cp:coreProperties>
</file>