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176C-5453-4714-BA82-500FFF6B0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C30B-F31E-4271-A59C-041B15B92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D3B3-6F6F-4342-9DCF-BE2E7333F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F4BE-742E-433F-A1BA-5D6FAE0A4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0F55-766C-4684-BE29-5692095C2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62B9-5536-40BA-B805-7DC078406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EF6A-0932-471E-B6A4-1ED6ED339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7E4F-6BB7-4736-B43F-A6494E405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7365-B28A-4A8A-A1F1-915A3A8A5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C12D-4281-472E-A5A2-3719A156B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F16B-5F36-401B-BE93-1C7D5B7E5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0470-B0AD-4EDB-BB9A-16FD70E01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2C18-FB16-4172-B167-CD3260FD8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1E90-EB6F-4038-A04C-22AC69EE9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D688-96F2-4F5E-86DE-81BFC8322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0B90-9F75-4DAE-B6A5-318952C06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CA2F-F30A-4636-9D0C-42E72517D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6C47-C038-4BDA-A4CF-FBAA67775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4220-5D57-422F-A798-7E537EB4F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857D-46D2-4C60-A202-AEFF25748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1169-BFEF-4E9E-ADE6-0C1C3A1DD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F060-4B83-476D-A112-8B7F6321C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BE10-15BF-4D35-B576-EDF827F68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16E4-DD3B-4A5B-9CDD-DDE4A6CB0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B4027-EC34-473E-8971-A0200C973A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F15C4-33EC-4CF2-8399-4EF990627B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FB607-2B2F-4C2D-BC36-21E937A6EC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94A50-33E9-4B0E-A793-C35505C267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71637-408A-4D52-A144-F297652A19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39943-EB42-4AE3-8829-A15A8A7B93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7FD33-714A-4637-9E3D-0E6FD91221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C513F-5B05-4B8F-8E30-829BB452BB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F5917-D1AC-41DE-853A-52B2DE66BD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497ED-5EE0-4CFF-998D-D3D797AE7E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4FA26-AD31-402B-8D0B-E2A2E51DE7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9AE8E-7D20-4853-BBA5-D01C63A170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–</a:t>
            </a:r>
            <a:fld id="{34F25463-C729-4C59-874E-84664D19F93A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2692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2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Leadership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79720" y="1523880"/>
            <a:ext cx="4702320" cy="26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z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ultur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vailability of resourc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atterns of interaction among employe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29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32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338640" y="1523880"/>
            <a:ext cx="914400" cy="266724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2857"/>
                </a:lnTo>
                <a:cubicBezTo>
                  <a:pt x="10800" y="12857"/>
                  <a:pt x="5400" y="12857"/>
                  <a:pt x="0" y="12857"/>
                </a:cubicBezTo>
                <a:cubicBezTo>
                  <a:pt x="5400" y="12857"/>
                  <a:pt x="10800" y="12857"/>
                  <a:pt x="10800" y="12857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A5B8F-43FB-4790-9AFB-00BF7997EC7C}" type="slidenum">
              <a:t>10</a:t>
            </a:fld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79720" y="2057400"/>
            <a:ext cx="470232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olerance for ambiguit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mitment to the firm and its desired strategic outcom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terpersonal skill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spiration level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gree of self-confide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38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41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49360" y="3678120"/>
            <a:ext cx="2782800" cy="970200"/>
            <a:chOff x="549360" y="3678120"/>
            <a:chExt cx="2782800" cy="970200"/>
          </a:xfrm>
        </p:grpSpPr>
        <p:sp>
          <p:nvSpPr>
            <p:cNvPr id="144" name=""/>
            <p:cNvSpPr/>
            <p:nvPr/>
          </p:nvSpPr>
          <p:spPr>
            <a:xfrm>
              <a:off x="549360" y="367812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5040" y="375984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352680" y="1981080"/>
            <a:ext cx="900360" cy="2895840"/>
          </a:xfrm>
          <a:custGeom>
            <a:avLst/>
            <a:gdLst>
              <a:gd name="textAreaLeft" fmla="*/ 575280 w 900360"/>
              <a:gd name="textAreaRight" fmla="*/ 900720 w 9003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6228"/>
                </a:lnTo>
                <a:cubicBezTo>
                  <a:pt x="10800" y="16228"/>
                  <a:pt x="5400" y="16228"/>
                  <a:pt x="0" y="16228"/>
                </a:cubicBezTo>
                <a:cubicBezTo>
                  <a:pt x="5400" y="16228"/>
                  <a:pt x="10800" y="16228"/>
                  <a:pt x="10800" y="16228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026EC-397E-4419-B11E-EDF5554B0F2B}" type="slidenum">
              <a:t>11</a:t>
            </a:fld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85840" y="2437920"/>
            <a:ext cx="47242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degree of latitude for action when making strategic decisions, especially those concerned with effective implementation of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managers exercise discretion when determining appropriate strategic actions is critical to the firm’s succ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50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53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49360" y="3678120"/>
            <a:ext cx="2782800" cy="970200"/>
            <a:chOff x="549360" y="3678120"/>
            <a:chExt cx="2782800" cy="970200"/>
          </a:xfrm>
        </p:grpSpPr>
        <p:sp>
          <p:nvSpPr>
            <p:cNvPr id="156" name=""/>
            <p:cNvSpPr/>
            <p:nvPr/>
          </p:nvSpPr>
          <p:spPr>
            <a:xfrm>
              <a:off x="549360" y="367812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5040" y="375984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49360" y="5105520"/>
            <a:ext cx="2782800" cy="914400"/>
            <a:chOff x="549360" y="5105520"/>
            <a:chExt cx="2782800" cy="914400"/>
          </a:xfrm>
        </p:grpSpPr>
        <p:sp>
          <p:nvSpPr>
            <p:cNvPr id="159" name=""/>
            <p:cNvSpPr/>
            <p:nvPr/>
          </p:nvSpPr>
          <p:spPr>
            <a:xfrm>
              <a:off x="549360" y="5105520"/>
              <a:ext cx="2782800" cy="9144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5040" y="5182200"/>
              <a:ext cx="2609640" cy="75924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nager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iscre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941480" y="4809960"/>
            <a:ext cx="0" cy="26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371600"/>
            <a:ext cx="2971800" cy="3429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38640" y="2409840"/>
            <a:ext cx="914400" cy="353376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3533760"/>
              <a:gd name="textAreaBottom" fmla="*/ 3534120 h 353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9440"/>
                </a:lnTo>
                <a:cubicBezTo>
                  <a:pt x="10800" y="19440"/>
                  <a:pt x="5400" y="19440"/>
                  <a:pt x="0" y="19440"/>
                </a:cubicBezTo>
                <a:cubicBezTo>
                  <a:pt x="5400" y="19440"/>
                  <a:pt x="10800" y="19440"/>
                  <a:pt x="10800" y="1944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DFA59-6BE2-4CA7-82D6-5F2CB938ACFD}" type="slidenum">
              <a:t>12</a:t>
            </a:fld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op Management Tea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osed of the key managers who are responsible for selecting and implementing the firm’s strateg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heterogeneous top management team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s varied expertise and knowled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n draw on multiple perspectiv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ill evaluate alternativ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ilds consensu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699DC-8C69-4BC2-B838-913550FD343C}" type="slidenum">
              <a:t>13</a:t>
            </a:fld>
          </a:p>
        </p:txBody>
      </p:sp>
    </p:spTree>
  </p:cSld>
  <p:transition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rm Performance and Strategic Chan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eterogeneous top management team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difficulty functioning effectively as a tea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 effective management of the team to facilitate the process of decision making but …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associated positively with innovation and strategic chan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y force the team or members to “think outside of the box” and be more creati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greater capacity to provide effective strategic leadership in formul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A4B94-667F-4AAA-B87F-B638AC24A3AC}" type="slidenum">
              <a:t>14</a:t>
            </a:fld>
          </a:p>
        </p:txBody>
      </p:sp>
    </p:spTree>
  </p:cSld>
  <p:transition>
    <p:random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EO and Top Management Team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igher performance is achieved when board of directors are more directly involved in shaping strategic direc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powerful CEO ma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oint sympathetic outside board memb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inside board members who report to the CEO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significant control over the board’s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y also hold the position of chairman of the board (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EO duality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6FD10-DBD2-45C6-97FB-C767749E82DC}" type="slidenum">
              <a:t>15</a:t>
            </a:fld>
          </a:p>
        </p:txBody>
      </p:sp>
    </p:spTree>
  </p:cSld>
  <p:transition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EO and Top Management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uality often relates to poor performance and slow response to chang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Os of long tenure can also wield substantial pow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Os can gain so much power that they are virtually independent of oversight by the board of direc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most effective forms of governance share power and influence among the CEO and board of directo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B002E-4D79-4021-A5D5-AC7B043EFF00}" type="slidenum">
              <a:t>16</a:t>
            </a:fld>
          </a:p>
        </p:txBody>
      </p:sp>
    </p:spTree>
  </p:cSld>
  <p:transition>
    <p:random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Succe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s select managers and strategic leaders from two types of managerial labor market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l managerial labor marke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ment opportunities related to managerial positions within a fi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rnal managerial labor marke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er opportunities for managers in organizations other than the one for which they currently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BFE0D-6B59-4B9A-8A11-20B44F9D2F77}" type="slidenum">
              <a:t>17</a:t>
            </a:fld>
          </a:p>
        </p:txBody>
      </p:sp>
    </p:spTree>
  </p:cSld>
  <p:transition>
    <p:random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Labor Marke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dvantages of internal managerial labor market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rience with the firm and industry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miliarity with company products, markets, technologies, and operating procedur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ower turnover among existing personn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dvantages of the external managerial labor market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ong-tenured insiders may be “stale in the saddle”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o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tsiders may bring fresh perspectiv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3EC87-E054-4D5F-97F0-31947CA2AAF0}" type="slidenum">
              <a:t>18</a:t>
            </a:fld>
          </a:p>
        </p:txBody>
      </p:sp>
    </p:spTree>
  </p:cSld>
  <p:transition>
    <p:random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2.3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ffects of CEO Succession and Top Management Team Composition on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79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76440" y="1676520"/>
            <a:ext cx="779112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F7F70-00F1-4A17-BB68-9DB90F27DA0F}" type="slidenum">
              <a:t>19</a:t>
            </a:fld>
          </a:p>
        </p:txBody>
      </p:sp>
    </p:spTree>
  </p:cSld>
  <p:transition>
    <p:random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leadership and describe the importance of top-level manager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op management teams and explain their effects on firm performanc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managerial succession process using internal and external managerial labor marke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value of strategic leadership in determining the firm’s strategic directio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A0FF4-10E0-48B6-9C29-A75E27708821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51444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2.4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ercise of Effective Strategic Leadership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457200"/>
            <a:ext cx="8229600" cy="4572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8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76360" y="1324080"/>
            <a:ext cx="7991280" cy="439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4B8FB-7624-4F85-AD90-B2DA8D2BBFA4}" type="slidenum">
              <a:t>20</a:t>
            </a:fld>
          </a:p>
        </p:txBody>
      </p:sp>
    </p:spTree>
  </p:cSld>
  <p:transition>
    <p:random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Determining Strategic Direc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etermining strategic direction involves developing a long-term vision of the firm’s strategic inten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ve to ten years into the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hilosophy with goa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mage and character the firm seek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deal long-term vision has two part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ideolo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visioned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9D8BB-171A-40AA-8818-6FC6CC9BBC3C}" type="slidenum">
              <a:t>21</a:t>
            </a:fld>
          </a:p>
        </p:txBody>
      </p:sp>
    </p:spTree>
  </p:cSld>
  <p:transition>
    <p:random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ploiting and Maintaining 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e competenc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 and capabilities of a firm that serve as a source of competitive advantage over its riva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dership must verify that the firm’s competencies are emphasized in strategy implementation effor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must continuously develop or even change their core competencies to stay ahead of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3F3AE-C182-4075-ABAD-88E8F888FC9A}" type="slidenum">
              <a:t>22</a:t>
            </a:fld>
          </a:p>
        </p:txBody>
      </p:sp>
    </p:spTree>
  </p:cSld>
  <p:transition>
    <p:random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Developing Human Capital and Social Capita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uman capita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knowledge and skills of the firm’s entire workforce are a capital resource that requires investment in training and develop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ocial capita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lationships inside and outside the firm that help it accomplish tasks and create value for customers and sharehol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60714-B282-41F0-B691-DFE5A373A94D}" type="slidenum">
              <a:t>23</a:t>
            </a:fld>
          </a:p>
        </p:txBody>
      </p:sp>
    </p:spTree>
  </p:cSld>
  <p:transition>
    <p:random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ustaining an Effective Organizational Cul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 and core values shared through the firm, that influences the way business is conduct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ntrepreneurial Orient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sonal characteristics that encourage or discourage entrepreneurial opportun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nom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ac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ative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isk t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7D8B1-5FFF-4679-9DF7-4D6E6698F050}" type="slidenum">
              <a:t>24</a:t>
            </a:fld>
          </a:p>
        </p:txBody>
      </p:sp>
    </p:spTree>
  </p:cSld>
  <p:transition>
    <p:random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ustaining an Organizational Cul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hanging a firm’s organizational culture is more difficult than maintaining i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strategic leaders recognize when change in culture is need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haping and reinforcing culture requir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commun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blem solving skil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lection of the right peop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performance appraisa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ropriate reward system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FD427-A7E3-402E-93BE-9EFB5D13361A}" type="slidenum">
              <a:t>25</a:t>
            </a:fld>
          </a:p>
        </p:txBody>
      </p:sp>
    </p:spTree>
  </p:cSld>
  <p:transition>
    <p:random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ness of processes used to implement the firm’s strategies increases when based on ethical practi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thical practices create social capital and goodwill for the fir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AB2E2-7FCF-4B1D-8E4E-A5850E145ABB}" type="slidenum">
              <a:t>26</a:t>
            </a:fld>
          </a:p>
        </p:txBody>
      </p:sp>
    </p:spTree>
  </p:cSld>
  <p:transition>
    <p:random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tions that develop an ethical organizational culture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ing and communicating specific goals to describe the firm’s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tinuously revising and updating the code of condu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sseminating the code of conduct to all stakeholders to  inform them of the firm’s ethical standards and practi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EB29C-AF7F-4D4F-B599-57B1AF885EB9}" type="slidenum">
              <a:t>27</a:t>
            </a:fld>
          </a:p>
        </p:txBody>
      </p:sp>
    </p:spTree>
  </p:cSld>
  <p:transition>
    <p:random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tions that develop an ethical organizational culture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ing and implementing methods and procedures to use in achieving the firm’s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ing and using explicit reward systems that recognize acts of cour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ing a work environment in which all people are treated with dign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32C17-3FF9-4548-B9ED-E315F5263891}" type="slidenum">
              <a:t>28</a:t>
            </a:fld>
          </a:p>
        </p:txBody>
      </p:sp>
    </p:spTree>
  </p:cSld>
  <p:transition>
    <p:random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stablishing 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ntro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, information-based procedures used by managers to maintain or alter patterns in organizational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ntrols help strategic leaders to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ild credi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onstrate the value of strategies to the firm’s stakehol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mote and support strategic chan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0A0BE-C860-4FA0-B284-2DFA941D219E}" type="slidenum">
              <a:t>29</a:t>
            </a:fld>
          </a:p>
        </p:txBody>
      </p:sp>
    </p:spTree>
  </p:cSld>
  <p:transition>
    <p:random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importance of strategic leaders in managing the firm’s resources, with emphasis on exploiting and maintaining core competencies, human capital, and social capit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organizational culture and explain what must be done to sustain an effective cultur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at strategic leaders can do to establish and emphasize ethical practic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importance and use of organizational contro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578DA-D4DD-4BE2-A01E-1C6C5273C730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stablishing Balanced 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4400" indent="-28440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Balanced Scorecar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ramework used to verify that the firm has established both strategic and financial controls to assess its performa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events overemphasis of financial controls at the expense of strategic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4400" indent="-28440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 perspectives of the balanced scorecar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nancial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l business proces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rning and growth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8875D-436A-478A-878D-33049C739060}" type="slidenum">
              <a:t>30</a:t>
            </a:fld>
          </a:p>
        </p:txBody>
      </p:sp>
    </p:spTree>
  </p:cSld>
  <p:transition>
    <p:random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0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5867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5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ic Controls and Financial Controls in a Balanced Scorecard Frame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2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785960" y="1295280"/>
            <a:ext cx="6062760" cy="510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ADD3D-2EEA-4E60-A80A-EB64B205C16F}" type="slidenum">
              <a:t>31</a:t>
            </a:fld>
          </a:p>
        </p:txBody>
      </p:sp>
    </p:spTree>
  </p:cSld>
  <p:transition>
    <p:random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4600" y="457200"/>
            <a:ext cx="2527200" cy="1457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221004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1</a:t>
            </a:r>
            <a:r>
              <a:rPr b="1" i="1" lang="en-US" sz="12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ic Leadership and the Strategic Management Proces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427560" y="380880"/>
            <a:ext cx="3735360" cy="617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2ED30-6A17-4A77-82AF-025942F74AD1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hip and Styl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leadership requires the ability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ticipate and en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intain flexibil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mpower others to create strategic change as necessa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leadership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lti-functional work that involves working through oth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deration of the entire enterprise rather than just a sub-un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managerial frame of refere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2575E-1E60-4F4F-A7F6-DA9D694A1869}" type="slidenum">
              <a:t>5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hip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trategic leader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 the firm’s operations effective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stain a high performance over tim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 better decisions than their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 candid, courageous, pragmatic decis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nderstand how their decisions affect the internal systems in use by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olicit feedback from peers, superiors and employees about their decisions and vis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895B7-8BD5-41E6-B822-E3928F5FB519}" type="slidenum">
              <a:t>6</a:t>
            </a:fld>
          </a:p>
        </p:txBody>
      </p:sp>
    </p:spTree>
  </p:cSld>
  <p:transition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s as an Organizational Resour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s often use their discretion when making strategic decisions and implementing strateg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actors affecting the amount of decision-making discretion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rnal environmental 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racteristics of the organiz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racteristics of the manag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7F3F2-8009-4679-BF3E-2433F51BEB91}" type="slidenum">
              <a:t>7</a:t>
            </a:fld>
          </a:p>
        </p:txBody>
      </p:sp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4600" y="457200"/>
            <a:ext cx="2527200" cy="1219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22100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2</a:t>
            </a:r>
            <a:r>
              <a:rPr b="1" i="1" lang="en-US" sz="12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tors Affecting Managerial Discretio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429000" y="495360"/>
            <a:ext cx="4643280" cy="5867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7200" y="6032520"/>
            <a:ext cx="3352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apted from S. Finkelstein &amp; D. C. Hambrick, 1996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ic Leadership: Top Executives and Their Effects on Organizations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. Paul, MN: West Publishing Compan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D4DCE-B2FD-4675-9ACF-61C37187BC30}" type="slidenum">
              <a:t>8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79720" y="1598760"/>
            <a:ext cx="470232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dustry structur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ate of market growth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umber and type of competitor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ature and degree of political/legal constrai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gree to which products can be differentiat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23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352680" y="1523880"/>
            <a:ext cx="914400" cy="342900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276"/>
                </a:lnTo>
                <a:cubicBezTo>
                  <a:pt x="10800" y="3276"/>
                  <a:pt x="5400" y="3276"/>
                  <a:pt x="0" y="3276"/>
                </a:cubicBezTo>
                <a:cubicBezTo>
                  <a:pt x="5400" y="3276"/>
                  <a:pt x="10800" y="3276"/>
                  <a:pt x="10800" y="3276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54F5D-2587-4C41-A700-213A63C2F062}" type="slidenum">
              <a:t>9</a:t>
            </a:fld>
          </a:p>
        </p:txBody>
      </p:sp>
    </p:spTree>
  </p:cSld>
  <p:transition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9:33Z</dcterms:modified>
  <cp:revision>47</cp:revision>
  <dc:subject>Chapter 12</dc:subject>
  <dc:title>Strategic Management 7e.</dc:title>
</cp:coreProperties>
</file>