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482F-91AC-4A23-8A06-4F58FD1C9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863A-0FD3-4867-AD54-5DAADB510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A6A7-56B3-47FF-9A5D-5AB074C03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4A85-42EC-48A0-9B7A-3A6C122CB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B2DE-F21A-46C8-9DC2-E5DF5DEFF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69FD-0910-4FAB-A1D0-5991AAB7C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3614-018D-412C-88A7-2460FCD17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2050-E94F-471B-92D9-56213B532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7873-AD5C-4C76-9A8E-2424ADF3F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F904-765C-4175-AEE2-40A5B1919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608C-3653-4013-B346-014DE2EAC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065F-E0B7-4FDE-A553-30FE570AB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CF7C-84DF-4F86-8D28-C4D91620E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16A0-6D49-4C91-B711-79F3760BA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7435-6A4D-44AC-A7FA-0DEBF1F1B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96BC-6955-4B51-97AE-DD9B3A51B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DA88-33C6-4B0D-A2F6-D836ADAD3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0CD2-F4B6-4208-A2EC-9664FD6D2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F3EE-E6D9-4FB7-8D0A-F2A6D329D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00C4-CD1D-4F66-8A6B-5FAA811D3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41E4-FD89-429E-A2AE-3BD24282E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403F-6E07-4651-950A-7EC094423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A912-3E8B-435A-9858-6454338EB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D195-EAAC-4FAA-8B21-669C6F2B8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BF8EE-93A0-4CAD-B34B-0A6085897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6D587-10A8-49B1-A701-40EEB0DC5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25BD5-48E1-4183-946F-9F378819D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A5A01-5F35-44AD-8ADA-322489122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2FBFB-40E8-4580-873F-43B45B4CA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29DA9-4CDE-458E-8CEE-4D9781F7C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EACC5-7663-4506-9E9A-2D6F86BC1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5BFA2-0B4D-455E-9D8F-59ECBA01D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EA53-8E9E-497A-A2A0-8BBAECF45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4650F-5F37-485F-B50D-AC9DCE088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48825-DBA6-421C-972A-6441DF96C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BEF69-D636-4E4C-B255-6BD3EB6F5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–</a:t>
            </a:r>
            <a:fld id="{69EF666B-1116-43B3-93AA-EFCA9D1F5C6C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692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2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Leadership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79720" y="1523880"/>
            <a:ext cx="470232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vailability of resourc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atterns of interaction among employe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9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32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338640" y="1523880"/>
            <a:ext cx="914400" cy="266724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7"/>
                </a:lnTo>
                <a:cubicBezTo>
                  <a:pt x="10800" y="12857"/>
                  <a:pt x="5400" y="12857"/>
                  <a:pt x="0" y="12857"/>
                </a:cubicBezTo>
                <a:cubicBezTo>
                  <a:pt x="5400" y="12857"/>
                  <a:pt x="10800" y="12857"/>
                  <a:pt x="10800" y="1285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8F921-E404-4A00-8E2A-5B04DA5F50D8}" type="slidenum">
              <a:t>10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79720" y="2057400"/>
            <a:ext cx="47023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olerance for ambiguit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itment to the firm and its desired strategic outcom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terpersonal skil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piration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of self-confid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38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41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44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352680" y="1981080"/>
            <a:ext cx="900360" cy="2895840"/>
          </a:xfrm>
          <a:custGeom>
            <a:avLst/>
            <a:gdLst>
              <a:gd name="textAreaLeft" fmla="*/ 575280 w 900360"/>
              <a:gd name="textAreaRight" fmla="*/ 900720 w 9003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228"/>
                </a:lnTo>
                <a:cubicBezTo>
                  <a:pt x="10800" y="16228"/>
                  <a:pt x="5400" y="16228"/>
                  <a:pt x="0" y="16228"/>
                </a:cubicBezTo>
                <a:cubicBezTo>
                  <a:pt x="5400" y="16228"/>
                  <a:pt x="10800" y="16228"/>
                  <a:pt x="10800" y="1622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B8D91-DA03-442E-9581-BA12381BC297}" type="slidenum">
              <a:t>1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85840" y="243792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degree of latitude for action when making strategic decisions, especially those concerned with effective implementation of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managers exercise discretion when determining appropriate strategic actions is critical to the firm’s suc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50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53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56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49360" y="5105520"/>
            <a:ext cx="2782800" cy="914400"/>
            <a:chOff x="549360" y="5105520"/>
            <a:chExt cx="2782800" cy="914400"/>
          </a:xfrm>
        </p:grpSpPr>
        <p:sp>
          <p:nvSpPr>
            <p:cNvPr id="159" name=""/>
            <p:cNvSpPr/>
            <p:nvPr/>
          </p:nvSpPr>
          <p:spPr>
            <a:xfrm>
              <a:off x="549360" y="5105520"/>
              <a:ext cx="2782800" cy="914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040" y="5182200"/>
              <a:ext cx="2609640" cy="7592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cre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41480" y="480996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371600"/>
            <a:ext cx="2971800" cy="342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38640" y="2409840"/>
            <a:ext cx="914400" cy="3533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533760"/>
              <a:gd name="textAreaBottom" fmla="*/ 3534120 h 35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9440"/>
                </a:lnTo>
                <a:cubicBezTo>
                  <a:pt x="10800" y="19440"/>
                  <a:pt x="5400" y="19440"/>
                  <a:pt x="0" y="19440"/>
                </a:cubicBezTo>
                <a:cubicBezTo>
                  <a:pt x="5400" y="19440"/>
                  <a:pt x="10800" y="19440"/>
                  <a:pt x="10800" y="1944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3366D-E232-4509-BE16-E4770A2F789E}" type="slidenum">
              <a:t>12</a:t>
            </a:fld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op Management Tea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osed of the key managers who are responsible for selecting and implementing the firm’s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heterogeneous top management team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s varied expertise and knowled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draw on multiple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ill evaluate altern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s consensu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5E160-ABF0-4C92-AA74-3546B7940AFC}" type="slidenum">
              <a:t>13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rm Performance and Strategic Chan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terogeneous top management team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difficulty functioning effectively as a tea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effective management of the team to facilitate the process of decision making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associated positively with innovation and strategic chan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force the team or members to “think outside of the box” and be more crea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greater capacity to provide effective strategic leadership in formul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F224A-3F24-4255-B15D-9D8EB06E785F}" type="slidenum">
              <a:t>14</a:t>
            </a:fld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Team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igher performance is achieved when board of directors are more directly involved in shaping strategic dire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owerful CEO ma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oint sympathetic outside board memb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inside board members who report to the CEO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significant control over the board’s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also hold the position of chairman of the board 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EO dualit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D9FF-AFE6-4C4F-8762-F6C3AA359A1C}" type="slidenum">
              <a:t>15</a:t>
            </a:fld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uality often relates to poor performance and slow response to chan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of long tenure can also wield substantial p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can gain so much power that they are virtually independent of oversight by the board of direc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most effective forms of governance share power and influence among the CEO and board of directo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ACB1C-7CBB-478E-BC0D-3EB4E2F89294}" type="slidenum">
              <a:t>16</a:t>
            </a:fld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Succe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s select managers and strategic leaders from two types of managerial labor marke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ment opportunities related to managerial positions within a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opportunities for managers in organizations other than the one for which they currentl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57693-84B7-4551-BAB6-AD7392B7FEE4}" type="slidenum">
              <a:t>17</a:t>
            </a:fld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Labor Marke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in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rience with the firm and industry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miliarity with company products, markets, technologies, and operating proced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wer turnover among existing personn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the ex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ng-tenured insiders may be “stale in the saddle”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o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tsiders may bring fresh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C9B17-C222-4583-B786-4A22523F9CF5}" type="slidenum">
              <a:t>18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s of CEO Succession and Top Management Team Composition on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7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6440" y="1676520"/>
            <a:ext cx="779112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EC37B-E84D-4007-8E69-A339FC42555D}" type="slidenum">
              <a:t>19</a:t>
            </a:fld>
          </a:p>
        </p:txBody>
      </p:sp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leadership and describe the importance of top-level manag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op management teams and explain their effects on firm performanc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nagerial succession process using internal and external managerial labor marke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value of strategic leadership in determining the firm’s strategic direc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332C4-47EE-47C4-95B3-2C6A007383EF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1444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 of Effective Strategic Leadership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57200"/>
            <a:ext cx="8229600" cy="4572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6360" y="1324080"/>
            <a:ext cx="79912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15273-4C6C-4F65-A7AA-BD063946B4FD}" type="slidenum">
              <a:t>20</a:t>
            </a:fld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Determining Strategic Direc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termining strategic direction involves developing a long-term vision of the firm’s strategic int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ve to ten years into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hilosophy with go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mage and character the firm seek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deal long-term vision has two par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ideolo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visioned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E3EAE-7E74-4B8E-9E3B-14161B8FBEBC}" type="slidenum">
              <a:t>21</a:t>
            </a:fld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ploiting and Maintaining 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e competenc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 and capabilities of a firm that serve as a source of competitive advantage over its riva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dership must verify that the firm’s competencies are emphasized in strategy implementation effor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must continuously develop or even change their core competencies to stay ahead of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EBB44-2755-4197-BC55-064A3A37C9FE}" type="slidenum">
              <a:t>22</a:t>
            </a:fld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Developing Human Capital and Social Capita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uman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knowledge and skills of the firm’s entire workforce are a capital resource that requires investment in training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cial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onships inside and outside the firm that help it accomplish tasks and create value for customers and sharehol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88FCD-2F5D-4637-8E19-F78882F91DE4}" type="slidenum">
              <a:t>23</a:t>
            </a:fld>
          </a:p>
        </p:txBody>
      </p: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Effective Organizational Cul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 and core values shared through the firm, that influences the way business is conduc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trepreneurial Ori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characteristics that encourage or discourage entrepreneurial opportun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a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sk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BD587-10FB-423E-93BF-F4935E850B93}" type="slidenum">
              <a:t>24</a:t>
            </a:fld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Organizational Cul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anging a firm’s organizational culture is more difficult than maintaining i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strategic leaders recognize when change in culture is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ping and reinforcing culture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commun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blem solving skil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ection of the right peop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performance apprais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ropriate reward syste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22857-6691-4789-9BEE-D9C5C3700D19}" type="slidenum">
              <a:t>25</a:t>
            </a:fld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ness of processes used to implement the firm’s strategies increases when based on ethical practi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thical practices create social capital and goodwill for the fi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A9646-2027-47B0-B37B-BC602CF98A57}" type="slidenum">
              <a:t>26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and communicating specific goals to describe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inuously revising and updating the code of con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seminating the code of conduct to all stakeholders to  inform them of the firm’s ethical standards and pract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4C5E5-487C-41F3-8B91-37B966B1B3A7}" type="slidenum">
              <a:t>27</a:t>
            </a:fld>
          </a:p>
        </p:txBody>
      </p:sp>
    </p:spTree>
  </p:cSld>
  <p:transition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ing and implementing methods and procedures to use in achieving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nd using explicit reward systems that recognize acts of cour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 work environment in which all people are treated with dign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2EFC8-EF8A-4D9A-A059-0407053F8EAE}" type="slidenum">
              <a:t>28</a:t>
            </a:fld>
          </a:p>
        </p:txBody>
      </p:sp>
    </p:spTree>
  </p:cSld>
  <p:transition>
    <p:random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, information-based procedures used by managers to maintain or alter patterns in organizationa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 help strategic leaders to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 cred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nstrate the value of strategies to the firm’s stakehol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mote and support strategic chan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7D61C-420B-4AD5-AD1D-D16BA7DD0B90}" type="slidenum">
              <a:t>29</a:t>
            </a:fld>
          </a:p>
        </p:txBody>
      </p:sp>
    </p:spTree>
  </p:cSld>
  <p:transition>
    <p:random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strategic leaders in managing the firm’s resources, with emphasis on exploiting and maintaining core competencies, human capital, and social capit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culture and explain what must be done to sustain an effective cul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strategic leaders can do to establish and emphasize ethical practi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mportance and use of organization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1DA79-DB0C-4D5A-8822-AB777FDC0141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Balanced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ramework used to verify that the firm has established both strategic and financial controls to assess its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events overemphasis of financial controls at the expense of 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 perspectives of 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business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ing and grow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A75BB-86E3-49C9-BDE2-1A2AF2DFADE5}" type="slidenum">
              <a:t>30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58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Controls and Financial Controls in a Balanced Scorecard Frame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85960" y="1295280"/>
            <a:ext cx="6062760" cy="51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0DE03-1649-4ADD-96BB-0D83473808FD}" type="slidenum">
              <a:t>31</a:t>
            </a:fld>
          </a:p>
        </p:txBody>
      </p:sp>
    </p:spTree>
  </p:cSld>
  <p:transition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45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22100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1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Leadership and the Strategic Management Proces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7560" y="380880"/>
            <a:ext cx="3735360" cy="617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6735C-314D-4036-B1D9-7CB909C8AB7E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and Styl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requires the ability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cipate and en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flexibil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ower others to create strategic change as necessa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-functional work that involves working through oth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deration of the entire enterprise rather than just a sub-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managerial frame of refer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CF2AB-4B7A-4F87-875B-57BE79F9BF08}" type="slidenum">
              <a:t>5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ategic leader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 the firm’s operations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stain a high performance over tim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better decisions than their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candid, courageous, pragmatic dec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nderstand how their decisions affect the internal systems in use by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licit feedback from peers, superiors and employees about their decisions and v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D933C-3106-4E90-A356-C000A1371ACB}" type="slidenum">
              <a:t>6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s as an Organizational Resour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s often use their discretion when making strategic decisions and implementing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affecting the amount of decision-making discretion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environmental 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organiz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manag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EED56-5DD8-46A5-98DF-C9A8676F892D}" type="slidenum">
              <a:t>7</a:t>
            </a:fld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22100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2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s Affecting Managerial Discre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29000" y="495360"/>
            <a:ext cx="4643280" cy="586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032520"/>
            <a:ext cx="335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S. Finkelstein &amp; D. C. Hambrick, 1996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Leadership: Top Executives and Their Effects on Organizati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. Paul, MN: West Publishing Compa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8C595-6586-4088-B1C2-16373EF4E0C9}" type="slidenum">
              <a:t>8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79720" y="1598760"/>
            <a:ext cx="470232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ustry struc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ate of market growt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umber and type of competi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ture and degree of political/legal constrai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to which products can be differentiat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3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352680" y="1523880"/>
            <a:ext cx="914400" cy="342900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76"/>
                </a:lnTo>
                <a:cubicBezTo>
                  <a:pt x="10800" y="3276"/>
                  <a:pt x="5400" y="3276"/>
                  <a:pt x="0" y="3276"/>
                </a:cubicBezTo>
                <a:cubicBezTo>
                  <a:pt x="5400" y="3276"/>
                  <a:pt x="10800" y="3276"/>
                  <a:pt x="10800" y="327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84B76-A1D3-43B3-B356-1A8571523FDA}" type="slidenum">
              <a:t>9</a:t>
            </a:fld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33Z</dcterms:modified>
  <cp:revision>47</cp:revision>
  <dc:subject>Chapter 12</dc:subject>
  <dc:title>Strategic Management 7e.</dc:title>
</cp:coreProperties>
</file>