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CEBA-4774-482C-B402-7A04B1C0D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B15B-14D8-4E03-8C76-345FF2E02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158E-B5A6-4E30-B5CA-B8904BEC6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0790-3E59-4037-BAB4-273A9BC06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8F37-CE43-463F-A031-9A153BD44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6707-95B6-4879-A2E9-B4832A9D5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F270-9982-441B-BBD8-F5672B71B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5000-4BFE-4F35-A0B1-5B4705114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08DE-A3A5-4550-BA20-7B5E9BEE1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7560-D10E-4DA6-891C-2874CA11C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8569-005B-4B31-8022-F4EED3D4E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DB1C-F7F6-4815-8A3F-F72F803D2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D0C9-8967-4BE1-A647-2A6BABC3A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842B-61CE-43B4-A687-4D7205D80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77C7-BD80-4255-A1ED-BD2129A19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A316-7BE3-4B2E-B3FE-0361B29CE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ABC7-279B-4C32-ACCC-DFF258E9C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A325-09EC-405C-96DA-C51A49D48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2B07-B523-4544-B337-8629A9D1C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9A9E-6FD9-4BC4-811F-AC8F3CB21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164D-C3BA-4DFF-9FBF-502406B4D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6108-11E3-4968-A7CA-33805901F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8F98-BFF7-4D70-8ED4-19B3ACA2F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6D2C-BD20-4761-AD71-680ECD7C7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1E9D-66B7-458F-8877-739382577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B4F1-885C-40A5-884A-15920E60F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C419-9708-475B-BE77-57A973E6C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DD83-A29E-44DA-88BF-627BF4D86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DDE1-2910-45F2-BEC3-80AB39184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6FAB-A51D-4FE8-9E2F-D937329EA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21D8-F50F-478F-9A93-7348F4844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1A32-24C8-4426-93D5-989DE3CD2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7BF1-2D22-499A-990A-C339AA1AF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7E1D-B2D2-4BAE-B0BD-E5C7751D5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E9BB-FA49-496A-9A8A-E2A5A614B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7744-5658-4C67-BBE4-980192CB6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6EAF-5E58-4EBF-AD2C-7723CBE94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8FAD-D7DB-4660-90E3-C569FB782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0FF3-D9F8-4E9D-9A12-6678583EA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45A8-BD80-49BA-95B8-8571E5C2E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4A7D-6DCF-4CB2-961F-5C9103B3D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7CAA-BDBF-4B36-9C22-05A76835B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AE819-6826-4A2C-8C4A-6EFACC4B51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D3DDC-DBBF-4711-956E-5731D15801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C4C44-371A-4136-A052-679607797E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BE7AA-4A68-4E3E-9EE6-3C3918D90B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EE308-46C5-4DEE-BDF7-5BC333B5C7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6F73C-B3A2-4E64-8497-B0D33D8EF0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EA174-1B3B-46BA-9380-9ACB2EDD9C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F56EC-3442-4EDA-846B-A3C0EAFCF3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B5B04-2E24-4B06-BFC2-A605C1239B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34D98-353C-47A9-9C11-62B26656BA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0559D-55B2-4A84-971C-A643A169AB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D59AF-44D4-4FBA-8440-2CEFCA591A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–</a:t>
            </a:r>
            <a:fld id="{8D1536D5-3697-42D8-B14E-E012CF4F41EB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8120"/>
            <a:ext cx="24382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085480"/>
            <a:ext cx="556272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11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Organizational Structure and Controls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ionships between Strategy and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y and structure have a reciprocal relationship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ucture flows from or follows the selection of the firm’s strategy but …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nce in place, structure can influence current strategic actions as well as choices about futur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CA576-1E3A-4D39-8BF6-7198FE238351}" type="slidenum">
              <a:t>10</a:t>
            </a:fld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 flipV="1">
            <a:off x="534960" y="1030680"/>
            <a:ext cx="8074080" cy="1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volutionary Patterns of Structure and Organiza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grow in predictable pattern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st by volum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n by geograph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n integration (vertical, horizontal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d finally through product/business 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’s growth patterns determine its structural for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69668-50E2-4015-8026-9CCC0E7AFB4D}" type="slidenum">
              <a:t>11</a:t>
            </a:fld>
          </a:p>
        </p:txBody>
      </p:sp>
    </p:spTree>
  </p:cSld>
  <p:transition>
    <p:random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volutionary Patterns of Structure and Organizat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ll organizations require some form of organizational structure to implement and manage their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frequently alter their structure as they grow in size and complexit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basic structure typ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imple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unctional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ultidivisional structure (M-form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C2015-8457-4A64-AD4D-0CCFA6F367E1}" type="slidenum">
              <a:t>12</a:t>
            </a:fld>
          </a:p>
        </p:txBody>
      </p:sp>
    </p:spTree>
  </p:cSld>
  <p:transition>
    <p:random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2133720" cy="253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 Growth Patter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1841400"/>
            <a:ext cx="3657600" cy="7225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ales Growth</a:t>
            </a:r>
            <a:br>
              <a:rPr sz="1600"/>
            </a:b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Coordination and Contro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131112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ient implementation of formulated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68580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impl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309888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172f00"/>
              </a:gs>
              <a:gs pos="100000">
                <a:srgbClr val="33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Function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17920" y="4235400"/>
            <a:ext cx="3632040" cy="7225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ales Growth</a:t>
            </a:r>
            <a:br>
              <a:rPr sz="1600"/>
            </a:b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Coordination and Contro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05320" y="548640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5e1700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Multidivision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1295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4120" y="256536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4120" y="370836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34120" y="49528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3720960"/>
            <a:ext cx="236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ient implementation of formulated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1C96E-3993-4697-A15E-477A98A13F4E}" type="slidenum">
              <a:t>13</a:t>
            </a:fld>
          </a:p>
        </p:txBody>
      </p:sp>
    </p:spTree>
  </p:cSld>
  <p:transition>
    <p:random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500"/>
                            </p:stCondLst>
                            <p:childTnLst>
                              <p:par>
                                <p:cTn id="3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45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50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6500"/>
                            </p:stCondLst>
                            <p:childTnLst>
                              <p:par>
                                <p:cTn id="3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7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85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95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44600" y="458640"/>
            <a:ext cx="2155680" cy="13813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175284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ategy and Structure Growth Patter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019400" y="304920"/>
            <a:ext cx="2305080" cy="61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DBE90-730E-48F6-B511-9E2403D87E4C}" type="slidenum">
              <a:t>14</a:t>
            </a:fld>
          </a:p>
        </p:txBody>
      </p:sp>
    </p:spTree>
  </p:cSld>
  <p:transition>
    <p:random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Simple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-manager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kes all major decisions direct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nitors all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aff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rves as an extension of the manager’s supervisor authorit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tched with focus strategies and business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ly complete by offering a single product line in a single geographic marke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A8A15-FADF-45DB-BAA5-7D8CAEEE2A4E}" type="slidenum">
              <a:t>15</a:t>
            </a:fld>
          </a:p>
        </p:txBody>
      </p:sp>
    </p:spTree>
  </p:cSld>
  <p:transition>
    <p:random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imple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rowth creat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lex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ial and structural challen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-manage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ly lack organizational skills and experie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come ineffective in managing the specialized and complex tasks involved with multiple organizational fun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69462-FB25-4AD2-A9C1-2E51477E0FE2}" type="slidenum">
              <a:t>16</a:t>
            </a:fld>
          </a:p>
        </p:txBody>
      </p:sp>
    </p:spTree>
  </p:cSld>
  <p:transition>
    <p:random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Func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hief Executive Officer (CEO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imited corporate staff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unctional line managers in dominant organizational areas of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gineer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count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&amp;D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upports use of business-level strategies and some corporate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ingle or dominant business with low levels of 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B8D29-7F9C-4A7D-A747-1C964A0F15F8}" type="slidenum">
              <a:t>17</a:t>
            </a:fld>
          </a:p>
        </p:txBody>
      </p:sp>
    </p:spTree>
  </p:cSld>
  <p:transition>
    <p:random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unct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ces in orientation among organizational functions ca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ede communication and coordin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 the need for CEO to integrate decisions and actions of business fun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 career paths and professional development in specialized functional area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use functional-area managers to focus on local versus overall company strategic issu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8D748-166C-49F5-9291-600B1BF1E15C}" type="slidenum">
              <a:t>18</a:t>
            </a:fld>
          </a:p>
        </p:txBody>
      </p:sp>
    </p:spTree>
  </p:cSld>
  <p:transition>
    <p:random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Multi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ontro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perating divisions function as separate businesses or profit cent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op corporate officer delegates responsibilities to division manage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day-to-day opera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business-unit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ppropriate as firm grows through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C183F-DEDA-46D5-AF44-463879D9C40D}" type="slidenum">
              <a:t>19</a:t>
            </a:fld>
          </a:p>
        </p:txBody>
      </p:sp>
    </p:spTree>
  </p:cSld>
  <p:transition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organizational structure and controls and discuss the difference between strategic and financial contro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relationship between strategy and structur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functional structures used to implement business-level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use of three versions of the multidivisional (M-form) structure to implement different diversification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0E81D-B7F7-404F-8189-EEBB93DB24BD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Major Benefi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officers are able to more accurately monitor the performance of each business, which simplifies the problem of contro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s comparisons between divisions, which improves the resource allocation proc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imulates managers of poorly performing divisions to look for ways of improving performa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6A6D3-7D77-442C-8783-7387FD14999F}" type="slidenum">
              <a:t>20</a:t>
            </a:fld>
          </a:p>
        </p:txBody>
      </p:sp>
    </p:spTree>
  </p:cSld>
  <p:transition>
    <p:random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ing Strategy and Func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 forms of the functional organizational structure are matched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 leadership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tiation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grated cost leadership/differentiation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ces in these forms are seen in three important structural characteristic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alization (number and types of job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entralization (decision-making authority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ation (formal rules and work procedure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6FE70-B102-40F7-BF5B-9B879A5BC5F3}" type="slidenum">
              <a:t>21</a:t>
            </a:fld>
          </a:p>
        </p:txBody>
      </p:sp>
    </p:spTree>
  </p:cSld>
  <p:transition>
    <p:random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6324840" cy="91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1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al Structure for Implementation of a Cost Leadership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83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33520" y="1539720"/>
            <a:ext cx="8172360" cy="4023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400800" y="1523880"/>
            <a:ext cx="2590920" cy="17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>
              <a:spcBef>
                <a:spcPts val="249"/>
              </a:spcBef>
              <a:tabLst>
                <a:tab algn="l" pos="0"/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perations is the main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s engineering is emphasized rather than new product R&amp;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latively large centralized staff coordinates fun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malized procedures allow for emergence of a low-cost cul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verall structure is mechanical; job roles are highly struct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A9145-0752-41AD-8CEF-BA2313A273C9}" type="slidenum">
              <a:t>22</a:t>
            </a:fld>
          </a:p>
        </p:txBody>
      </p:sp>
    </p:spTree>
  </p:cSld>
  <p:transition>
    <p:random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5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 Cost Leadership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erations is the main func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cess engineering is emphasized over research and develop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rge centralized staff oversees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ed procedures guide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ucture is mechanic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Job roles are highly structur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8832A-80FB-4652-9853-9120D3802614}" type="slidenum">
              <a:t>23</a:t>
            </a:fld>
          </a:p>
        </p:txBody>
      </p:sp>
    </p:spTree>
  </p:cSld>
  <p:transition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350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50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504360"/>
            <a:ext cx="6782040" cy="1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1.3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 Structure for Implementation of a Differentiation Strategy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93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00120" y="1566720"/>
            <a:ext cx="8010360" cy="37245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57200" y="5470560"/>
            <a:ext cx="8001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Marketing is the main function for keeping track of new product idea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New product R&amp;D is emphas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st functions are decentralized, but R&amp;D and marketing may have centralized staffs that work closely with each o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malization is limited so that new product ideas can emerge easily and change is more readily accompl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verall structure is organic; job roles are less struct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253AA-45E0-4906-B2CE-0B4C1B82014F}" type="slidenum">
              <a:t>24</a:t>
            </a:fld>
          </a:p>
        </p:txBody>
      </p:sp>
    </p:spTree>
  </p:cSld>
  <p:transition>
    <p:random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a Differentiation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ing is the main function for tracking new product idea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 product R&amp;D is emphas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st functions are decentral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ation is limited to foster change and promote new idea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verall structure is organic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Job roles are less structur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6863D-910E-4BBA-8355-4681DFDC1195}" type="slidenum">
              <a:t>25</a:t>
            </a:fld>
          </a:p>
        </p:txBody>
      </p:sp>
    </p:spTree>
  </p:cSld>
  <p:transition>
    <p:random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the Integrated Cost Leadership/ Differentiation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lling products that create customer value due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ir relatively low product cost through an emphasis on production and process engineering, with infrequent product chang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asonable sources of differentiation based on new-product R&amp;D are emphasized while production and process engineering are no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d frequently in global econom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F8E3C-66BD-4E03-A3D1-3D5AC79BE355}" type="slidenum">
              <a:t>26</a:t>
            </a:fld>
          </a:p>
        </p:txBody>
      </p:sp>
    </p:spTree>
  </p:cSld>
  <p:transition>
    <p:random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an Integrated Cost Leadership/Differentiation Strateg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integrated form of the functional structure must have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cision-making patterns that are partially centralized and partially decentral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mi-specialized job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ules and procedures that allow both formal and informal job behavi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5CD0F-5EE0-4B32-ABFC-679F171F9F11}" type="slidenum">
              <a:t>27</a:t>
            </a:fld>
          </a:p>
        </p:txBody>
      </p:sp>
    </p:spTree>
  </p:cSld>
  <p:transition>
    <p:random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ies and the Multi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’s continuing success that leads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diversification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 diversification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oth product and market diversific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creasing diversification creates control problems that the functional structure can’t handl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formation processing, coordin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24E00-767D-469E-A31B-4714F69F166E}" type="slidenum">
              <a:t>28</a:t>
            </a:fld>
          </a:p>
        </p:txBody>
      </p:sp>
    </p:spTree>
  </p:cSld>
  <p:transition>
    <p:random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0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ies and the Multidivis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strategy requires firm to change from functional structure to a multidivisional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 levels of diversification create the need for implementation of a unique form of the multidivisional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B0145-7874-4550-8341-C02AEBB71DD4}" type="slidenum">
              <a:t>29</a:t>
            </a:fld>
          </a:p>
        </p:txBody>
      </p:sp>
    </p:spTree>
  </p:cSld>
  <p:transition>
    <p:random/>
  </p:transition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500"/>
              </a:spcBef>
              <a:buClr>
                <a:srgbClr val="3366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organizational structures used to implement three international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3366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networks and discuss how strategic center firms implement such networks at the business, corporate and international leve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1C8B5-791D-4F6C-A5D8-51D41C787645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6324840" cy="58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4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ree Variations of the Multidivisional Structure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457200"/>
            <a:ext cx="8229600" cy="5335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1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990720" y="1560600"/>
            <a:ext cx="7124760" cy="331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7EAEE-410B-47E2-BFD1-F0917071E74E}" type="slidenum">
              <a:t>30</a:t>
            </a:fld>
          </a:p>
        </p:txBody>
      </p:sp>
    </p:spTree>
  </p:cSld>
  <p:transition>
    <p:random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500"/>
                            </p:stCondLst>
                            <p:childTnLst>
                              <p:par>
                                <p:cTn id="8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000"/>
                            </p:stCondLst>
                            <p:childTnLst>
                              <p:par>
                                <p:cTn id="8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5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operative Form of the Multidivisional Structure for Implementation of a Related Constrain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57200" y="581040"/>
            <a:ext cx="1828800" cy="479160"/>
            <a:chOff x="457200" y="581040"/>
            <a:chExt cx="1828800" cy="479160"/>
          </a:xfrm>
        </p:grpSpPr>
        <p:sp>
          <p:nvSpPr>
            <p:cNvPr id="221" name=""/>
            <p:cNvSpPr/>
            <p:nvPr/>
          </p:nvSpPr>
          <p:spPr>
            <a:xfrm>
              <a:off x="685800" y="58104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" y="88740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066680" y="1285920"/>
            <a:ext cx="7010640" cy="4352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57200" y="57150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tes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Structural integration devices create tight links among all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rporate office emphasizes centralized strategic planning, human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resources, and marketing to foster cooperation between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&amp;D is likely to be centralized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24280" y="5715000"/>
            <a:ext cx="3962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wards are subjective and tend to emphasize overall corporate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formance in addition to divisional performa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ulture emphasizes cooperative sha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DBA54-7A1F-4C06-8132-6384FAA3F257}" type="slidenum">
              <a:t>31</a:t>
            </a:fld>
          </a:p>
        </p:txBody>
      </p:sp>
    </p:spTree>
  </p:cSld>
  <p:transition>
    <p:random/>
  </p:transition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0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Cooperative Fo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orizontal integration is used to bring about interdivisional coopera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haring divisional competencies facilitates development of economies of scop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o foster divisional cooperation, the corporate office emphasizes centralization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plann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142880" y="5791320"/>
            <a:ext cx="44478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Constrain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DE269-4C69-448C-BD27-41BC5CA439CE}" type="slidenum">
              <a:t>32</a:t>
            </a:fld>
          </a:p>
        </p:txBody>
      </p:sp>
    </p:spTree>
  </p:cSld>
  <p:transition>
    <p:random/>
  </p:transition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0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operative Form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&amp;D is likely to be centraliz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requent, direct contact between division managers encourages and supports cooperation and sharing of competencies and resour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 of liaison rol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wards are subjective, emphasizing overall corporate performance in addition to divisional performanc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42880" y="5791320"/>
            <a:ext cx="44478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Constrain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3DF7B-1FFA-4F3C-863D-F3B824F2205F}" type="slidenum">
              <a:t>33</a:t>
            </a:fld>
          </a:p>
        </p:txBody>
      </p:sp>
    </p:spTree>
  </p:cSld>
  <p:transition>
    <p:random/>
  </p:transition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0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4678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6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BU Form of the Multidivisional Structure for Implementation of a Related Link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3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457200" y="5842080"/>
            <a:ext cx="4114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uctural integration among divisions within SBUs, but independence 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ross SB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ategic planning may be the most prominent function in headquarters for  managing the strategic planning approval process of SBUs for the presid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97204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ach SBU may have its own budget for staff to foster integ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rporate headquarters staff serve as consultants to SBUs and divisions, rather than having direct input to product strategy, as in the cooperative fo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090440" y="1285920"/>
            <a:ext cx="696312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32829-0173-431D-B72F-5015C7F96332}" type="slidenum">
              <a:t>34</a:t>
            </a:fld>
          </a:p>
        </p:txBody>
      </p:sp>
    </p:spTree>
  </p:cSld>
  <p:transition>
    <p:random/>
  </p:transition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0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500"/>
                            </p:stCondLst>
                            <p:childTnLst>
                              <p:par>
                                <p:cTn id="9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1000"/>
                            </p:stCondLst>
                            <p:childTnLst>
                              <p:par>
                                <p:cTn id="9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SBU Form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business unit (SBU) form is a structure consisting of three level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headquart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business units (SBU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BU divis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isions within SBUs sha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s, or markets, or both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938840" y="5791320"/>
            <a:ext cx="365256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Link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5D152-8006-4754-809C-C4478896679B}" type="slidenum">
              <a:t>35</a:t>
            </a:fld>
          </a:p>
        </p:txBody>
      </p:sp>
    </p:spTree>
  </p:cSld>
  <p:transition>
    <p:random/>
  </p:transition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SBU Form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isions within SBUs develop economies of scope and/or scale by sharing product or market competenci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SBU is a profit center controlled and evaluated by the headquarters offi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d by large firm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n be complex due to an organization’s size and diversity in products and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938840" y="5791320"/>
            <a:ext cx="365256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Link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F23CB-F8A9-4C0B-861F-84FD7720A7FE}" type="slidenum">
              <a:t>36</a:t>
            </a:fld>
          </a:p>
        </p:txBody>
      </p:sp>
    </p:spTree>
  </p:cSld>
  <p:transition>
    <p:random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70572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7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etitive Form of the Multidivisional Structure for Implementation of an Unrelat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49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104840" y="1295280"/>
            <a:ext cx="6934320" cy="34862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533520" y="5356080"/>
            <a:ext cx="3657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rporate headquarters has a small sta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inance and auditing are the most prominent functions in the headquarters office to manage cash flow and assure the accuracy of performance data coming from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91120" y="5486400"/>
            <a:ext cx="4572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e legal affairs function becomes important when the firm acquires or divests asse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are independent and separate for financial evaluation purpo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retain strategic control, but cash is managed by the corporate off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compete for corporate resour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1F940-3405-48DA-860D-7C594C16CEF3}" type="slidenum">
              <a:t>37</a:t>
            </a:fld>
          </a:p>
        </p:txBody>
      </p:sp>
    </p:spTree>
  </p:cSld>
  <p:transition>
    <p:random/>
  </p:transition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0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500"/>
                            </p:stCondLst>
                            <p:childTnLst>
                              <p:par>
                                <p:cTn id="10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Competitive Fo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structure in which there is complete independence among the firm’s divis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visions do not share common corporate strength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cause strengths aren’t shared, integrating devices aren’t develop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rganizational arrangements emphasize divisional competition rather than cooper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24000" y="5791320"/>
            <a:ext cx="2890440" cy="459720"/>
          </a:xfrm>
          <a:prstGeom prst="rect">
            <a:avLst/>
          </a:prstGeom>
          <a:solidFill>
            <a:srgbClr val="99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relat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8E640-B0E2-4D10-BB11-0702845CC429}" type="slidenum">
              <a:t>38</a:t>
            </a:fld>
          </a:p>
        </p:txBody>
      </p:sp>
    </p:spTree>
  </p:cSld>
  <p:transition>
    <p:random/>
  </p:transition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0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ive Form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benefits from the internal competi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—corporate headquarters can have divisions working on different technologies to identify those with greatest future potenti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hallenges the status quo and inertia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tivates effor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es specific profit performance expectations for each division to promote internal competition for resour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24000" y="5791320"/>
            <a:ext cx="2890440" cy="459720"/>
          </a:xfrm>
          <a:prstGeom prst="rect">
            <a:avLst/>
          </a:prstGeom>
          <a:solidFill>
            <a:srgbClr val="99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relat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5D37F-159F-4ACA-83B7-E8B9701CBB54}" type="slidenum">
              <a:t>39</a:t>
            </a:fld>
          </a:p>
        </p:txBody>
      </p:sp>
    </p:spTree>
  </p:cSld>
  <p:transition>
    <p:random/>
  </p:transition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500"/>
                            </p:stCondLst>
                            <p:childTnLst>
                              <p:par>
                                <p:cTn id="10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4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ructure and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rganizational structure specifi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irm’s formal reporting relationships, procedures, controls, and authority and decision-making proces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work to be done and how to do it, given the firm’s strategy or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t is critical to match organizational structure to the firm’s strateg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66A81-39CC-4FE6-8DCA-7DD120AA5E6A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5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11.1</a:t>
            </a:r>
            <a:r>
              <a:rPr b="1" i="1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racteristics of the Structures Necessary to Implement the Related Constrained, Related Linked, and Unrelated Diversification Strategie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403200" y="1628640"/>
            <a:ext cx="830592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Cooperative M-Form 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BU M-Form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Competitive M-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uctural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Related Constrain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Related Link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Unrelated Diversificatio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racteristic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ntralization of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alized a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ally centraliz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entralized t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 offi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 SBU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 of integr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ns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r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existen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ision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hasize subject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a mixture o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hasize objectiv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trategic) criteri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jective (strategic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inancial) criteri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raisal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objectiv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inancial) crit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isional incentiv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ed to overal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xed linkage 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ed to divisional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ens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, SBU, a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al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40440" y="1166760"/>
            <a:ext cx="24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all Structural 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4760" y="6289560"/>
            <a:ext cx="26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ategy implemented with structural for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83440-0FBA-4656-800D-5757370B5AA3}" type="slidenum">
              <a:t>40</a:t>
            </a:fld>
          </a:p>
        </p:txBody>
      </p:sp>
    </p:spTree>
  </p:cSld>
  <p:transition>
    <p:random/>
  </p:transition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0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Strategies and Worldwide Structur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ternational strategies allow the firm to search for new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43049-CC43-41F2-84AA-3E03601A2920}" type="slidenum">
              <a:t>41</a:t>
            </a:fld>
          </a:p>
        </p:txBody>
      </p:sp>
    </p:spTree>
  </p:cSld>
  <p:transition>
    <p:random/>
  </p:transition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0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3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5095800" cy="449748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495000"/>
            <a:ext cx="6705720" cy="91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1.8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orldwide Geographic Area Structure for Implementation of a Multidomestic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7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412920" y="5678640"/>
            <a:ext cx="598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perimeter circles indicate decentralization of oper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phasis is on differentiation by local demand to fit an area or country cul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coordinates financial resources among independent subsidia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organization is like a decentralized fed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2FBB7-CD2E-4CDF-A8EA-7C8408C62055}" type="slidenum">
              <a:t>42</a:t>
            </a:fld>
          </a:p>
        </p:txBody>
      </p:sp>
    </p:spTree>
  </p:cSld>
  <p:transition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0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Geographic Area Structure: Implementing a Multidomestic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domestic strategy decentralizes strategic and operating decisions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 units in each coun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characteristics tailored to local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counter global competitive forces b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ablishing protected market positions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ng in industry segments most affected by differences among local count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6F449-81F1-43A3-A193-6AF94B5FB2CB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Geographic Area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Worldwide Geographic Area Structu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mphasizes national interes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s the firm’s efforts to satisfy local or cultural dif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domestic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s little coordination between different county markets: integrating mechanisms aren’t need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ey disadvantage is inability to create global efficienc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282E0-6302-4C68-BF04-558968960BF7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7057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9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orldwide Product Divisional Structure for Implementation of a Global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82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576520" y="1295280"/>
            <a:ext cx="5076720" cy="45244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360" y="5681520"/>
            <a:ext cx="77914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headquarters’ circle indicates centralization to coordinate information flow among worldwide produ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uses many intercoordination devices to facilitate global economies of scale and sc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also allocates financial resources in a cooperative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organization is like a centralized fed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8C0EF-C899-425F-8608-5729D1DED450}" type="slidenum">
              <a:t>45</a:t>
            </a:fld>
          </a:p>
        </p:txBody>
      </p:sp>
    </p:spTree>
  </p:cSld>
  <p:transition>
    <p:random/>
  </p:transition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0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Product Divisional Structure: Implementing a Global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lobal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firm to offer standardized products across country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s on Firm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ccess depends on firm’s ability to develop and take advantage of economies of scope and scale on global lev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 tends to outsource some primary or support activities to the world’s best provi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1D36A-C91B-4F93-83B4-CEB4C5FF5FE0}" type="slidenum">
              <a:t>46</a:t>
            </a:fld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Product 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entralizes decision-making authority in the worldwide division headquarte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adquarters coordinates and integrates decisions and actions among divisional business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5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tegrating mechanisms are importan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rect contact between manag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iaison roles between depart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mporary task forces as well as permanent team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BE717-2B3A-4FCC-850F-AF9A40853D3C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bination Structure: A Transnational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ransnational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bines multidomestic strategy’s local responsiveness with global strategy’s efficienc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bination structure draws characteristics and mechanisms from bot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ldwide geographic area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ldwide product divisional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ppropriate integrating mechanisms for the combination structure are less obviou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2A7ED-E416-42D5-8A53-C3A15A55E3C7}" type="slidenum">
              <a:t>48</a:t>
            </a:fld>
          </a:p>
        </p:txBody>
      </p:sp>
    </p:spTree>
  </p:cSld>
  <p:transition>
    <p:random/>
  </p:transition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0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6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5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010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0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ing the Hybrid Form of the Combination Structure for Implementation of a Transnational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97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61960" y="1600200"/>
            <a:ext cx="8020080" cy="312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257F1-39EA-48AA-B0A8-D0A73985A2A2}" type="slidenum">
              <a:t>49</a:t>
            </a:fld>
          </a:p>
        </p:txBody>
      </p:sp>
    </p:spTree>
  </p:cSld>
  <p:transition>
    <p:random/>
  </p:transition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fill="hold">
                      <p:stCondLst>
                        <p:cond delay="0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 structures provi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a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uctural stability provides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apacity required to consistently and predictably manage daily work routin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uctural flexibility provides for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opportunity to explore competitive pos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allocation of resources to activities that shape needed competitive advanta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80D74-34C9-4500-B598-F479C73DC8B5}" type="slidenum">
              <a:t>5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es between Cooperative Strategies and Network Structur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Network strategy exist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artners form several alliances in order to improve performance of the alliance network itself through cooperative endeav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group of firms formed to create value by participating in multiple cooperative arrangements such as alliances and joint ventur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35AC4-2982-4EA2-857D-7786AAAC8948}" type="slidenum">
              <a:t>50</a:t>
            </a:fld>
          </a:p>
        </p:txBody>
      </p:sp>
    </p:spTree>
  </p:cSld>
  <p:transition>
    <p:random/>
  </p:transition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0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9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4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9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4" dur="5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es between Cooperative Strategies and Network Structur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s are used to implemen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-level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-level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tional cooperative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enter firm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irm around which the network’s cooperative relationships revol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1D228-3BF8-436D-84C1-2987B5F03DBE}" type="slidenum">
              <a:t>51</a:t>
            </a:fld>
          </a:p>
        </p:txBody>
      </p:sp>
    </p:spTree>
  </p:cSld>
  <p:transition>
    <p:random/>
  </p:transition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1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1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6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1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6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44600" y="447840"/>
            <a:ext cx="2155680" cy="115236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17528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trategic Net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2978280" y="671400"/>
            <a:ext cx="4870440" cy="534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52285-B51B-42DB-8896-A947E483E5AF}" type="slidenum">
              <a:t>52</a:t>
            </a:fld>
          </a:p>
        </p:txBody>
      </p:sp>
    </p:spTree>
  </p:cSld>
  <p:transition>
    <p:random/>
  </p:transition>
  <p:timing>
    <p:tnLst>
      <p:par>
        <p:cTn id="1287" dur="indefinite" restart="never" nodeType="tmRoot">
          <p:childTnLst>
            <p:seq>
              <p:cTn id="1288" dur="indefinite" nodeType="mainSeq">
                <p:childTnLst>
                  <p:par>
                    <p:cTn id="1289" fill="hold">
                      <p:stCondLst>
                        <p:cond delay="0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93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Center Fi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s the foundation for the strategic network’s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ed with aspects of organizational structure such as formal reporting relationship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s the complex, cooperative interactions among network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ngages in four primary task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outsourc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y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ace to lear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66AFC-0411-470D-9C72-A4724D034D31}" type="slidenum">
              <a:t>53</a:t>
            </a:fld>
          </a:p>
        </p:txBody>
      </p:sp>
    </p:spTree>
  </p:cSld>
  <p:transition>
    <p:random/>
  </p:transition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0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5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0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5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0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5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0" dur="5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Business-Leve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ertical Complementary Allianc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have complementary competencies in different value chain stages that let them cooperatively integrate their different skil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orizontal Complementary Allianc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that agree to combine competencies to create value in the same stage of the value chai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trategic center firm is obvious in vertical alliances, but not always in horizontal allian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A22DC-33A3-47A1-8042-7DB5BCED7997}" type="slidenum">
              <a:t>54</a:t>
            </a:fld>
          </a:p>
        </p:txBody>
      </p:sp>
    </p:spTree>
  </p:cSld>
  <p:transition>
    <p:random/>
  </p:transition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0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2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7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2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Business-Level Cooperative Strategies: International Franchis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ranchising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mmon form of cooperative strategy used to facilitate product and market diversific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the firm to use its competencies to extend or diversify its product or market reach without completing a merger or acquisi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1488F-E915-4606-9AA7-0BA2D9E40EA8}" type="slidenum">
              <a:t>55</a:t>
            </a:fld>
          </a:p>
        </p:txBody>
      </p:sp>
    </p:spTree>
  </p:cSld>
  <p:transition>
    <p:random/>
  </p:transition>
  <p:timing>
    <p:tnLst>
      <p:par>
        <p:cTn id="1363" dur="indefinite" restart="never" nodeType="tmRoot">
          <p:childTnLst>
            <p:seq>
              <p:cTn id="1364" dur="indefinite" nodeType="mainSeq">
                <p:childTnLst>
                  <p:par>
                    <p:cTn id="1365" fill="hold">
                      <p:stCondLst>
                        <p:cond delay="0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4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0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Internationa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used to implement international cooperative strategies for competing in several count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in countries’ regulatory environments increase the challenge of managing international netwo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stributed Strategic Network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the organizational structure used to manage international cooperativ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strategic center fi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7B409-6D5D-4847-AF03-7548096FF491}" type="slidenum">
              <a:t>56</a:t>
            </a:fld>
          </a:p>
        </p:txBody>
      </p:sp>
    </p:spTree>
  </p:cSld>
  <p:transition>
    <p:random/>
  </p:transition>
  <p:timing>
    <p:tnLst>
      <p:par>
        <p:cTn id="1381" dur="indefinite" restart="never" nodeType="tmRoot">
          <p:childTnLst>
            <p:seq>
              <p:cTn id="1382" dur="indefinite" nodeType="mainSeq">
                <p:childTnLst>
                  <p:par>
                    <p:cTn id="1383" fill="hold">
                      <p:stCondLst>
                        <p:cond delay="0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2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8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3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6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44600" y="458640"/>
            <a:ext cx="2155680" cy="11527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17528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2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Distributed Strategic Net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2819520" y="728640"/>
            <a:ext cx="5257800" cy="540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D2A2C-5252-4FC9-A864-55B01EB0298D}" type="slidenum">
              <a:t>57</a:t>
            </a:fld>
          </a:p>
        </p:txBody>
      </p:sp>
    </p:spTree>
  </p:cSld>
  <p:transition>
    <p:random/>
  </p:transition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fill="hold">
                      <p:stCondLst>
                        <p:cond delay="0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urposes of Organizational Control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uide the use of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cate how to compare actual results with expected resul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ggest corrective actions to take when the difference between actual and expected results is unacceptabl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wo Types of Organizational Contro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nancial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68D49-758D-4B9F-B8FC-2AF0DAFF3229}" type="slidenum">
              <a:t>6</a:t>
            </a:fld>
          </a:p>
        </p:txBody>
      </p:sp>
    </p:spTree>
  </p:cSld>
  <p:transition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85640" y="1295280"/>
            <a:ext cx="2508480" cy="1287720"/>
          </a:xfrm>
          <a:prstGeom prst="roundRect">
            <a:avLst>
              <a:gd name="adj" fmla="val 16667"/>
            </a:avLst>
          </a:prstGeom>
          <a:solidFill>
            <a:srgbClr val="b2b2b2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ontrols: Subjective criteri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concerned with examining the fit between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31480" indent="-226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e fi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ght 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pportunities in its external environmen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e fi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n 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ompetitive advantag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valuate the degree to which the firm focuses on the requirements to implement its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435480" y="1492200"/>
            <a:ext cx="2330280" cy="914400"/>
            <a:chOff x="3435480" y="1492200"/>
            <a:chExt cx="2330280" cy="914400"/>
          </a:xfrm>
        </p:grpSpPr>
        <p:sp>
          <p:nvSpPr>
            <p:cNvPr id="113" name=""/>
            <p:cNvSpPr/>
            <p:nvPr/>
          </p:nvSpPr>
          <p:spPr>
            <a:xfrm>
              <a:off x="3435480" y="1492200"/>
              <a:ext cx="2330280" cy="9144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20800" y="1566360"/>
              <a:ext cx="2157120" cy="763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790560" y="1492200"/>
            <a:ext cx="1879560" cy="914400"/>
            <a:chOff x="790560" y="1492200"/>
            <a:chExt cx="1879560" cy="914400"/>
          </a:xfrm>
        </p:grpSpPr>
        <p:sp>
          <p:nvSpPr>
            <p:cNvPr id="116" name=""/>
            <p:cNvSpPr/>
            <p:nvPr/>
          </p:nvSpPr>
          <p:spPr>
            <a:xfrm>
              <a:off x="79056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9320" y="1566360"/>
              <a:ext cx="1739880" cy="76428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rateg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502320" y="1492200"/>
            <a:ext cx="1879560" cy="914400"/>
            <a:chOff x="6502320" y="1492200"/>
            <a:chExt cx="1879560" cy="914400"/>
          </a:xfrm>
        </p:grpSpPr>
        <p:sp>
          <p:nvSpPr>
            <p:cNvPr id="119" name=""/>
            <p:cNvSpPr/>
            <p:nvPr/>
          </p:nvSpPr>
          <p:spPr>
            <a:xfrm>
              <a:off x="650232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571080" y="1566360"/>
              <a:ext cx="1740240" cy="7642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inanc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1" name=""/>
          <p:cNvCxnSpPr>
            <a:stCxn id="113" idx="1"/>
            <a:endCxn id="116" idx="3"/>
          </p:cNvCxnSpPr>
          <p:nvPr/>
        </p:nvCxnSpPr>
        <p:spPr>
          <a:xfrm flipH="1">
            <a:off x="2669760" y="1949040"/>
            <a:ext cx="7660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2" name=""/>
          <p:cNvCxnSpPr>
            <a:stCxn id="113" idx="3"/>
            <a:endCxn id="119" idx="1"/>
          </p:cNvCxnSpPr>
          <p:nvPr/>
        </p:nvCxnSpPr>
        <p:spPr>
          <a:xfrm>
            <a:off x="5765760" y="1949040"/>
            <a:ext cx="737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85F6D-8DC9-4C09-809F-ABDE659F3E16}" type="slidenum">
              <a:t>7</a:t>
            </a:fld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915160" y="1295280"/>
            <a:ext cx="2508120" cy="1287720"/>
          </a:xfrm>
          <a:prstGeom prst="roundRect">
            <a:avLst>
              <a:gd name="adj" fmla="val 16667"/>
            </a:avLst>
          </a:prstGeom>
          <a:solidFill>
            <a:srgbClr val="b2b2b2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747880"/>
            <a:ext cx="8229600" cy="33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nancial Controls: Objective criteri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counting-based measures includ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on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on as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-based measures includ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Value Added (E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178080" y="1492200"/>
            <a:ext cx="2330640" cy="914400"/>
            <a:chOff x="3178080" y="1492200"/>
            <a:chExt cx="2330640" cy="914400"/>
          </a:xfrm>
        </p:grpSpPr>
        <p:sp>
          <p:nvSpPr>
            <p:cNvPr id="127" name=""/>
            <p:cNvSpPr/>
            <p:nvPr/>
          </p:nvSpPr>
          <p:spPr>
            <a:xfrm>
              <a:off x="3178080" y="1492200"/>
              <a:ext cx="2330640" cy="9144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63760" y="1566360"/>
              <a:ext cx="2157480" cy="763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33520" y="1492200"/>
            <a:ext cx="1879560" cy="914400"/>
            <a:chOff x="533520" y="1492200"/>
            <a:chExt cx="1879560" cy="914400"/>
          </a:xfrm>
        </p:grpSpPr>
        <p:sp>
          <p:nvSpPr>
            <p:cNvPr id="130" name=""/>
            <p:cNvSpPr/>
            <p:nvPr/>
          </p:nvSpPr>
          <p:spPr>
            <a:xfrm>
              <a:off x="53352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2280" y="1566360"/>
              <a:ext cx="1739880" cy="76428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rateg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245280" y="1492200"/>
            <a:ext cx="1879560" cy="914400"/>
            <a:chOff x="6245280" y="1492200"/>
            <a:chExt cx="1879560" cy="914400"/>
          </a:xfrm>
        </p:grpSpPr>
        <p:sp>
          <p:nvSpPr>
            <p:cNvPr id="133" name=""/>
            <p:cNvSpPr/>
            <p:nvPr/>
          </p:nvSpPr>
          <p:spPr>
            <a:xfrm>
              <a:off x="624528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14040" y="1566360"/>
              <a:ext cx="1740240" cy="7642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Financ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1"/>
            <a:endCxn id="130" idx="3"/>
          </p:cNvCxnSpPr>
          <p:nvPr/>
        </p:nvCxnSpPr>
        <p:spPr>
          <a:xfrm flipH="1">
            <a:off x="2412360" y="1949040"/>
            <a:ext cx="765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7" idx="3"/>
            <a:endCxn id="133" idx="1"/>
          </p:cNvCxnSpPr>
          <p:nvPr/>
        </p:nvCxnSpPr>
        <p:spPr>
          <a:xfrm>
            <a:off x="5508720" y="1949040"/>
            <a:ext cx="737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56D4E-1F5F-4ABA-8493-6672CA0E10A0}" type="slidenum">
              <a:t>8</a:t>
            </a:fld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Matching Control to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lative use of controls varies by type of strateg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rge diversified firms using a cost leadership strategy emphasize financial contro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anies and business units using a differentiation strategy emphasize strategic contro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2EDE6-6398-4B43-B2B5-6D87EFC383DF}" type="slidenum">
              <a:t>9</a:t>
            </a:fld>
          </a:p>
        </p:txBody>
      </p:sp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Teodoro Wigodski</cp:lastModifiedBy>
  <dcterms:modified xsi:type="dcterms:W3CDTF">2006-07-29T17:29:07Z</dcterms:modified>
  <cp:revision>43</cp:revision>
  <dc:subject>Chapter 11</dc:subject>
  <dc:title>Strategic Management 7e.</dc:title>
</cp:coreProperties>
</file>