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move the slid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481D-BBCA-42FF-A91C-77ECA9EA7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23CB-4FB4-44C1-9F63-7C9773C80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422A-D5E2-495D-AC2A-66E8485B2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9AA4-059D-4BC4-89D8-63FC27A09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881D-4C41-4FD2-9C32-2E034217C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F26F-819F-404F-AAA0-6770493EE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C455-7D57-4492-997F-9044AC998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0A0C-E750-448B-8ADB-CA3C17ACC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3837-9F49-40D6-ADCA-39546772C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A18B-5CF8-4725-B6BD-3BDA7A248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D98C-459B-4ED7-A2C7-6989C7BF2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10D6-D704-4C2E-92AA-0E1251BFD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AFD1-B39C-4D8C-ACDC-6B92F8FD1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3CC0-732A-4951-8BAF-D4C32C9BA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501D-3721-4843-BF24-B3446DDC6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FBDF-3E65-46DE-A9F9-8BEFEDCD7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1CA7-E01D-4DED-8DE3-AD102E980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AD43-C7C0-40C0-BFD1-91B4B5A4A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59FB-F9D9-42C4-A78B-0F654EAC2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C329-DDCB-4BD4-9FF5-B708A4D71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941B-4689-4ABE-8C35-E2B96541D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6B08-D4CE-4B5D-A3A3-87DF00424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9966-91AE-42EE-BC41-CB96068B7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8A58-064E-4885-9FE3-3DFC8252F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442C-BE02-4AD0-9EC4-36760032C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187E-1986-477B-A47D-6AFA11AB2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83A8-1495-4046-A803-ABBB90F5D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4BB4-D2AB-44C7-A5F3-78CB6C03A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1241-D051-4F0A-BD7F-0B379286C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2025-9E76-4DD0-BEFA-39776178E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91A1-B665-45A6-AADB-4162ED904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5E9E-44EF-4216-A074-B26C690D0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1548-DCDF-4550-AD60-E3F1EA43B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E46D-52A0-4302-B80B-A978657BE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F298-5E5D-4B84-9E9C-FE2D01DFE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F9FE-9BA5-422F-B934-FB9667DAD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44ED-4F44-40F6-8CA6-128372932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9082E-D188-43BF-A647-F560D7C20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182D-CEE7-4FBD-AEEE-E34508724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B5740-E358-43B4-9D4C-A032D34D4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4C29E-58D2-41C2-A136-5DDF96598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2777D-2318-400A-997B-721B311ED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D4AE-0A23-4CDE-BC35-B774AFBF3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BC05C-0CCD-455E-9A26-B0D6CDE13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3B53-75E5-4FFB-BD3F-282AB9803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E97DB-4DE8-43D8-BACA-90DE38744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6AB2D-F6F4-4EE5-B53C-88D6809D3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298C9-12FC-4410-B02D-E7B4FEAD3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7CA72-B7B9-4C2E-915C-5D1D57164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–</a:t>
            </a:r>
            <a:fld id="{E1C790E4-3FD6-4669-80D5-53E83CD42988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Line 13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4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0492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00400" y="2646360"/>
            <a:ext cx="556272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0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 Governance</a:t>
            </a:r>
            <a:endParaRPr b="0" lang="en-US" sz="3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8BA0897-60C2-4B91-B7E0-317231A251F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eking of self-interest with guile (cunning or deceit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attitude (inclination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behaviors (specific acts of self-interes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prevents the maximization of shareholder wealth (the primary goal of owner/principals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EEB7DE2-16C7-4048-BBC3-5AD0E9EA3E2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ponse to 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do not know beforehand which agents will or will not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us, principals establish governance and control mechanisms to prevent managerial opportunis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CC215C9-AF4F-4129-B508-2D05EDA904E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amples of the Agency Proble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roblem of Product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size, and the relationship of size to managerial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tion of managerial employment ris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Free Cash Flow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prefer to invest these funds in additional product diversification (see above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areholders prefer the funds as dividends so they control how the funds are inves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7164279-111B-45BF-81B7-57B942B67E23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495360"/>
            <a:ext cx="7934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 and Shareholder Risk and Diversification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6" name="Line 5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715440" cy="4915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A84CD84-6AE7-45AF-96E1-68E730D00FE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ncy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m of incentive costs, monitoring costs, enforcement costs, and individual financial losses incurred by principals, because governance mechanisms cannot guarantee total compliance by the ag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may engage in monitoring behavior to assess the activities and decisions of manag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dispersed shareholding makes it difficult and inefficient to monitor management’s behavi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1A6BB5E-1B89-4E3B-82E1-17AA25068C4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s of Directors have a fiduciary duty to shareholders to monitor managem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Boards of Directors are often accused of being lax in performing this func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9B1582A-4326-49B9-BEF2-3E0FEE4F7E5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606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 Governance Mechanism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1327320"/>
            <a:ext cx="830556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Governance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ship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responsible for representing the firm’s owners by monitoring top-level managers’ strategic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cutiv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alary, bonuses, and long-term incentives to align managers’ interests with shareholders’ intere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Governanc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for Corpora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chase of a company that is underperforming relative to industry rivals in order to improve the firm’s strategic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D753B6C-BED0-4973-A601-C1C17349209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3200400" y="1314360"/>
            <a:ext cx="990720" cy="44053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405320"/>
              <a:gd name="textAreaBottom" fmla="*/ 4404240 h 44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727"/>
                </a:lnTo>
                <a:cubicBezTo>
                  <a:pt x="10800" y="2738"/>
                  <a:pt x="5400" y="2749"/>
                  <a:pt x="0" y="2749"/>
                </a:cubicBezTo>
                <a:cubicBezTo>
                  <a:pt x="5400" y="2749"/>
                  <a:pt x="10800" y="2760"/>
                  <a:pt x="10800" y="277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77840" y="1330200"/>
            <a:ext cx="4908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rge block shareholders have a strong incentive to monitor management closely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ir large stakes make it worth their while to spend time, effort and expense to monitor clos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y may also obtain Board seats which enhances their ability to monitor effectiv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nancial institutions are legally forbidden from directly holding board sea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77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18646B9-931F-4B1E-B994-089AC4C5D4E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3200400" y="1386000"/>
            <a:ext cx="990720" cy="3186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20 h 3186000"/>
              <a:gd name="textAreaBottom" fmla="*/ 3185280 h 31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3530"/>
                </a:lnTo>
                <a:cubicBezTo>
                  <a:pt x="10800" y="3541"/>
                  <a:pt x="5400" y="3552"/>
                  <a:pt x="0" y="3552"/>
                </a:cubicBezTo>
                <a:cubicBezTo>
                  <a:pt x="5400" y="3552"/>
                  <a:pt x="10800" y="3563"/>
                  <a:pt x="10800" y="357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7840" y="1455840"/>
            <a:ext cx="4908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increasing influence of institutional owners (stock mutual funds and pension funds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Have the size (proxy voting power) and incentive (demand for returns to funds) to discipline ineffective top-level manag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an affect the firm’s choice of strategi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8037043-8739-4CC3-B12D-77E3F5D72E8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"/>
          <p:cNvSpPr/>
          <p:nvPr/>
        </p:nvSpPr>
        <p:spPr>
          <a:xfrm>
            <a:off x="3200400" y="1386000"/>
            <a:ext cx="990720" cy="3871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871800"/>
              <a:gd name="textAreaBottom" fmla="*/ 3870720 h 38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01"/>
                </a:lnTo>
                <a:cubicBezTo>
                  <a:pt x="10800" y="2912"/>
                  <a:pt x="5400" y="2923"/>
                  <a:pt x="0" y="2923"/>
                </a:cubicBezTo>
                <a:cubicBezTo>
                  <a:pt x="5400" y="2923"/>
                  <a:pt x="10800" y="2934"/>
                  <a:pt x="10800" y="29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777840" y="1452240"/>
            <a:ext cx="49086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 activism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can convene to discuss corporation’s directio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f a consensus exists, shareholders can vote as a block to elect their candidates to the boar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xy figh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re are limits on shareholder activism available to institutional owners in responding to activists’ tactic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9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CDCB41C-411D-4F70-9A2B-2A6696F2AA6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rporate governance and explain why it is used to monitor and contro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ownership has been largely separated from managerial control in the modern corpora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agency relationship and managerial opportunism and describe their strategic implic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ree internal governance mechanisms—ownership concentration, the board of directors, and executive compensation—are used to monitor and control managerial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F5009BB-C903-4F25-88A7-DBE689A7855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3200400" y="1386000"/>
            <a:ext cx="990720" cy="402408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024080"/>
              <a:gd name="textAreaBottom" fmla="*/ 4023000 h 40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226"/>
                </a:lnTo>
                <a:cubicBezTo>
                  <a:pt x="10800" y="8237"/>
                  <a:pt x="5400" y="8248"/>
                  <a:pt x="0" y="8248"/>
                </a:cubicBezTo>
                <a:cubicBezTo>
                  <a:pt x="5400" y="8248"/>
                  <a:pt x="10800" y="8259"/>
                  <a:pt x="10800" y="8270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95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Group of elected individuals that acts in the owners’ interests to formally monitor and control the firm’s top-level execu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has the power to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rect the affairs of the organiz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unish and reward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tect owners from managerial opportunis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01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04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7BFCC7C-0752-4670-BB68-77AE7CDF6A73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3200400" y="1386000"/>
            <a:ext cx="990720" cy="34909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490920"/>
              <a:gd name="textAreaBottom" fmla="*/ 348984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9575"/>
                </a:lnTo>
                <a:cubicBezTo>
                  <a:pt x="10800" y="9586"/>
                  <a:pt x="5400" y="9597"/>
                  <a:pt x="0" y="9597"/>
                </a:cubicBezTo>
                <a:cubicBezTo>
                  <a:pt x="5400" y="9597"/>
                  <a:pt x="10800" y="9608"/>
                  <a:pt x="10800" y="9619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osition of Board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the firm’s CEO and other top-level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lated 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uninvolved with day-to-day operations, but who have a relationship with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who are independent of the firm’s day-to-day operations and other relationship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12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15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56CEF97-940E-45A0-AFC8-FE673BC357B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741"/>
                </a:lnTo>
                <a:cubicBezTo>
                  <a:pt x="10800" y="8752"/>
                  <a:pt x="5400" y="8763"/>
                  <a:pt x="0" y="8763"/>
                </a:cubicBezTo>
                <a:cubicBezTo>
                  <a:pt x="5400" y="8763"/>
                  <a:pt x="10800" y="8774"/>
                  <a:pt x="10800" y="878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iticisms of Boards of Directors includ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oo readily approve managers’ self-serving initia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exploited by managers with personal ties to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not vigilant enough in hiring and monitoring CEO behavio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ack of agreement about the number of and most appropriate role of outside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2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2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26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9BB4979-1CFA-4685-A160-3CA00C3E0C4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368"/>
                </a:lnTo>
                <a:cubicBezTo>
                  <a:pt x="10800" y="8379"/>
                  <a:pt x="5400" y="8390"/>
                  <a:pt x="0" y="8390"/>
                </a:cubicBezTo>
                <a:cubicBezTo>
                  <a:pt x="5400" y="8390"/>
                  <a:pt x="10800" y="8401"/>
                  <a:pt x="10800" y="841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hancing the effectiveness of boards and director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diversity in the backgrounds of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onger internal management and accounting control system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formal processes to evaluate the board’s performan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dopting a “lead director” ro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compensation of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33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34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37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43808D8-E73B-41BA-B495-BB7E8769EFB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"/>
          <p:cNvSpPr/>
          <p:nvPr/>
        </p:nvSpPr>
        <p:spPr>
          <a:xfrm>
            <a:off x="3200400" y="1386000"/>
            <a:ext cx="990720" cy="45576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440 h 4557600"/>
              <a:gd name="textAreaBottom" fmla="*/ 4556160 h 45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2399"/>
                </a:lnTo>
                <a:cubicBezTo>
                  <a:pt x="10800" y="12410"/>
                  <a:pt x="5400" y="12421"/>
                  <a:pt x="0" y="12421"/>
                </a:cubicBezTo>
                <a:cubicBezTo>
                  <a:pt x="5400" y="12421"/>
                  <a:pt x="10800" y="12432"/>
                  <a:pt x="10800" y="1244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ms of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alaries, bonuses, long-term performance incentives, stock awards,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actors complicating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ic decisions by top-level managers are complex, non-routine and affect the firm over an extended perio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ther variables affecting the firm’s performance over tim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4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48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51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32C3FF7-CBAA-4091-86C5-CFD9416602B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"/>
          <p:cNvSpPr/>
          <p:nvPr/>
        </p:nvSpPr>
        <p:spPr>
          <a:xfrm>
            <a:off x="3200400" y="1386000"/>
            <a:ext cx="990720" cy="37195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19520"/>
              <a:gd name="textAreaBottom" fmla="*/ 3718440 h 37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5060"/>
                </a:lnTo>
                <a:cubicBezTo>
                  <a:pt x="10800" y="15071"/>
                  <a:pt x="5400" y="15082"/>
                  <a:pt x="0" y="15082"/>
                </a:cubicBezTo>
                <a:cubicBezTo>
                  <a:pt x="5400" y="15082"/>
                  <a:pt x="10800" y="15093"/>
                  <a:pt x="10800" y="1510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imits on the effectiveness of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ntended consequences of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irm performance not as important than firm siz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lance sheet not showing executive wealth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tions not expensed at the time they are awarded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58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59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62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65" name="Rectangle 18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9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9C4F43E-FE3F-4A9E-8D78-79FE171362E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200400" y="1690560"/>
            <a:ext cx="990720" cy="37958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95840"/>
              <a:gd name="textAreaBottom" fmla="*/ 3794760 h 37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877"/>
                </a:lnTo>
                <a:cubicBezTo>
                  <a:pt x="10800" y="18888"/>
                  <a:pt x="5400" y="18899"/>
                  <a:pt x="0" y="18899"/>
                </a:cubicBezTo>
                <a:cubicBezTo>
                  <a:pt x="5400" y="18899"/>
                  <a:pt x="10800" y="18910"/>
                  <a:pt x="10800" y="1892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62000" y="175248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ividuals and firms buy or take over undervalu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effective managers are usually replaced in such takeov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reat of takeover may lead firm to operate more efficient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s in regulations have made hostile takeovers difficul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7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7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7c9496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d5c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0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79" name="Rectangle 21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2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3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82" name="Rectangle 24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5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137F510-B085-48FF-B2D6-140FCD67524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3200400" y="1512720"/>
            <a:ext cx="990720" cy="42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253040"/>
              <a:gd name="textAreaBottom" fmla="*/ 4251960 h 42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079"/>
                </a:lnTo>
                <a:cubicBezTo>
                  <a:pt x="10800" y="18090"/>
                  <a:pt x="5400" y="18101"/>
                  <a:pt x="0" y="18101"/>
                </a:cubicBezTo>
                <a:cubicBezTo>
                  <a:pt x="5400" y="18101"/>
                  <a:pt x="10800" y="18112"/>
                  <a:pt x="10800" y="1812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7339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nagerial defense tactics increase the costs of mounting a takeov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fense tactics may requi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sset restructuring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the financial structure of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 approv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rket for corporate control lacks the precision of internal governance mechanis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9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90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93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9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7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99" name="Rectangle 18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9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6A160BD3-95FC-4356-98A3-5B3E39A993E1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381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2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209520" y="1251000"/>
            <a:ext cx="8782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Defense strateg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ategor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opularit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ffectivenes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ockholder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mong firm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s a defense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ealth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 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char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en parach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i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ma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st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clus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96360" y="6313320"/>
            <a:ext cx="768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A. Pearce II &amp; R. B. Robinson, Jr., 2004, Hostile takeover defenses that maximize shareholder wealth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Business Horiz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(5): 15–2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5ABE3E3-EF2B-4D8F-ACFA-F576398E274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 and manager are often the same in private fir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ublic firms often have a dominant shareholder, frequently a ban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requently there is less emphasis on shareholder value than in U.S. firms, although this may be chang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10" name="Picture 4" descr="j0234757"/>
          <p:cNvPicPr/>
          <p:nvPr/>
        </p:nvPicPr>
        <p:blipFill>
          <a:blip r:embed="rId1"/>
          <a:stretch/>
        </p:blipFill>
        <p:spPr>
          <a:xfrm>
            <a:off x="5888160" y="4038480"/>
            <a:ext cx="1655640" cy="1905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suj_3zz[1]"/>
          <p:cNvPicPr/>
          <p:nvPr/>
        </p:nvPicPr>
        <p:blipFill>
          <a:blip r:embed="rId2"/>
          <a:stretch/>
        </p:blipFill>
        <p:spPr>
          <a:xfrm>
            <a:off x="6324480" y="2819520"/>
            <a:ext cx="2286000" cy="137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D8FDC6C-AD51-4E8F-BFD3-0C4570DADD8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types of compensation executives receive and their effects on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xternal corporate governance mechanism—the market for corporate control—acts as a restraint on top-leve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 governance in international settings, in particular in Germany and Japa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rporate governance fosters ethical strategic decisions and the importance of such behaviors on the part of top-level executiv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8514A8A-73B6-4898-A154-B896F3C1465C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4006800" y="225252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the functions of direction and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4006800" y="34718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Vo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006800" y="49370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Aufsichts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1301760" y="2057400"/>
            <a:ext cx="2482560" cy="1033200"/>
            <a:chOff x="1301760" y="2057400"/>
            <a:chExt cx="2482560" cy="1033200"/>
          </a:xfrm>
        </p:grpSpPr>
        <p:sp>
          <p:nvSpPr>
            <p:cNvPr id="319" name="Rectangle 7"/>
            <p:cNvSpPr/>
            <p:nvPr/>
          </p:nvSpPr>
          <p:spPr>
            <a:xfrm>
              <a:off x="1301760" y="2057400"/>
              <a:ext cx="2482560" cy="10332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8"/>
            <p:cNvSpPr/>
            <p:nvPr/>
          </p:nvSpPr>
          <p:spPr>
            <a:xfrm>
              <a:off x="1361880" y="2125440"/>
              <a:ext cx="2327400" cy="89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orst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9"/>
          <p:cNvGrpSpPr/>
          <p:nvPr/>
        </p:nvGrpSpPr>
        <p:grpSpPr>
          <a:xfrm>
            <a:off x="1301760" y="3352680"/>
            <a:ext cx="2482920" cy="1033200"/>
            <a:chOff x="1301760" y="3352680"/>
            <a:chExt cx="2482920" cy="1033200"/>
          </a:xfrm>
        </p:grpSpPr>
        <p:sp>
          <p:nvSpPr>
            <p:cNvPr id="322" name="Rectangle 10"/>
            <p:cNvSpPr/>
            <p:nvPr/>
          </p:nvSpPr>
          <p:spPr>
            <a:xfrm>
              <a:off x="1301760" y="3352680"/>
              <a:ext cx="2482920" cy="1033200"/>
            </a:xfrm>
            <a:prstGeom prst="rect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1362240" y="3420720"/>
              <a:ext cx="2327040" cy="8971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ufsichtsr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2"/>
          <p:cNvGrpSpPr/>
          <p:nvPr/>
        </p:nvGrpSpPr>
        <p:grpSpPr>
          <a:xfrm>
            <a:off x="1300320" y="4627440"/>
            <a:ext cx="2495520" cy="1359000"/>
            <a:chOff x="1300320" y="4627440"/>
            <a:chExt cx="2495520" cy="1359000"/>
          </a:xfrm>
        </p:grpSpPr>
        <p:sp>
          <p:nvSpPr>
            <p:cNvPr id="325" name="Rectangle 13"/>
            <p:cNvSpPr/>
            <p:nvPr/>
          </p:nvSpPr>
          <p:spPr>
            <a:xfrm>
              <a:off x="1300320" y="4627440"/>
              <a:ext cx="2495520" cy="1359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4"/>
            <p:cNvSpPr/>
            <p:nvPr/>
          </p:nvSpPr>
          <p:spPr>
            <a:xfrm>
              <a:off x="1377720" y="4802400"/>
              <a:ext cx="2340000" cy="10087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bers Shar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7" name="AutoShape 15"/>
          <p:cNvCxnSpPr>
            <a:stCxn id="325" idx="0"/>
            <a:endCxn id="322" idx="2"/>
          </p:cNvCxnSpPr>
          <p:nvPr/>
        </p:nvCxnSpPr>
        <p:spPr>
          <a:xfrm flipH="1" flipV="1">
            <a:off x="2542680" y="4385880"/>
            <a:ext cx="576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28" name="AutoShape 16"/>
          <p:cNvCxnSpPr>
            <a:stCxn id="322" idx="0"/>
            <a:endCxn id="319" idx="2"/>
          </p:cNvCxnSpPr>
          <p:nvPr/>
        </p:nvCxnSpPr>
        <p:spPr>
          <a:xfrm flipV="1">
            <a:off x="2542680" y="309060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329" name="Text Box 17"/>
          <p:cNvSpPr/>
          <p:nvPr/>
        </p:nvSpPr>
        <p:spPr>
          <a:xfrm>
            <a:off x="195264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Germany: Two-tiere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ED2A20F-0BF6-495C-94CC-7DDCE227466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j0090245"/>
          <p:cNvPicPr/>
          <p:nvPr/>
        </p:nvPicPr>
        <p:blipFill>
          <a:blip r:embed="rId1"/>
          <a:stretch/>
        </p:blipFill>
        <p:spPr>
          <a:xfrm>
            <a:off x="6864480" y="3352680"/>
            <a:ext cx="1670040" cy="17049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956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governance factor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iretsus: strongly interrelated groups of firms tied together by cross-shareholding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nks (especially “main bank”) are highly influential with firm’s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35" name="Picture 5" descr="v0igzx1j[1]"/>
          <p:cNvPicPr/>
          <p:nvPr/>
        </p:nvPicPr>
        <p:blipFill>
          <a:blip r:embed="rId2"/>
          <a:stretch/>
        </p:blipFill>
        <p:spPr>
          <a:xfrm>
            <a:off x="6172200" y="1981080"/>
            <a:ext cx="2127240" cy="149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A4E996A-18F1-4ED6-97AE-6CBC2CAF99A6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 (cont’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ther governance characteristics: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government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lationships between firms and governmen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and stable shareholders who exert littl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bsence of external market for corpor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DAD72EC-9C7D-4D5B-8D3C-3559032F780C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Corporate Govern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rganizations worldwide are adopting a relatively uniform governance structure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of directors are becoming smaller, with more independent and outsid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s are becoming more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apidly developing market economies, minority shareholder rights are not protected by adequate governanc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4EF8D71-0724-4A43-B2F7-B2F79C95CA46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566640" y="4716360"/>
            <a:ext cx="2584440" cy="846360"/>
            <a:chOff x="566640" y="4716360"/>
            <a:chExt cx="2584440" cy="846360"/>
          </a:xfrm>
        </p:grpSpPr>
        <p:sp>
          <p:nvSpPr>
            <p:cNvPr id="347" name="Rectangle 5"/>
            <p:cNvSpPr/>
            <p:nvPr/>
          </p:nvSpPr>
          <p:spPr>
            <a:xfrm>
              <a:off x="566640" y="471636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"/>
            <p:cNvSpPr/>
            <p:nvPr/>
          </p:nvSpPr>
          <p:spPr>
            <a:xfrm>
              <a:off x="619200" y="47743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7"/>
          <p:cNvGrpSpPr/>
          <p:nvPr/>
        </p:nvGrpSpPr>
        <p:grpSpPr>
          <a:xfrm>
            <a:off x="566640" y="3835440"/>
            <a:ext cx="2584440" cy="846000"/>
            <a:chOff x="566640" y="3835440"/>
            <a:chExt cx="2584440" cy="846000"/>
          </a:xfrm>
        </p:grpSpPr>
        <p:sp>
          <p:nvSpPr>
            <p:cNvPr id="350" name="Rectangle 8"/>
            <p:cNvSpPr/>
            <p:nvPr/>
          </p:nvSpPr>
          <p:spPr>
            <a:xfrm>
              <a:off x="566640" y="38354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9"/>
            <p:cNvSpPr/>
            <p:nvPr/>
          </p:nvSpPr>
          <p:spPr>
            <a:xfrm>
              <a:off x="625320" y="38890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Ethical Behavio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0"/>
          <p:cNvSpPr/>
          <p:nvPr/>
        </p:nvSpPr>
        <p:spPr>
          <a:xfrm>
            <a:off x="3530520" y="3033720"/>
            <a:ext cx="51055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hareholders (in the capital market stakeholder group) are viewed as the most important stakehold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focus of governance mechanisms is on the control of managerial decisions to assure shareholder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rests of shareholders is served by the Board of Dire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32"/>
          <p:cNvSpPr/>
          <p:nvPr/>
        </p:nvSpPr>
        <p:spPr>
          <a:xfrm>
            <a:off x="3124080" y="302256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18"/>
                </a:lnTo>
                <a:cubicBezTo>
                  <a:pt x="10800" y="2929"/>
                  <a:pt x="5400" y="2940"/>
                  <a:pt x="0" y="2940"/>
                </a:cubicBezTo>
                <a:cubicBezTo>
                  <a:pt x="5400" y="2940"/>
                  <a:pt x="10800" y="2951"/>
                  <a:pt x="10800" y="296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565200" y="2963880"/>
            <a:ext cx="2584440" cy="846000"/>
            <a:chOff x="565200" y="2963880"/>
            <a:chExt cx="2584440" cy="846000"/>
          </a:xfrm>
        </p:grpSpPr>
        <p:sp>
          <p:nvSpPr>
            <p:cNvPr id="357" name="Rectangle 11"/>
            <p:cNvSpPr/>
            <p:nvPr/>
          </p:nvSpPr>
          <p:spPr>
            <a:xfrm>
              <a:off x="565200" y="29638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623880" y="30178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9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79FD048-844C-4216-A2F3-22F100EB1785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66640" y="4718160"/>
            <a:ext cx="2584440" cy="846000"/>
            <a:chOff x="566640" y="4718160"/>
            <a:chExt cx="2584440" cy="846000"/>
          </a:xfrm>
        </p:grpSpPr>
        <p:sp>
          <p:nvSpPr>
            <p:cNvPr id="362" name="Rectangle 5"/>
            <p:cNvSpPr/>
            <p:nvPr/>
          </p:nvSpPr>
          <p:spPr>
            <a:xfrm>
              <a:off x="566640" y="471816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619200" y="47761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7"/>
          <p:cNvGrpSpPr/>
          <p:nvPr/>
        </p:nvGrpSpPr>
        <p:grpSpPr>
          <a:xfrm>
            <a:off x="566640" y="3833640"/>
            <a:ext cx="2584440" cy="846360"/>
            <a:chOff x="566640" y="3833640"/>
            <a:chExt cx="2584440" cy="846360"/>
          </a:xfrm>
        </p:grpSpPr>
        <p:sp>
          <p:nvSpPr>
            <p:cNvPr id="365" name="Rectangle 8"/>
            <p:cNvSpPr/>
            <p:nvPr/>
          </p:nvSpPr>
          <p:spPr>
            <a:xfrm>
              <a:off x="566640" y="383364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625320" y="38872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0"/>
          <p:cNvGrpSpPr/>
          <p:nvPr/>
        </p:nvGrpSpPr>
        <p:grpSpPr>
          <a:xfrm>
            <a:off x="565200" y="2959200"/>
            <a:ext cx="2584440" cy="846000"/>
            <a:chOff x="565200" y="2959200"/>
            <a:chExt cx="2584440" cy="846000"/>
          </a:xfrm>
        </p:grpSpPr>
        <p:sp>
          <p:nvSpPr>
            <p:cNvPr id="368" name="Rectangle 11"/>
            <p:cNvSpPr/>
            <p:nvPr/>
          </p:nvSpPr>
          <p:spPr>
            <a:xfrm>
              <a:off x="565200" y="295920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623880" y="301320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1" name="Rectangle 30"/>
          <p:cNvSpPr/>
          <p:nvPr/>
        </p:nvSpPr>
        <p:spPr>
          <a:xfrm>
            <a:off x="3505320" y="3040200"/>
            <a:ext cx="49528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duct market stakeholders (customers, suppliers and host communities) and organizational stakeholders may withdraw their support of the firm if their needs are not met, at least minim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32"/>
          <p:cNvSpPr/>
          <p:nvPr/>
        </p:nvSpPr>
        <p:spPr>
          <a:xfrm>
            <a:off x="3124080" y="2997360"/>
            <a:ext cx="609840" cy="2082600"/>
          </a:xfrm>
          <a:custGeom>
            <a:avLst/>
            <a:gdLst>
              <a:gd name="textAreaLeft" fmla="*/ 389520 w 609840"/>
              <a:gd name="textAreaRight" fmla="*/ 610200 w 609840"/>
              <a:gd name="textAreaTop" fmla="*/ 360 h 2082600"/>
              <a:gd name="textAreaBottom" fmla="*/ 2082240 h 20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3001"/>
                </a:lnTo>
                <a:cubicBezTo>
                  <a:pt x="10800" y="13012"/>
                  <a:pt x="5400" y="13023"/>
                  <a:pt x="0" y="13023"/>
                </a:cubicBezTo>
                <a:cubicBezTo>
                  <a:pt x="5400" y="13023"/>
                  <a:pt x="10800" y="13034"/>
                  <a:pt x="10800" y="130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2BED637-4986-4C05-AAE7-E82B38DDEBF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32"/>
          <p:cNvSpPr/>
          <p:nvPr/>
        </p:nvSpPr>
        <p:spPr>
          <a:xfrm>
            <a:off x="3124080" y="297180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6703"/>
                </a:lnTo>
                <a:cubicBezTo>
                  <a:pt x="10800" y="16714"/>
                  <a:pt x="5400" y="16725"/>
                  <a:pt x="0" y="16725"/>
                </a:cubicBezTo>
                <a:cubicBezTo>
                  <a:pt x="5400" y="16725"/>
                  <a:pt x="10800" y="16736"/>
                  <a:pt x="10800" y="16747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"/>
          <p:cNvGrpSpPr/>
          <p:nvPr/>
        </p:nvGrpSpPr>
        <p:grpSpPr>
          <a:xfrm>
            <a:off x="566640" y="3822840"/>
            <a:ext cx="2584440" cy="846000"/>
            <a:chOff x="566640" y="3822840"/>
            <a:chExt cx="2584440" cy="846000"/>
          </a:xfrm>
        </p:grpSpPr>
        <p:sp>
          <p:nvSpPr>
            <p:cNvPr id="378" name="Rectangle 8"/>
            <p:cNvSpPr/>
            <p:nvPr/>
          </p:nvSpPr>
          <p:spPr>
            <a:xfrm>
              <a:off x="566640" y="38228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>
              <a:off x="625320" y="38764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4"/>
          <p:cNvGrpSpPr/>
          <p:nvPr/>
        </p:nvGrpSpPr>
        <p:grpSpPr>
          <a:xfrm>
            <a:off x="566640" y="4710240"/>
            <a:ext cx="2584440" cy="846000"/>
            <a:chOff x="566640" y="4710240"/>
            <a:chExt cx="2584440" cy="846000"/>
          </a:xfrm>
        </p:grpSpPr>
        <p:sp>
          <p:nvSpPr>
            <p:cNvPr id="381" name="Rectangle 5"/>
            <p:cNvSpPr/>
            <p:nvPr/>
          </p:nvSpPr>
          <p:spPr>
            <a:xfrm>
              <a:off x="566640" y="47102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619200" y="476820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0"/>
          <p:cNvGrpSpPr/>
          <p:nvPr/>
        </p:nvGrpSpPr>
        <p:grpSpPr>
          <a:xfrm>
            <a:off x="565200" y="2951280"/>
            <a:ext cx="2584440" cy="846000"/>
            <a:chOff x="565200" y="2951280"/>
            <a:chExt cx="2584440" cy="846000"/>
          </a:xfrm>
        </p:grpSpPr>
        <p:sp>
          <p:nvSpPr>
            <p:cNvPr id="384" name="Rectangle 11"/>
            <p:cNvSpPr/>
            <p:nvPr/>
          </p:nvSpPr>
          <p:spPr>
            <a:xfrm>
              <a:off x="565200" y="29512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623880" y="30052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7" name="Text Box 29"/>
          <p:cNvSpPr/>
          <p:nvPr/>
        </p:nvSpPr>
        <p:spPr>
          <a:xfrm>
            <a:off x="1790640" y="1905120"/>
            <a:ext cx="5562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505320" y="3014640"/>
            <a:ext cx="49528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ome observers believe that ethically responsible companies design and use governance mechanisms that serve all stakeholders’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mportance of maintaining ethical behavior is seen in the examples of Enron, WorldCom, HealthSouth and Ty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37F7BA6-1584-4CCD-9D73-65A3A842725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governance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relationship among stakeholders that is used to determine and control the strategic direction and performance of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identifying ways to ensure that strategic decisions are made more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ed in corporations to establish order between the firm’s owners and its top-level managers whose interests may be in confli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4FF7D8E-6D74-4E5F-A5D8-7F99E5522B2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92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ship Concent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s responsible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representing the firm’s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s by monitoring top-level managers’ strategic dec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6" name="Picture 27" descr="j0090344"/>
          <p:cNvPicPr/>
          <p:nvPr/>
        </p:nvPicPr>
        <p:blipFill>
          <a:blip r:embed="rId1"/>
          <a:stretch/>
        </p:blipFill>
        <p:spPr>
          <a:xfrm>
            <a:off x="5486400" y="2401920"/>
            <a:ext cx="2801880" cy="209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0E401F2-28A5-43ED-8360-133CED1C932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ecutive Compens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use of salary, bonuses, and long-term incentives to align managers’ interests with shareholders’ intere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for Corporate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purchase of a firm that is underperforming relative to industry rivals in order to improve its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1" name="Picture 29" descr="j0215564"/>
          <p:cNvPicPr/>
          <p:nvPr/>
        </p:nvPicPr>
        <p:blipFill>
          <a:blip r:embed="rId1"/>
          <a:stretch/>
        </p:blipFill>
        <p:spPr>
          <a:xfrm>
            <a:off x="5791320" y="2009880"/>
            <a:ext cx="2879640" cy="28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Marcador de pie de página 4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Marcador de número de diapositiva 5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694F1A02-C3DE-4F39-A93E-FC3781BD6B6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paration of Ownership and Managerial Contro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asis of the modern corpo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purchase stock, becoming residual claiman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reduce risk by holding diversified portfolio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fessional managers are contracted to provide decision making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odern public corporation form leads to efficient specialization of tas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isk bearing by sharehold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y development and decision making by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F239AFB-8347-46A2-8063-700FA4D7DF11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gency Relationship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0" name="Freeform 4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32" name="Line 6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12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53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F4A070B-5E18-4FB6-B8AD-5CDA87BC4805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Relationship Proble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ncipal and agent have divergent interests and goa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s lack direct control of large, publicly trad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makes decisions that result in the pursuit of goals that conflict with those of the princip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 is difficult or expensive for the principal to verify that the agent has behaved appropriate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falls prey to managerial opportunis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6:39:10Z</dcterms:created>
  <dc:creator>Charlie Cook, The University of West Alabama</dc:creator>
  <dc:description/>
  <dc:language>en-US</dc:language>
  <cp:lastModifiedBy>Luis Zaviezo</cp:lastModifiedBy>
  <dcterms:modified xsi:type="dcterms:W3CDTF">2010-11-08T16:49:52Z</dcterms:modified>
  <cp:revision>47</cp:revision>
  <dc:subject>Chapter 10</dc:subject>
  <dc:title>Strategic Management 7e.</dc:title>
</cp:coreProperties>
</file>