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move the slid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F3D6-592C-4237-9A7B-DD088A53D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8F0E-A47E-403B-AD1C-B7CF3ADA5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29E9-5B78-454A-9744-EA5D7F80D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CDA3-C5A2-43A4-A5A5-FB2C31040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561D-3383-47D4-8A12-3D68ECB03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DD11-CAB5-48AA-AFEA-7CB7DE715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6A0C-96C5-420E-8BF1-70C8D0FC2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4BB2-2616-45BC-A8C0-444CC409B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931C-6D9F-4E35-B423-00D37B9CD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B0D2-2462-473A-AEE1-13ED12156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511D-D9CC-42AC-8460-841CF827D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EA10-E02A-4FFC-A57B-1392910C5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BBE5-2531-43BC-955D-29FEAF05B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AB13-9BB7-428F-B30C-E4A41458B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F685-B2D7-49D6-8FEE-C43B38757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5B8F-CDAC-4009-8C3D-7EDB1CC47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24AC-01B3-4741-AF9D-1B670E097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E6F8-F40E-4CC2-90CB-A63B3CBFD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47AB-8821-4ABC-8D06-2D0DD1303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7B53-F3C4-478B-B52C-ED70DF1FF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B18D-0B34-4376-9C49-72C22EE80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E44B-56E4-4B78-A481-32FD26D59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9674-EC37-4694-9E7B-F36EA3DC7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4121-9FF8-4D8F-98FC-8A283BE7E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A61F-9E3B-4C29-96F4-A0E0B1675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6224-54C8-47B2-8837-B5B49C4CC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4F8E-3CB0-4912-ACB5-CD6280038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923D-56BD-4C5A-BE91-1C27D7FEB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39CA-4A80-45C0-B72B-1FEE13962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2871-01CC-4725-BAE1-74568091B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5095-E94D-4D00-BB0E-02AC7B88A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E94F-8752-4BAA-90C6-1EB4E3A36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73B0-5533-4F90-8D4A-F68A9A12F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E071-73F3-4AE2-9C07-50CD94DC0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F3C6-2EFE-4ABE-AE48-ECF404F7A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3C1A-4D49-48CF-947F-DE61E3888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BC6F-64C0-46A7-9FAF-CC0982321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F3979-2F39-476B-BE3B-10B629237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B2BA6-8969-46E7-A891-8EF6D7B27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485EC-C29C-40BE-94CF-E8B290467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F2BEE-A80A-48C7-98CA-039A1614D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A0782-4535-4E1A-AF8E-3D3CF8FC3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D6598-FDC9-4C34-A887-BCBF3FADE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DBBA9-0933-443D-A163-341D10E36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CE325-BDBC-4521-BCC5-0D7C5F26F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9861E-BC87-4DFD-8660-5F83D3A27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DDC7D-469C-44AC-93E4-4D2A1C420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007FC-B4FF-4ADD-B207-DDB694A03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86A53-4CBC-42C9-BA40-6E1907B9B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–</a:t>
            </a:r>
            <a:fld id="{A08C7B00-CB15-4350-8481-3869A060D91F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2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Line 13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4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0492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00400" y="2646360"/>
            <a:ext cx="556272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0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 Governance</a:t>
            </a:r>
            <a:endParaRPr b="0" lang="en-US" sz="3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24230D7F-3E7C-4AFC-9E32-DD1661DB023A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eking of self-interest with guile (cunning or deceit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attitude (inclination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behaviors (specific acts of self-interes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prevents the maximization of shareholder wealth (the primary goal of owner/principals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2AD6FC1-F3D3-43AD-9910-DBCC524788BA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ponse to 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do not know beforehand which agents will or will not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us, principals establish governance and control mechanisms to prevent managerial opportunis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C1B65849-4BA9-4416-AF22-146D6501A7D3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amples of the Agency Proble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roblem of Product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size, and the relationship of size to managerial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tion of managerial employment ris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Free Cash Flow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prefer to invest these funds in additional product diversification (see above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areholders prefer the funds as dividends so they control how the funds are inves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8A99E54-54B6-4117-9464-5F5C4B2888C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495360"/>
            <a:ext cx="7934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 and Shareholder Risk and Diversification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457200" y="457200"/>
            <a:ext cx="8229600" cy="466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6" name="Line 5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6715440" cy="4915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8763B6B-A751-4D28-93C5-F3D864B9FD7A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gency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m of incentive costs, monitoring costs, enforcement costs, and individual financial losses incurred by principals, because governance mechanisms cannot guarantee total compliance by the ag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may engage in monitoring behavior to assess the activities and decisions of manag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dispersed shareholding makes it difficult and inefficient to monitor management’s behavi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97ECD507-B9AD-47EF-877A-5620800BD5F8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s of Directors have a fiduciary duty to shareholders to monitor managem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Boards of Directors are often accused of being lax in performing this func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23417A0-B325-4005-AADD-04958E21BB88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606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 Governance Mechanism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1327320"/>
            <a:ext cx="830556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Governance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ship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s responsible for representing the firm’s owners by monitoring top-level managers’ strategic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cutiv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alary, bonuses, and long-term incentives to align managers’ interests with shareholders’ interes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Governance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for Corpora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chase of a company that is underperforming relative to industry rivals in order to improve the firm’s strategic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03A1F3F9-3CC5-4C08-A693-1D6149BC03EA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3200400" y="1314360"/>
            <a:ext cx="990720" cy="44053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405320"/>
              <a:gd name="textAreaBottom" fmla="*/ 4404240 h 44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727"/>
                </a:lnTo>
                <a:cubicBezTo>
                  <a:pt x="10800" y="2738"/>
                  <a:pt x="5400" y="2749"/>
                  <a:pt x="0" y="2749"/>
                </a:cubicBezTo>
                <a:cubicBezTo>
                  <a:pt x="5400" y="2749"/>
                  <a:pt x="10800" y="2760"/>
                  <a:pt x="10800" y="277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77840" y="1330200"/>
            <a:ext cx="4908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arge block shareholders have a strong incentive to monitor management closely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ir large stakes make it worth their while to spend time, effort and expense to monitor clos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y may also obtain Board seats which enhances their ability to monitor effectiv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nancial institutions are legally forbidden from directly holding board sea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77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AC7E94E-F637-48A4-9B29-A7D2BC63D2BA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3200400" y="1386000"/>
            <a:ext cx="990720" cy="3186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20 h 3186000"/>
              <a:gd name="textAreaBottom" fmla="*/ 3185280 h 31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3530"/>
                </a:lnTo>
                <a:cubicBezTo>
                  <a:pt x="10800" y="3541"/>
                  <a:pt x="5400" y="3552"/>
                  <a:pt x="0" y="3552"/>
                </a:cubicBezTo>
                <a:cubicBezTo>
                  <a:pt x="5400" y="3552"/>
                  <a:pt x="10800" y="3563"/>
                  <a:pt x="10800" y="357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77840" y="1455840"/>
            <a:ext cx="490860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increasing influence of institutional owners (stock mutual funds and pension funds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Have the size (proxy voting power) and incentive (demand for returns to funds) to discipline ineffective top-level manag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an affect the firm’s choice of strategi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5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14A939C-DC8D-4F6F-9805-49E5EE21EF83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"/>
          <p:cNvSpPr/>
          <p:nvPr/>
        </p:nvSpPr>
        <p:spPr>
          <a:xfrm>
            <a:off x="3200400" y="1386000"/>
            <a:ext cx="990720" cy="3871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871800"/>
              <a:gd name="textAreaBottom" fmla="*/ 3870720 h 38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01"/>
                </a:lnTo>
                <a:cubicBezTo>
                  <a:pt x="10800" y="2912"/>
                  <a:pt x="5400" y="2923"/>
                  <a:pt x="0" y="2923"/>
                </a:cubicBezTo>
                <a:cubicBezTo>
                  <a:pt x="5400" y="2923"/>
                  <a:pt x="10800" y="2934"/>
                  <a:pt x="10800" y="29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777840" y="1452240"/>
            <a:ext cx="49086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 activism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can convene to discuss corporation’s directio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f a consensus exists, shareholders can vote as a block to elect their candidates to the boar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xy figh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re are limits on shareholder activism available to institutional owners in responding to activists’ tactic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9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B65DE3D-F3E1-4F6C-9372-D8C90D384FF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rporate governance and explain why it is used to monitor and contro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ownership has been largely separated from managerial control in the modern corpora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 agency relationship and managerial opportunism and describe their strategic implic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hree internal governance mechanisms—ownership concentration, the board of directors, and executive compensation—are used to monitor and control managerial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405C3D53-8309-4B6F-B4B7-215899BE5E2C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3200400" y="1386000"/>
            <a:ext cx="990720" cy="402408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024080"/>
              <a:gd name="textAreaBottom" fmla="*/ 4023000 h 40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226"/>
                </a:lnTo>
                <a:cubicBezTo>
                  <a:pt x="10800" y="8237"/>
                  <a:pt x="5400" y="8248"/>
                  <a:pt x="0" y="8248"/>
                </a:cubicBezTo>
                <a:cubicBezTo>
                  <a:pt x="5400" y="8248"/>
                  <a:pt x="10800" y="8259"/>
                  <a:pt x="10800" y="8270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952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Group of elected individuals that acts in the owners’ interests to formally monitor and control the firm’s top-level execu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has the power to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rect the affairs of the organiz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unish and reward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tect owners from managerial opportunis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01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04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2E7D9FF-DC5D-4F93-9668-7A7364FE217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3200400" y="1386000"/>
            <a:ext cx="990720" cy="34909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490920"/>
              <a:gd name="textAreaBottom" fmla="*/ 3489840 h 34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9575"/>
                </a:lnTo>
                <a:cubicBezTo>
                  <a:pt x="10800" y="9586"/>
                  <a:pt x="5400" y="9597"/>
                  <a:pt x="0" y="9597"/>
                </a:cubicBezTo>
                <a:cubicBezTo>
                  <a:pt x="5400" y="9597"/>
                  <a:pt x="10800" y="9608"/>
                  <a:pt x="10800" y="9619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osition of Board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the firm’s CEO and other top-level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lated 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uninvolved with day-to-day operations, but who have a relationship with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who are independent of the firm’s day-to-day operations and other relationship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12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15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AE3A333-B1AC-49EB-84DA-15D54F1B50F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741"/>
                </a:lnTo>
                <a:cubicBezTo>
                  <a:pt x="10800" y="8752"/>
                  <a:pt x="5400" y="8763"/>
                  <a:pt x="0" y="8763"/>
                </a:cubicBezTo>
                <a:cubicBezTo>
                  <a:pt x="5400" y="8763"/>
                  <a:pt x="10800" y="8774"/>
                  <a:pt x="10800" y="878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iticisms of Boards of Directors includ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oo readily approve managers’ self-serving initia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exploited by managers with personal ties to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not vigilant enough in hiring and monitoring CEO behavio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ack of agreement about the number of and most appropriate role of outside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2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2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26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F5BDC5E0-1ECF-4AB9-A744-3DBDBD9C99D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368"/>
                </a:lnTo>
                <a:cubicBezTo>
                  <a:pt x="10800" y="8379"/>
                  <a:pt x="5400" y="8390"/>
                  <a:pt x="0" y="8390"/>
                </a:cubicBezTo>
                <a:cubicBezTo>
                  <a:pt x="5400" y="8390"/>
                  <a:pt x="10800" y="8401"/>
                  <a:pt x="10800" y="841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hancing the effectiveness of boards and director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diversity in the backgrounds of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onger internal management and accounting control system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formal processes to evaluate the board’s performan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dopting a “lead director” rol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compensation of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33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34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37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5E1E5296-6047-425A-9CDF-C31B233F5C8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"/>
          <p:cNvSpPr/>
          <p:nvPr/>
        </p:nvSpPr>
        <p:spPr>
          <a:xfrm>
            <a:off x="3200400" y="1386000"/>
            <a:ext cx="990720" cy="45576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440 h 4557600"/>
              <a:gd name="textAreaBottom" fmla="*/ 4556160 h 45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2399"/>
                </a:lnTo>
                <a:cubicBezTo>
                  <a:pt x="10800" y="12410"/>
                  <a:pt x="5400" y="12421"/>
                  <a:pt x="0" y="12421"/>
                </a:cubicBezTo>
                <a:cubicBezTo>
                  <a:pt x="5400" y="12421"/>
                  <a:pt x="10800" y="12432"/>
                  <a:pt x="10800" y="1244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orms of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alaries, bonuses, long-term performance incentives, stock awards,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actors complicating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ic decisions by top-level managers are complex, non-routine and affect the firm over an extended perio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ther variables affecting the firm’s performance over tim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45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48" name="Rectangle 12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51" name="Rectangle 15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6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53804B82-6B55-4E6D-A327-390635D3F8B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"/>
          <p:cNvSpPr/>
          <p:nvPr/>
        </p:nvSpPr>
        <p:spPr>
          <a:xfrm>
            <a:off x="3200400" y="1386000"/>
            <a:ext cx="990720" cy="37195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19520"/>
              <a:gd name="textAreaBottom" fmla="*/ 3718440 h 37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5060"/>
                </a:lnTo>
                <a:cubicBezTo>
                  <a:pt x="10800" y="15071"/>
                  <a:pt x="5400" y="15082"/>
                  <a:pt x="0" y="15082"/>
                </a:cubicBezTo>
                <a:cubicBezTo>
                  <a:pt x="5400" y="15082"/>
                  <a:pt x="10800" y="15093"/>
                  <a:pt x="10800" y="1510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imits on the effectiveness of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ntended consequences of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irm performance not as important than firm siz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lance sheet not showing executive wealth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ptions not expensed at the time they are awarded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58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59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62" name="Rectangle 15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65" name="Rectangle 18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9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FE800D36-B234-47D9-AE62-C1E39298816F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200400" y="1690560"/>
            <a:ext cx="990720" cy="37958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95840"/>
              <a:gd name="textAreaBottom" fmla="*/ 3794760 h 37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877"/>
                </a:lnTo>
                <a:cubicBezTo>
                  <a:pt x="10800" y="18888"/>
                  <a:pt x="5400" y="18899"/>
                  <a:pt x="0" y="18899"/>
                </a:cubicBezTo>
                <a:cubicBezTo>
                  <a:pt x="5400" y="18899"/>
                  <a:pt x="10800" y="18910"/>
                  <a:pt x="10800" y="1892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62000" y="175248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ividuals and firms buy or take over undervalu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effective managers are usually replaced in such takeov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reat of takeover may lead firm to operate more efficient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hanges in regulations have made hostile takeovers difficul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7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7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4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76" name="Rectangle 15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7c9496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d5c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20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79" name="Rectangle 21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2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23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82" name="Rectangle 24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5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52C6308-AF99-414F-9C0B-0C0B822973B4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3200400" y="1512720"/>
            <a:ext cx="990720" cy="42530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253040"/>
              <a:gd name="textAreaBottom" fmla="*/ 4251960 h 42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079"/>
                </a:lnTo>
                <a:cubicBezTo>
                  <a:pt x="10800" y="18090"/>
                  <a:pt x="5400" y="18101"/>
                  <a:pt x="0" y="18101"/>
                </a:cubicBezTo>
                <a:cubicBezTo>
                  <a:pt x="5400" y="18101"/>
                  <a:pt x="10800" y="18112"/>
                  <a:pt x="10800" y="1812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733920" y="1523520"/>
            <a:ext cx="4876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nagerial defense tactics increase the costs of mounting a takeov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fense tactics may requi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sset restructuring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the financial structure of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 approv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rket for corporate control lacks the precision of internal governance mechanis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9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90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1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93" name="Rectangle 12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3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4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96" name="Rectangle 15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6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7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99" name="Rectangle 18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9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3127AF93-C00E-44EB-B0DC-EF7AD754C10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441360"/>
            <a:ext cx="8381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2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209520" y="1251000"/>
            <a:ext cx="8782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Defense strateg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ategor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Popularit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ffectivenes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tockholder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mong firm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s a defense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wealth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son p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char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end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den parachu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ig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ma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st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struct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nclus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96360" y="6313320"/>
            <a:ext cx="768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. A. Pearce II &amp; R. B. Robinson, Jr., 2004, Hostile takeover defenses that maximize shareholder wealth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Business Horiz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7(5): 15–2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D8804244-AFE5-42E4-ACDC-0BC82C9BA0F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 and manager are often the same in private fir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ublic firms often have a dominant shareholder, frequently a ban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requently there is less emphasis on shareholder value than in U.S. firms, although this may be chang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10" name="Picture 4" descr="j0234757"/>
          <p:cNvPicPr/>
          <p:nvPr/>
        </p:nvPicPr>
        <p:blipFill>
          <a:blip r:embed="rId1"/>
          <a:stretch/>
        </p:blipFill>
        <p:spPr>
          <a:xfrm>
            <a:off x="5888160" y="4038480"/>
            <a:ext cx="1655640" cy="19051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csuj_3zz[1]"/>
          <p:cNvPicPr/>
          <p:nvPr/>
        </p:nvPicPr>
        <p:blipFill>
          <a:blip r:embed="rId2"/>
          <a:stretch/>
        </p:blipFill>
        <p:spPr>
          <a:xfrm>
            <a:off x="6324480" y="2819520"/>
            <a:ext cx="2286000" cy="137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9C3EF964-DCED-4402-B540-CC7A74AA7662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types of compensation executives receive and their effects on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external corporate governance mechanism—the market for corporate control—acts as a restraint on top-leve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 governance in international settings, in particular in Germany and Japa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rporate governance fosters ethical strategic decisions and the importance of such behaviors on the part of top-level executiv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6DBEE4B-F950-42D1-9477-0A1240BEAF3C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4006800" y="225252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the functions of direction and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4006800" y="34718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Vo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006800" y="49370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Aufsichts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1301760" y="2057400"/>
            <a:ext cx="2482560" cy="1033200"/>
            <a:chOff x="1301760" y="2057400"/>
            <a:chExt cx="2482560" cy="1033200"/>
          </a:xfrm>
        </p:grpSpPr>
        <p:sp>
          <p:nvSpPr>
            <p:cNvPr id="319" name="Rectangle 7"/>
            <p:cNvSpPr/>
            <p:nvPr/>
          </p:nvSpPr>
          <p:spPr>
            <a:xfrm>
              <a:off x="1301760" y="2057400"/>
              <a:ext cx="2482560" cy="10332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8"/>
            <p:cNvSpPr/>
            <p:nvPr/>
          </p:nvSpPr>
          <p:spPr>
            <a:xfrm>
              <a:off x="1361880" y="2125440"/>
              <a:ext cx="2327400" cy="89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orst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9"/>
          <p:cNvGrpSpPr/>
          <p:nvPr/>
        </p:nvGrpSpPr>
        <p:grpSpPr>
          <a:xfrm>
            <a:off x="1301760" y="3352680"/>
            <a:ext cx="2482920" cy="1033200"/>
            <a:chOff x="1301760" y="3352680"/>
            <a:chExt cx="2482920" cy="1033200"/>
          </a:xfrm>
        </p:grpSpPr>
        <p:sp>
          <p:nvSpPr>
            <p:cNvPr id="322" name="Rectangle 10"/>
            <p:cNvSpPr/>
            <p:nvPr/>
          </p:nvSpPr>
          <p:spPr>
            <a:xfrm>
              <a:off x="1301760" y="3352680"/>
              <a:ext cx="2482920" cy="1033200"/>
            </a:xfrm>
            <a:prstGeom prst="rect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1362240" y="3420720"/>
              <a:ext cx="2327040" cy="8971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ufsichtsr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2"/>
          <p:cNvGrpSpPr/>
          <p:nvPr/>
        </p:nvGrpSpPr>
        <p:grpSpPr>
          <a:xfrm>
            <a:off x="1300320" y="4627440"/>
            <a:ext cx="2495520" cy="1359000"/>
            <a:chOff x="1300320" y="4627440"/>
            <a:chExt cx="2495520" cy="1359000"/>
          </a:xfrm>
        </p:grpSpPr>
        <p:sp>
          <p:nvSpPr>
            <p:cNvPr id="325" name="Rectangle 13"/>
            <p:cNvSpPr/>
            <p:nvPr/>
          </p:nvSpPr>
          <p:spPr>
            <a:xfrm>
              <a:off x="1300320" y="4627440"/>
              <a:ext cx="2495520" cy="1359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4"/>
            <p:cNvSpPr/>
            <p:nvPr/>
          </p:nvSpPr>
          <p:spPr>
            <a:xfrm>
              <a:off x="1377720" y="4802400"/>
              <a:ext cx="2340000" cy="10087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mbers Shar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7" name="AutoShape 15"/>
          <p:cNvCxnSpPr>
            <a:stCxn id="325" idx="0"/>
            <a:endCxn id="322" idx="2"/>
          </p:cNvCxnSpPr>
          <p:nvPr/>
        </p:nvCxnSpPr>
        <p:spPr>
          <a:xfrm flipH="1" flipV="1">
            <a:off x="2542680" y="4385880"/>
            <a:ext cx="576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328" name="AutoShape 16"/>
          <p:cNvCxnSpPr>
            <a:stCxn id="322" idx="0"/>
            <a:endCxn id="319" idx="2"/>
          </p:cNvCxnSpPr>
          <p:nvPr/>
        </p:nvCxnSpPr>
        <p:spPr>
          <a:xfrm flipV="1">
            <a:off x="2542680" y="3090600"/>
            <a:ext cx="1080" cy="26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329" name="Text Box 17"/>
          <p:cNvSpPr/>
          <p:nvPr/>
        </p:nvSpPr>
        <p:spPr>
          <a:xfrm>
            <a:off x="195264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Germany: Two-tiered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51DC9CD0-3A4F-4EE7-BB75-2BFD324E78E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j0090245"/>
          <p:cNvPicPr/>
          <p:nvPr/>
        </p:nvPicPr>
        <p:blipFill>
          <a:blip r:embed="rId1"/>
          <a:stretch/>
        </p:blipFill>
        <p:spPr>
          <a:xfrm>
            <a:off x="6864480" y="3352680"/>
            <a:ext cx="1670040" cy="17049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956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governance factor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iretsus: strongly interrelated groups of firms tied together by cross-shareholding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nks (especially “main bank”) are highly influential with firm’s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35" name="Picture 5" descr="v0igzx1j[1]"/>
          <p:cNvPicPr/>
          <p:nvPr/>
        </p:nvPicPr>
        <p:blipFill>
          <a:blip r:embed="rId2"/>
          <a:stretch/>
        </p:blipFill>
        <p:spPr>
          <a:xfrm>
            <a:off x="6172200" y="1981080"/>
            <a:ext cx="2127240" cy="1495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0E4E6C5-ED25-43F2-807C-D5988747C4EF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 (cont’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ther governance characteristics: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government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lationships between firms and governmen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and stable shareholders who exert littl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bsence of external market for corpor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9E9E69DA-9662-4531-B773-5F8526CE622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Corporate Govern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rganizations worldwide are adopting a relatively uniform governance structure.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of directors are becoming smaller, with more independent and outsid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s are becoming more 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apidly developing market economies, minority shareholder rights are not protected by adequate governance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9E7D71B0-B08B-47B0-BD0E-77F22F09DDB4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566640" y="4716360"/>
            <a:ext cx="2584440" cy="846360"/>
            <a:chOff x="566640" y="4716360"/>
            <a:chExt cx="2584440" cy="846360"/>
          </a:xfrm>
        </p:grpSpPr>
        <p:sp>
          <p:nvSpPr>
            <p:cNvPr id="347" name="Rectangle 5"/>
            <p:cNvSpPr/>
            <p:nvPr/>
          </p:nvSpPr>
          <p:spPr>
            <a:xfrm>
              <a:off x="566640" y="471636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6"/>
            <p:cNvSpPr/>
            <p:nvPr/>
          </p:nvSpPr>
          <p:spPr>
            <a:xfrm>
              <a:off x="619200" y="47743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7"/>
          <p:cNvGrpSpPr/>
          <p:nvPr/>
        </p:nvGrpSpPr>
        <p:grpSpPr>
          <a:xfrm>
            <a:off x="566640" y="3835440"/>
            <a:ext cx="2584440" cy="846000"/>
            <a:chOff x="566640" y="3835440"/>
            <a:chExt cx="2584440" cy="846000"/>
          </a:xfrm>
        </p:grpSpPr>
        <p:sp>
          <p:nvSpPr>
            <p:cNvPr id="350" name="Rectangle 8"/>
            <p:cNvSpPr/>
            <p:nvPr/>
          </p:nvSpPr>
          <p:spPr>
            <a:xfrm>
              <a:off x="566640" y="38354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9"/>
            <p:cNvSpPr/>
            <p:nvPr/>
          </p:nvSpPr>
          <p:spPr>
            <a:xfrm>
              <a:off x="625320" y="38890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5187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Ethical Behavio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0"/>
          <p:cNvSpPr/>
          <p:nvPr/>
        </p:nvSpPr>
        <p:spPr>
          <a:xfrm>
            <a:off x="3530520" y="3033720"/>
            <a:ext cx="51055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hareholders (in the capital market stakeholder group) are viewed as the most important stakehold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focus of governance mechanisms is on the control of managerial decisions to assure shareholder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terests of shareholders is served by the Board of Dire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32"/>
          <p:cNvSpPr/>
          <p:nvPr/>
        </p:nvSpPr>
        <p:spPr>
          <a:xfrm>
            <a:off x="3124080" y="302256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18"/>
                </a:lnTo>
                <a:cubicBezTo>
                  <a:pt x="10800" y="2929"/>
                  <a:pt x="5400" y="2940"/>
                  <a:pt x="0" y="2940"/>
                </a:cubicBezTo>
                <a:cubicBezTo>
                  <a:pt x="5400" y="2940"/>
                  <a:pt x="10800" y="2951"/>
                  <a:pt x="10800" y="296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0"/>
          <p:cNvGrpSpPr/>
          <p:nvPr/>
        </p:nvGrpSpPr>
        <p:grpSpPr>
          <a:xfrm>
            <a:off x="565200" y="2963880"/>
            <a:ext cx="2584440" cy="846000"/>
            <a:chOff x="565200" y="2963880"/>
            <a:chExt cx="2584440" cy="846000"/>
          </a:xfrm>
        </p:grpSpPr>
        <p:sp>
          <p:nvSpPr>
            <p:cNvPr id="357" name="Rectangle 11"/>
            <p:cNvSpPr/>
            <p:nvPr/>
          </p:nvSpPr>
          <p:spPr>
            <a:xfrm>
              <a:off x="565200" y="29638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"/>
            <p:cNvSpPr/>
            <p:nvPr/>
          </p:nvSpPr>
          <p:spPr>
            <a:xfrm>
              <a:off x="623880" y="30178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500"/>
                            </p:stCondLst>
                            <p:childTnLst>
                              <p:par>
                                <p:cTn id="9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000"/>
                            </p:stCondLst>
                            <p:childTnLst>
                              <p:par>
                                <p:cTn id="9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500"/>
                            </p:stCondLst>
                            <p:childTnLst>
                              <p:par>
                                <p:cTn id="9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57305E5-1359-477D-9884-E43626ED654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66640" y="4718160"/>
            <a:ext cx="2584440" cy="846000"/>
            <a:chOff x="566640" y="4718160"/>
            <a:chExt cx="2584440" cy="846000"/>
          </a:xfrm>
        </p:grpSpPr>
        <p:sp>
          <p:nvSpPr>
            <p:cNvPr id="362" name="Rectangle 5"/>
            <p:cNvSpPr/>
            <p:nvPr/>
          </p:nvSpPr>
          <p:spPr>
            <a:xfrm>
              <a:off x="566640" y="471816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619200" y="47761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7"/>
          <p:cNvGrpSpPr/>
          <p:nvPr/>
        </p:nvGrpSpPr>
        <p:grpSpPr>
          <a:xfrm>
            <a:off x="566640" y="3833640"/>
            <a:ext cx="2584440" cy="846360"/>
            <a:chOff x="566640" y="3833640"/>
            <a:chExt cx="2584440" cy="846360"/>
          </a:xfrm>
        </p:grpSpPr>
        <p:sp>
          <p:nvSpPr>
            <p:cNvPr id="365" name="Rectangle 8"/>
            <p:cNvSpPr/>
            <p:nvPr/>
          </p:nvSpPr>
          <p:spPr>
            <a:xfrm>
              <a:off x="566640" y="383364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625320" y="38872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0"/>
          <p:cNvGrpSpPr/>
          <p:nvPr/>
        </p:nvGrpSpPr>
        <p:grpSpPr>
          <a:xfrm>
            <a:off x="565200" y="2959200"/>
            <a:ext cx="2584440" cy="846000"/>
            <a:chOff x="565200" y="2959200"/>
            <a:chExt cx="2584440" cy="846000"/>
          </a:xfrm>
        </p:grpSpPr>
        <p:sp>
          <p:nvSpPr>
            <p:cNvPr id="368" name="Rectangle 11"/>
            <p:cNvSpPr/>
            <p:nvPr/>
          </p:nvSpPr>
          <p:spPr>
            <a:xfrm>
              <a:off x="565200" y="295920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623880" y="301320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1" name="Rectangle 30"/>
          <p:cNvSpPr/>
          <p:nvPr/>
        </p:nvSpPr>
        <p:spPr>
          <a:xfrm>
            <a:off x="3505320" y="3040200"/>
            <a:ext cx="49528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duct market stakeholders (customers, suppliers and host communities) and organizational stakeholders may withdraw their support of the firm if their needs are not met, at least minim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32"/>
          <p:cNvSpPr/>
          <p:nvPr/>
        </p:nvSpPr>
        <p:spPr>
          <a:xfrm>
            <a:off x="3124080" y="2997360"/>
            <a:ext cx="609840" cy="2082600"/>
          </a:xfrm>
          <a:custGeom>
            <a:avLst/>
            <a:gdLst>
              <a:gd name="textAreaLeft" fmla="*/ 389520 w 609840"/>
              <a:gd name="textAreaRight" fmla="*/ 610200 w 609840"/>
              <a:gd name="textAreaTop" fmla="*/ 360 h 2082600"/>
              <a:gd name="textAreaBottom" fmla="*/ 2082240 h 208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3001"/>
                </a:lnTo>
                <a:cubicBezTo>
                  <a:pt x="10800" y="13012"/>
                  <a:pt x="5400" y="13023"/>
                  <a:pt x="0" y="13023"/>
                </a:cubicBezTo>
                <a:cubicBezTo>
                  <a:pt x="5400" y="13023"/>
                  <a:pt x="10800" y="13034"/>
                  <a:pt x="10800" y="130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0277F82D-BF2F-4302-85DB-635FA50F72A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32"/>
          <p:cNvSpPr/>
          <p:nvPr/>
        </p:nvSpPr>
        <p:spPr>
          <a:xfrm>
            <a:off x="3124080" y="297180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6703"/>
                </a:lnTo>
                <a:cubicBezTo>
                  <a:pt x="10800" y="16714"/>
                  <a:pt x="5400" y="16725"/>
                  <a:pt x="0" y="16725"/>
                </a:cubicBezTo>
                <a:cubicBezTo>
                  <a:pt x="5400" y="16725"/>
                  <a:pt x="10800" y="16736"/>
                  <a:pt x="10800" y="16747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7"/>
          <p:cNvGrpSpPr/>
          <p:nvPr/>
        </p:nvGrpSpPr>
        <p:grpSpPr>
          <a:xfrm>
            <a:off x="566640" y="3822840"/>
            <a:ext cx="2584440" cy="846000"/>
            <a:chOff x="566640" y="3822840"/>
            <a:chExt cx="2584440" cy="846000"/>
          </a:xfrm>
        </p:grpSpPr>
        <p:sp>
          <p:nvSpPr>
            <p:cNvPr id="378" name="Rectangle 8"/>
            <p:cNvSpPr/>
            <p:nvPr/>
          </p:nvSpPr>
          <p:spPr>
            <a:xfrm>
              <a:off x="566640" y="38228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9"/>
            <p:cNvSpPr/>
            <p:nvPr/>
          </p:nvSpPr>
          <p:spPr>
            <a:xfrm>
              <a:off x="625320" y="38764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4"/>
          <p:cNvGrpSpPr/>
          <p:nvPr/>
        </p:nvGrpSpPr>
        <p:grpSpPr>
          <a:xfrm>
            <a:off x="566640" y="4710240"/>
            <a:ext cx="2584440" cy="846000"/>
            <a:chOff x="566640" y="4710240"/>
            <a:chExt cx="2584440" cy="846000"/>
          </a:xfrm>
        </p:grpSpPr>
        <p:sp>
          <p:nvSpPr>
            <p:cNvPr id="381" name="Rectangle 5"/>
            <p:cNvSpPr/>
            <p:nvPr/>
          </p:nvSpPr>
          <p:spPr>
            <a:xfrm>
              <a:off x="566640" y="47102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619200" y="476820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0"/>
          <p:cNvGrpSpPr/>
          <p:nvPr/>
        </p:nvGrpSpPr>
        <p:grpSpPr>
          <a:xfrm>
            <a:off x="565200" y="2951280"/>
            <a:ext cx="2584440" cy="846000"/>
            <a:chOff x="565200" y="2951280"/>
            <a:chExt cx="2584440" cy="846000"/>
          </a:xfrm>
        </p:grpSpPr>
        <p:sp>
          <p:nvSpPr>
            <p:cNvPr id="384" name="Rectangle 11"/>
            <p:cNvSpPr/>
            <p:nvPr/>
          </p:nvSpPr>
          <p:spPr>
            <a:xfrm>
              <a:off x="565200" y="29512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623880" y="30052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7" name="Text Box 29"/>
          <p:cNvSpPr/>
          <p:nvPr/>
        </p:nvSpPr>
        <p:spPr>
          <a:xfrm>
            <a:off x="1790640" y="1905120"/>
            <a:ext cx="5562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3505320" y="3014640"/>
            <a:ext cx="49528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ome observers believe that ethically responsible companies design and use governance mechanisms that serve all stakeholders’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mportance of maintaining ethical behavior is seen in the examples of Enron, WorldCom, HealthSouth and Ty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66139602-58A0-41DD-8828-8CE9D2B44775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governance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relationship among stakeholders that is used to determine and control the strategic direction and performance of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identifying ways to ensure that strategic decisions are made more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ed in corporations to establish order between the firm’s owners and its top-level managers whose interests may be in confli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C60C0C27-A778-4F27-9C55-418A0A3A17E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992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ship Concent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s responsible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representing the firm’s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s by monitoring top-level managers’ strategic dec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16" name="Picture 27" descr="j0090344"/>
          <p:cNvPicPr/>
          <p:nvPr/>
        </p:nvPicPr>
        <p:blipFill>
          <a:blip r:embed="rId1"/>
          <a:stretch/>
        </p:blipFill>
        <p:spPr>
          <a:xfrm>
            <a:off x="5486400" y="2401920"/>
            <a:ext cx="2801880" cy="209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4FC55913-243F-44C0-B78D-AE967F864C5C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ecutive Compens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use of salary, bonuses, and long-term incentives to align managers’ interests with shareholders’ intere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for Corporate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purchase of a firm that is underperforming relative to industry rivals in order to improve its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1" name="Picture 29" descr="j0215564"/>
          <p:cNvPicPr/>
          <p:nvPr/>
        </p:nvPicPr>
        <p:blipFill>
          <a:blip r:embed="rId1"/>
          <a:stretch/>
        </p:blipFill>
        <p:spPr>
          <a:xfrm>
            <a:off x="5791320" y="2009880"/>
            <a:ext cx="2879640" cy="286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Marcador de pie de página 4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Marcador de número de diapositiva 5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8645222-5C55-4FF8-B2D6-854DA1C7F135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paration of Ownership and Managerial Contro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asis of the modern corpor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purchase stock, becoming residual claiman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reduce risk by holding diversified portfolio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fessional managers are contracted to provide decision making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odern public corporation form leads to efficient specialization of tas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isk bearing by sharehold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y development and decision making by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463A7043-430C-4982-BDB8-ACFD9AE49F9A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gency Relationship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0" name="Freeform 4"/>
          <p:cNvSpPr/>
          <p:nvPr/>
        </p:nvSpPr>
        <p:spPr>
          <a:xfrm>
            <a:off x="457200" y="457200"/>
            <a:ext cx="8229600" cy="466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32" name="Line 6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12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391520" cy="4538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6DD94206-5956-4630-89B2-5D9491C0F265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Relationship Proble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ncipal and agent have divergent interests and goa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s lack direct control of large, publicly trad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makes decisions that result in the pursuit of goals that conflict with those of the princip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t is difficult or expensive for the principal to verify that the agent has behaved appropriate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falls prey to managerial opportunis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6:39:10Z</dcterms:created>
  <dc:creator>Charlie Cook, The University of West Alabama</dc:creator>
  <dc:description/>
  <dc:language>en-US</dc:language>
  <cp:lastModifiedBy>Luis Zaviezo</cp:lastModifiedBy>
  <dcterms:modified xsi:type="dcterms:W3CDTF">2010-11-08T16:49:52Z</dcterms:modified>
  <cp:revision>47</cp:revision>
  <dc:subject>Chapter 10</dc:subject>
  <dc:title>Strategic Management 7e.</dc:title>
</cp:coreProperties>
</file>