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move the slid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26C-7E75-4A10-ACAC-2E24FB7F7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5B67-3FD8-4640-8EE5-178FBB538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AB0-BC51-4A4B-981D-050CE4156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935D-BCC7-4509-AD1F-16F2B7329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7A5-CBCE-42B7-BAEE-5C6553EE5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37F5-A745-41FE-974F-3B7F0C7AB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FA15-1DC2-4523-8AB4-CA28D6E47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FF27-161A-4127-9E5B-5B196899B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65E7-8F83-4030-9422-BFF8165E5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33E0-3E01-4C1C-AF5A-71A844306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7848-0F2B-4BCE-B5F1-7BECB8A82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2F6B-EE64-4295-822D-721A8449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56A5-669E-43DA-910B-B976BC4F3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CA2F-72C1-4A8D-8E22-3D8DF7B7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591B-EEFE-4B29-9419-A63A28A6E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1C65-740B-4B1D-BBF7-E8F8B370E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63EB-75C5-4FDE-9C8C-60BB4EC8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5497-4E49-4436-B06E-3C1D1E80E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0ED3-83FA-4BAC-B3B1-A7D4A62F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B552-DE3C-4EB8-AE7B-1A4A3BB09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9397-7276-45DF-BEBA-4D7B027B8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AE88-768A-4AA2-A641-75ECDCB6E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BE6B-87B0-429A-8095-F8385D948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1EE8-1244-485A-BD0D-52089C4F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631F-4A7F-4E9A-B467-E3BDCD7EF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AD2D-38B4-49AA-AB2F-4DFEB921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F32B-35B8-4156-8F05-86ECCE73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C0DE-8939-4A64-9B59-5CB214476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6AC9-003F-4E16-99F6-7862BE418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BBA4-6880-4C3F-B313-3C2CAD637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324F-BC11-4D76-BEE5-D081EDCEC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C007-0464-4E93-9CA5-28CFEE3E5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960-B482-4C8A-ACE1-757B4414B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2893-9B0E-44B3-9508-A1D5AF77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8FAB-1321-421F-89F5-3716BFA5A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D78E-3D85-43CD-ADC2-91F51CB7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8609-418A-4D4F-ACA8-32BBBB9BF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2591-828E-4829-B3BB-99BCD0039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A44F-63FB-478F-8050-2E1A9F69C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7E58-B11C-40D3-A162-F66EC2248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5555-44CE-4CF6-9191-E23C8D1AA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0DF49-FF37-404F-AA20-7CDC30639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EFEE-74AE-4B06-B3AD-C8ACD3EF9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1756-E153-4A67-9D03-91809383B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B57D-007A-48BA-9DDA-FDCE71BFE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BD79-3F4A-4FD1-8F14-3BB749A80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6E04-CC30-4AE8-89A3-03D53C4A5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46D1-ADF3-4C70-A3D5-D2DFB37C3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15DC-88A7-4F4D-8904-2E4585B2C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1246119C-D32B-4D82-8B58-62407BCA927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Line 13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0492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lang="en-US" sz="3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4A1B86D-6D19-4ACF-B30A-37C956F1A84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2578A26-E7FB-4EAE-9B06-52FE19E8BEF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16F85F9-BF5F-4CF1-8547-3FD1AF8534D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D23D7B1-E02F-4179-97BD-9789E697D00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6" name="Line 5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2FA39C5-C4CB-44EF-A23A-3FAE259A00F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7CFA5F5-EB24-44DA-B1A3-06F4C9CC1AA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CA2BEDF-72BC-444E-AAB7-62F37149750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34641C6-06AD-4DE6-829F-F63A9F6DC12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7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0740CCC-7497-411B-9210-3E8328BE614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F722338-8348-4FDE-8056-7F77292710E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9F24BFF-3E39-469F-8C21-3EA13D13F6D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74ED222-CA72-4F51-A197-49942D6BFC7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01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9BEFCA5-1087-4A08-BD16-E14E7F3902A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2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5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516917E-AA29-4B03-A492-71A8AF5C6B5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6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17C4A73-B043-46EB-93AA-59FCDE95B08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4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37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A746A2E-4D6C-4787-BDDD-18035EAB9D3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4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8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51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C353689-90E6-4A7A-B924-029187AE1D2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59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62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65" name="Rectangle 18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A586C60-4E6F-4299-A369-A00A67FBAA3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7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7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d5c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79" name="Rectangle 21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82" name="Rectangle 24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BDD2C13-7BE5-4CE1-906E-F3BCB762A1A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90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93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9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99" name="Rectangle 18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3E6B4BC-A966-4619-8753-7E724B35EF9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2152D0B-CAE4-4DE8-92AC-6F8F37D120D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10" name="Picture 4" descr="j0234757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suj_3zz[1]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D3D5AB4-BF3A-4B2C-841B-2E9A70B9821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228B7D2-C721-49EB-9E33-1C93EB226DD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319" name="Rectangle 7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322" name="Rectangle 10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325" name="Rectangle 13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AutoShape 15"/>
          <p:cNvCxnSpPr>
            <a:stCxn id="325" idx="0"/>
            <a:endCxn id="322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28" name="AutoShape 16"/>
          <p:cNvCxnSpPr>
            <a:stCxn id="322" idx="0"/>
            <a:endCxn id="319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29" name="Text Box 17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705A840-0A02-4AA0-88AF-FF1E8F1B0B1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j0090245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35" name="Picture 5" descr="v0igzx1j[1]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30596D5-5034-4BA5-8D48-8D81905FDEA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73867F1-D328-4816-A788-C7E2BA30E75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9ECB8DA-1C33-48C7-B941-06C9F4E0706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347" name="Rectangle 5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350" name="Rectangle 8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357" name="Rectangle 11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B1645A8-6635-483D-87EA-377EC373273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362" name="Rectangle 5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7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365" name="Rectangle 8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368" name="Rectangle 11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2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3A48196-9AF5-4F5F-8306-7D71BFE98E0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78" name="Rectangle 8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81" name="Rectangle 5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84" name="Rectangle 11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E7DCE94-E701-437B-B19C-55EF87C67FC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5BA06FC-73C4-4464-B268-24F68C54A78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6" name="Picture 27" descr="j0090344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ABAA87B-1E96-4CFF-97DB-D5DFCDD02DD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29" descr="j0215564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ie de página 4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arcador de número de diapositiva 5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28D7B93-0431-4FF8-A8A3-795FCB36250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E8B3755-E99B-45BB-890B-A67250CF266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2" name="Line 6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2B4E3EA-AD48-456F-9F27-F8BD35FDCF0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9:10Z</dcterms:created>
  <dc:creator>Charlie Cook, The University of West Alabama</dc:creator>
  <dc:description/>
  <dc:language>en-US</dc:language>
  <cp:lastModifiedBy>Luis Zaviezo</cp:lastModifiedBy>
  <dcterms:modified xsi:type="dcterms:W3CDTF">2010-11-08T16:49:52Z</dcterms:modified>
  <cp:revision>47</cp:revision>
  <dc:subject>Chapter 10</dc:subject>
  <dc:title>Strategic Management 7e.</dc:title>
</cp:coreProperties>
</file>