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move the slid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B831-45E0-4D23-842A-41E15665C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3FC4-5DDC-40DC-994D-ABAA46D3F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BFAF-2C05-4A2D-85B9-0DA8D05F7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DF31-5230-4EDD-8A6A-646DAD244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4C8E-8CE9-4422-8404-53EAF4D32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E085-DADE-44A1-B12D-EB56DDC26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3E65-8ED7-4FA0-A240-AEEC1D782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16B8-5E54-468E-86E2-7B3ADF044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058C-AE43-4204-BE09-82BDB85AB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3EF0-DE73-4658-9884-A1446DD60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9B05-7F61-48D3-ABA5-B7B1AFB77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6CBE-6744-491D-B806-0256A9063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ED19-3CB3-4494-82D5-DF9959C3B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F4A4-0233-4B68-883B-F2E13577F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B2C8-0A2E-4743-AC1C-D82E5FBA8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2E6F-1D82-444E-8396-63720060B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A431-F204-4C8E-809F-0A5883E4F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BA48-33F7-4E42-8DDC-904DCE502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028E-D39A-4242-8F8D-5D865CF8B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50C6-124A-4C77-A006-E17445CFD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75A1-CD19-4AB1-A572-9B6458788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F46C-4B3C-43BA-8C17-F504613AE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BCF0-D6D7-45A8-9179-0840CE26B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FA2D-BF74-40BD-A9BA-A79541891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2C1F-9A93-45DF-B65F-F296248F9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3EE3-572E-4C66-975D-BE06A49EC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2674-5281-474E-BA74-32F777CC7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5427-0237-4055-9F25-341695414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05A2-82F4-46CC-AFA7-72D7A9E21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9A2E-AA97-4960-BBE7-E1D97888D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776B-B6AC-4711-B0FA-927DC5D88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0CFE-0B96-4AB7-B801-17D95ACF2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1D4C-F729-4A00-A076-8D76AD414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93BF-E988-42E9-A987-F1EABCFC4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9918-F646-4D68-8C40-66940033A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D8F9-7EB7-4C21-BDBC-5ED4F0E1E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B95C-DE4A-49A1-B5A4-B37AC0B4C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081E7-80BE-48D3-9974-B0DBE807B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876FD-1DDA-49B2-ABC1-23A0D6CFD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C7881-A33B-48A6-B00B-A4FA9E936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3900C-22DC-44B3-93CA-88FF181E6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3A342-C162-4B02-8CC2-36E3BD630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AB028-0186-4310-B417-2E6A0BC67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ACC6C-F049-4D2D-B968-60E6E0C7C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CA597-BA7A-4F86-8B4B-4BD442C7B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D7F9D-7BAC-42C3-A245-64D42A7DD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D20EB-3870-4B85-9908-BC6D54E21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8955C-D6CC-45EF-A5F8-2711657B20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68F44-09D5-4AAD-A17E-004BB7CA7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–</a:t>
            </a:r>
            <a:fld id="{998B8EFB-CB84-49D2-B860-742EDBD36CE1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2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Line 13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4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0492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00400" y="2646360"/>
            <a:ext cx="556272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0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 Governance</a:t>
            </a:r>
            <a:endParaRPr b="0" lang="en-US" sz="3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DE5720FE-8EBD-4A2C-9B6F-7DB5DACB406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eking of self-interest with guile (cunning or deceit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attitude (inclination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behaviors (specific acts of self-interes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prevents the maximization of shareholder wealth (the primary goal of owner/principals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64585978-C0F7-415B-A250-E37FCE646A2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ponse to 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do not know beforehand which agents will or will not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us, principals establish governance and control mechanisms to prevent managerial opportunis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4CF8C26A-CC69-4E37-AC91-001DA7414C9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amples of the Agency Proble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roblem of Product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size, and the relationship of size to managerial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tion of managerial employment ris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Free Cash Flow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prefer to invest these funds in additional product diversification (see above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areholders prefer the funds as dividends so they control how the funds are inves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5FA6D06-4EDE-449A-98FC-45497C40A53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495360"/>
            <a:ext cx="7934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 and Shareholder Risk and Diversification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457200" y="457200"/>
            <a:ext cx="8229600" cy="466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6" name="Line 5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6715440" cy="4915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3FD086A-9638-428A-ABCC-D1222C526372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gency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m of incentive costs, monitoring costs, enforcement costs, and individual financial losses incurred by principals, because governance mechanisms cannot guarantee total compliance by the ag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may engage in monitoring behavior to assess the activities and decisions of manag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dispersed shareholding makes it difficult and inefficient to monitor management’s behavi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5ABB9C03-2E65-4388-9444-0EA684479045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s of Directors have a fiduciary duty to shareholders to monitor managem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Boards of Directors are often accused of being lax in performing this func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086DE279-E644-42EA-8C66-64B9D6594CA8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606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 Governance Mechanism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1327320"/>
            <a:ext cx="830556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Governance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ship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s responsible for representing the firm’s owners by monitoring top-level managers’ strategic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cutiv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alary, bonuses, and long-term incentives to align managers’ interests with shareholders’ interes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Governance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for Corpora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chase of a company that is underperforming relative to industry rivals in order to improve the firm’s strategic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57380757-85B0-4CA0-A7DD-6EA0E766CDC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3200400" y="1314360"/>
            <a:ext cx="990720" cy="44053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405320"/>
              <a:gd name="textAreaBottom" fmla="*/ 4404240 h 44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727"/>
                </a:lnTo>
                <a:cubicBezTo>
                  <a:pt x="10800" y="2738"/>
                  <a:pt x="5400" y="2749"/>
                  <a:pt x="0" y="2749"/>
                </a:cubicBezTo>
                <a:cubicBezTo>
                  <a:pt x="5400" y="2749"/>
                  <a:pt x="10800" y="2760"/>
                  <a:pt x="10800" y="277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77840" y="1330200"/>
            <a:ext cx="4908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arge block shareholders have a strong incentive to monitor management closely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ir large stakes make it worth their while to spend time, effort and expense to monitor clos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y may also obtain Board seats which enhances their ability to monitor effectiv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nancial institutions are legally forbidden from directly holding board sea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77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2FC7384B-3267-4305-BD30-B756D4CD7D66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3200400" y="1386000"/>
            <a:ext cx="990720" cy="3186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20 h 3186000"/>
              <a:gd name="textAreaBottom" fmla="*/ 3185280 h 31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3530"/>
                </a:lnTo>
                <a:cubicBezTo>
                  <a:pt x="10800" y="3541"/>
                  <a:pt x="5400" y="3552"/>
                  <a:pt x="0" y="3552"/>
                </a:cubicBezTo>
                <a:cubicBezTo>
                  <a:pt x="5400" y="3552"/>
                  <a:pt x="10800" y="3563"/>
                  <a:pt x="10800" y="357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77840" y="1455840"/>
            <a:ext cx="490860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increasing influence of institutional owners (stock mutual funds and pension funds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Have the size (proxy voting power) and incentive (demand for returns to funds) to discipline ineffective top-level manag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an affect the firm’s choice of strategi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5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8712D7C8-03A5-4EDB-AEEF-DD5652C1EE32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"/>
          <p:cNvSpPr/>
          <p:nvPr/>
        </p:nvSpPr>
        <p:spPr>
          <a:xfrm>
            <a:off x="3200400" y="1386000"/>
            <a:ext cx="990720" cy="3871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871800"/>
              <a:gd name="textAreaBottom" fmla="*/ 3870720 h 38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01"/>
                </a:lnTo>
                <a:cubicBezTo>
                  <a:pt x="10800" y="2912"/>
                  <a:pt x="5400" y="2923"/>
                  <a:pt x="0" y="2923"/>
                </a:cubicBezTo>
                <a:cubicBezTo>
                  <a:pt x="5400" y="2923"/>
                  <a:pt x="10800" y="2934"/>
                  <a:pt x="10800" y="29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777840" y="1452240"/>
            <a:ext cx="49086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 activism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can convene to discuss corporation’s directio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f a consensus exists, shareholders can vote as a block to elect their candidates to the boar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xy figh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re are limits on shareholder activism available to institutional owners in responding to activists’ tactic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9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D505F53F-3FE6-4BD2-881A-F50F830C709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rporate governance and explain why it is used to monitor and contro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ownership has been largely separated from managerial control in the modern corpora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 agency relationship and managerial opportunism and describe their strategic implic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hree internal governance mechanisms—ownership concentration, the board of directors, and executive compensation—are used to monitor and control managerial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0DAC7F0F-D25E-41F9-B03A-71DA0BEBFD6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3200400" y="1386000"/>
            <a:ext cx="990720" cy="402408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024080"/>
              <a:gd name="textAreaBottom" fmla="*/ 4023000 h 40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226"/>
                </a:lnTo>
                <a:cubicBezTo>
                  <a:pt x="10800" y="8237"/>
                  <a:pt x="5400" y="8248"/>
                  <a:pt x="0" y="8248"/>
                </a:cubicBezTo>
                <a:cubicBezTo>
                  <a:pt x="5400" y="8248"/>
                  <a:pt x="10800" y="8259"/>
                  <a:pt x="10800" y="8270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952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Group of elected individuals that acts in the owners’ interests to formally monitor and control the firm’s top-level execu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has the power to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rect the affairs of the organiz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unish and reward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tect owners from managerial opportunis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01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04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0378B04-477B-4F1D-A10B-A3D16AA876A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3200400" y="1386000"/>
            <a:ext cx="990720" cy="34909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490920"/>
              <a:gd name="textAreaBottom" fmla="*/ 3489840 h 34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9575"/>
                </a:lnTo>
                <a:cubicBezTo>
                  <a:pt x="10800" y="9586"/>
                  <a:pt x="5400" y="9597"/>
                  <a:pt x="0" y="9597"/>
                </a:cubicBezTo>
                <a:cubicBezTo>
                  <a:pt x="5400" y="9597"/>
                  <a:pt x="10800" y="9608"/>
                  <a:pt x="10800" y="9619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osition of Board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the firm’s CEO and other top-level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lated 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uninvolved with day-to-day operations, but who have a relationship with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who are independent of the firm’s day-to-day operations and other relationship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12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15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1C2EA2C-C2EA-4601-8729-8B1C06459948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741"/>
                </a:lnTo>
                <a:cubicBezTo>
                  <a:pt x="10800" y="8752"/>
                  <a:pt x="5400" y="8763"/>
                  <a:pt x="0" y="8763"/>
                </a:cubicBezTo>
                <a:cubicBezTo>
                  <a:pt x="5400" y="8763"/>
                  <a:pt x="10800" y="8774"/>
                  <a:pt x="10800" y="878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iticisms of Boards of Directors includ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oo readily approve managers’ self-serving initia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exploited by managers with personal ties to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not vigilant enough in hiring and monitoring CEO behavio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ack of agreement about the number of and most appropriate role of outside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2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2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26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D4B2A6BE-6EE8-40B7-A7FE-1470288FE8E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368"/>
                </a:lnTo>
                <a:cubicBezTo>
                  <a:pt x="10800" y="8379"/>
                  <a:pt x="5400" y="8390"/>
                  <a:pt x="0" y="8390"/>
                </a:cubicBezTo>
                <a:cubicBezTo>
                  <a:pt x="5400" y="8390"/>
                  <a:pt x="10800" y="8401"/>
                  <a:pt x="10800" y="841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hancing the effectiveness of boards and director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diversity in the backgrounds of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onger internal management and accounting control system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formal processes to evaluate the board’s performan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dopting a “lead director” rol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compensation of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33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34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37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4184E25C-A7B1-44FC-9721-AEAF0F117212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"/>
          <p:cNvSpPr/>
          <p:nvPr/>
        </p:nvSpPr>
        <p:spPr>
          <a:xfrm>
            <a:off x="3200400" y="1386000"/>
            <a:ext cx="990720" cy="45576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440 h 4557600"/>
              <a:gd name="textAreaBottom" fmla="*/ 4556160 h 45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2399"/>
                </a:lnTo>
                <a:cubicBezTo>
                  <a:pt x="10800" y="12410"/>
                  <a:pt x="5400" y="12421"/>
                  <a:pt x="0" y="12421"/>
                </a:cubicBezTo>
                <a:cubicBezTo>
                  <a:pt x="5400" y="12421"/>
                  <a:pt x="10800" y="12432"/>
                  <a:pt x="10800" y="1244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orms of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alaries, bonuses, long-term performance incentives, stock awards,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actors complicating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ic decisions by top-level managers are complex, non-routine and affect the firm over an extended perio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ther variables affecting the firm’s performance over tim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45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48" name="Rectangle 12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51" name="Rectangle 15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6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D838B781-45F1-4F0A-977C-E1650F1C2E5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"/>
          <p:cNvSpPr/>
          <p:nvPr/>
        </p:nvSpPr>
        <p:spPr>
          <a:xfrm>
            <a:off x="3200400" y="1386000"/>
            <a:ext cx="990720" cy="37195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19520"/>
              <a:gd name="textAreaBottom" fmla="*/ 3718440 h 37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5060"/>
                </a:lnTo>
                <a:cubicBezTo>
                  <a:pt x="10800" y="15071"/>
                  <a:pt x="5400" y="15082"/>
                  <a:pt x="0" y="15082"/>
                </a:cubicBezTo>
                <a:cubicBezTo>
                  <a:pt x="5400" y="15082"/>
                  <a:pt x="10800" y="15093"/>
                  <a:pt x="10800" y="1510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imits on the effectiveness of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ntended consequences of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irm performance not as important than firm siz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lance sheet not showing executive wealth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ptions not expensed at the time they are awarded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58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59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62" name="Rectangle 15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65" name="Rectangle 18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9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F1B39768-AB60-4A65-A6D9-1A8AEFA03D62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200400" y="1690560"/>
            <a:ext cx="990720" cy="37958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95840"/>
              <a:gd name="textAreaBottom" fmla="*/ 3794760 h 37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877"/>
                </a:lnTo>
                <a:cubicBezTo>
                  <a:pt x="10800" y="18888"/>
                  <a:pt x="5400" y="18899"/>
                  <a:pt x="0" y="18899"/>
                </a:cubicBezTo>
                <a:cubicBezTo>
                  <a:pt x="5400" y="18899"/>
                  <a:pt x="10800" y="18910"/>
                  <a:pt x="10800" y="1892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62000" y="175248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ividuals and firms buy or take over undervalu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effective managers are usually replaced in such takeov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reat of takeover may lead firm to operate more efficient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hanges in regulations have made hostile takeovers difficul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7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7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4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76" name="Rectangle 15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7c9496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d5c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20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79" name="Rectangle 21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2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23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82" name="Rectangle 24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5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F2EED394-5616-4AB2-ACF5-C0066A33BD5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3200400" y="1512720"/>
            <a:ext cx="990720" cy="42530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253040"/>
              <a:gd name="textAreaBottom" fmla="*/ 4251960 h 42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079"/>
                </a:lnTo>
                <a:cubicBezTo>
                  <a:pt x="10800" y="18090"/>
                  <a:pt x="5400" y="18101"/>
                  <a:pt x="0" y="18101"/>
                </a:cubicBezTo>
                <a:cubicBezTo>
                  <a:pt x="5400" y="18101"/>
                  <a:pt x="10800" y="18112"/>
                  <a:pt x="10800" y="1812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733920" y="1523520"/>
            <a:ext cx="4876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nagerial defense tactics increase the costs of mounting a takeov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fense tactics may requi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sset restructuring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the financial structure of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 approv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rket for corporate control lacks the precision of internal governance mechanis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9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90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1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93" name="Rectangle 12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3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4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96" name="Rectangle 15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6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7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99" name="Rectangle 18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9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67B531D2-DF52-4300-A93E-F4B5AAB68FB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441360"/>
            <a:ext cx="8381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2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209520" y="1251000"/>
            <a:ext cx="8782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Defense strateg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ategor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Popularit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ffectivenes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tockholder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mong firm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s a defense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wealth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son p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char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end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den parachu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ig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ma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st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struct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nclus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96360" y="6313320"/>
            <a:ext cx="768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. A. Pearce II &amp; R. B. Robinson, Jr., 2004, Hostile takeover defenses that maximize shareholder wealth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Business Horiz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7(5): 15–2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4C3B2556-B047-447D-9C14-97B314C59F8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 and manager are often the same in private fir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ublic firms often have a dominant shareholder, frequently a ban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requently there is less emphasis on shareholder value than in U.S. firms, although this may be chang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10" name="Picture 4" descr="j0234757"/>
          <p:cNvPicPr/>
          <p:nvPr/>
        </p:nvPicPr>
        <p:blipFill>
          <a:blip r:embed="rId1"/>
          <a:stretch/>
        </p:blipFill>
        <p:spPr>
          <a:xfrm>
            <a:off x="5888160" y="4038480"/>
            <a:ext cx="1655640" cy="19051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csuj_3zz[1]"/>
          <p:cNvPicPr/>
          <p:nvPr/>
        </p:nvPicPr>
        <p:blipFill>
          <a:blip r:embed="rId2"/>
          <a:stretch/>
        </p:blipFill>
        <p:spPr>
          <a:xfrm>
            <a:off x="6324480" y="2819520"/>
            <a:ext cx="2286000" cy="137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3A5C8E0D-04C6-4665-A1F7-1E0F5A4F1E4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types of compensation executives receive and their effects on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external corporate governance mechanism—the market for corporate control—acts as a restraint on top-leve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 governance in international settings, in particular in Germany and Japa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rporate governance fosters ethical strategic decisions and the importance of such behaviors on the part of top-level executiv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B662ADB-F780-4D82-A7D5-18815296B961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4006800" y="225252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the functions of direction and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4006800" y="34718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Vo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006800" y="49370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Aufsichts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1301760" y="2057400"/>
            <a:ext cx="2482560" cy="1033200"/>
            <a:chOff x="1301760" y="2057400"/>
            <a:chExt cx="2482560" cy="1033200"/>
          </a:xfrm>
        </p:grpSpPr>
        <p:sp>
          <p:nvSpPr>
            <p:cNvPr id="319" name="Rectangle 7"/>
            <p:cNvSpPr/>
            <p:nvPr/>
          </p:nvSpPr>
          <p:spPr>
            <a:xfrm>
              <a:off x="1301760" y="2057400"/>
              <a:ext cx="2482560" cy="10332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8"/>
            <p:cNvSpPr/>
            <p:nvPr/>
          </p:nvSpPr>
          <p:spPr>
            <a:xfrm>
              <a:off x="1361880" y="2125440"/>
              <a:ext cx="2327400" cy="89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orst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9"/>
          <p:cNvGrpSpPr/>
          <p:nvPr/>
        </p:nvGrpSpPr>
        <p:grpSpPr>
          <a:xfrm>
            <a:off x="1301760" y="3352680"/>
            <a:ext cx="2482920" cy="1033200"/>
            <a:chOff x="1301760" y="3352680"/>
            <a:chExt cx="2482920" cy="1033200"/>
          </a:xfrm>
        </p:grpSpPr>
        <p:sp>
          <p:nvSpPr>
            <p:cNvPr id="322" name="Rectangle 10"/>
            <p:cNvSpPr/>
            <p:nvPr/>
          </p:nvSpPr>
          <p:spPr>
            <a:xfrm>
              <a:off x="1301760" y="3352680"/>
              <a:ext cx="2482920" cy="1033200"/>
            </a:xfrm>
            <a:prstGeom prst="rect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1362240" y="3420720"/>
              <a:ext cx="2327040" cy="8971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ufsichtsr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2"/>
          <p:cNvGrpSpPr/>
          <p:nvPr/>
        </p:nvGrpSpPr>
        <p:grpSpPr>
          <a:xfrm>
            <a:off x="1300320" y="4627440"/>
            <a:ext cx="2495520" cy="1359000"/>
            <a:chOff x="1300320" y="4627440"/>
            <a:chExt cx="2495520" cy="1359000"/>
          </a:xfrm>
        </p:grpSpPr>
        <p:sp>
          <p:nvSpPr>
            <p:cNvPr id="325" name="Rectangle 13"/>
            <p:cNvSpPr/>
            <p:nvPr/>
          </p:nvSpPr>
          <p:spPr>
            <a:xfrm>
              <a:off x="1300320" y="4627440"/>
              <a:ext cx="2495520" cy="1359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4"/>
            <p:cNvSpPr/>
            <p:nvPr/>
          </p:nvSpPr>
          <p:spPr>
            <a:xfrm>
              <a:off x="1377720" y="4802400"/>
              <a:ext cx="2340000" cy="10087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mbers Shar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7" name="AutoShape 15"/>
          <p:cNvCxnSpPr>
            <a:stCxn id="325" idx="0"/>
            <a:endCxn id="322" idx="2"/>
          </p:cNvCxnSpPr>
          <p:nvPr/>
        </p:nvCxnSpPr>
        <p:spPr>
          <a:xfrm flipH="1" flipV="1">
            <a:off x="2542680" y="4385880"/>
            <a:ext cx="576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328" name="AutoShape 16"/>
          <p:cNvCxnSpPr>
            <a:stCxn id="322" idx="0"/>
            <a:endCxn id="319" idx="2"/>
          </p:cNvCxnSpPr>
          <p:nvPr/>
        </p:nvCxnSpPr>
        <p:spPr>
          <a:xfrm flipV="1">
            <a:off x="2542680" y="3090600"/>
            <a:ext cx="1080" cy="26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329" name="Text Box 17"/>
          <p:cNvSpPr/>
          <p:nvPr/>
        </p:nvSpPr>
        <p:spPr>
          <a:xfrm>
            <a:off x="195264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Germany: Two-tiered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0B4DA4EA-3C78-4EA0-BCE2-C51FC08C2687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j0090245"/>
          <p:cNvPicPr/>
          <p:nvPr/>
        </p:nvPicPr>
        <p:blipFill>
          <a:blip r:embed="rId1"/>
          <a:stretch/>
        </p:blipFill>
        <p:spPr>
          <a:xfrm>
            <a:off x="6864480" y="3352680"/>
            <a:ext cx="1670040" cy="17049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956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governance factor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iretsus: strongly interrelated groups of firms tied together by cross-shareholding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nks (especially “main bank”) are highly influential with firm’s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35" name="Picture 5" descr="v0igzx1j[1]"/>
          <p:cNvPicPr/>
          <p:nvPr/>
        </p:nvPicPr>
        <p:blipFill>
          <a:blip r:embed="rId2"/>
          <a:stretch/>
        </p:blipFill>
        <p:spPr>
          <a:xfrm>
            <a:off x="6172200" y="1981080"/>
            <a:ext cx="2127240" cy="1495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C86E6D78-2870-4CFB-976E-FDA1BAE16CA5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 (cont’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ther governance characteristics: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government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lationships between firms and governmen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and stable shareholders who exert littl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bsence of external market for corpor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6E07FF8-3C0F-4A7F-A0F9-64A6985C2BC5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Corporate Govern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rganizations worldwide are adopting a relatively uniform governance structure.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of directors are becoming smaller, with more independent and outsid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s are becoming more 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apidly developing market economies, minority shareholder rights are not protected by adequate governance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364CCC76-5496-4650-8215-6E4AD835C31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566640" y="4716360"/>
            <a:ext cx="2584440" cy="846360"/>
            <a:chOff x="566640" y="4716360"/>
            <a:chExt cx="2584440" cy="846360"/>
          </a:xfrm>
        </p:grpSpPr>
        <p:sp>
          <p:nvSpPr>
            <p:cNvPr id="347" name="Rectangle 5"/>
            <p:cNvSpPr/>
            <p:nvPr/>
          </p:nvSpPr>
          <p:spPr>
            <a:xfrm>
              <a:off x="566640" y="471636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6"/>
            <p:cNvSpPr/>
            <p:nvPr/>
          </p:nvSpPr>
          <p:spPr>
            <a:xfrm>
              <a:off x="619200" y="47743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7"/>
          <p:cNvGrpSpPr/>
          <p:nvPr/>
        </p:nvGrpSpPr>
        <p:grpSpPr>
          <a:xfrm>
            <a:off x="566640" y="3835440"/>
            <a:ext cx="2584440" cy="846000"/>
            <a:chOff x="566640" y="3835440"/>
            <a:chExt cx="2584440" cy="846000"/>
          </a:xfrm>
        </p:grpSpPr>
        <p:sp>
          <p:nvSpPr>
            <p:cNvPr id="350" name="Rectangle 8"/>
            <p:cNvSpPr/>
            <p:nvPr/>
          </p:nvSpPr>
          <p:spPr>
            <a:xfrm>
              <a:off x="566640" y="38354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9"/>
            <p:cNvSpPr/>
            <p:nvPr/>
          </p:nvSpPr>
          <p:spPr>
            <a:xfrm>
              <a:off x="625320" y="38890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5187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Ethical Behavio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0"/>
          <p:cNvSpPr/>
          <p:nvPr/>
        </p:nvSpPr>
        <p:spPr>
          <a:xfrm>
            <a:off x="3530520" y="3033720"/>
            <a:ext cx="51055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hareholders (in the capital market stakeholder group) are viewed as the most important stakehold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focus of governance mechanisms is on the control of managerial decisions to assure shareholder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terests of shareholders is served by the Board of Dire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32"/>
          <p:cNvSpPr/>
          <p:nvPr/>
        </p:nvSpPr>
        <p:spPr>
          <a:xfrm>
            <a:off x="3124080" y="302256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18"/>
                </a:lnTo>
                <a:cubicBezTo>
                  <a:pt x="10800" y="2929"/>
                  <a:pt x="5400" y="2940"/>
                  <a:pt x="0" y="2940"/>
                </a:cubicBezTo>
                <a:cubicBezTo>
                  <a:pt x="5400" y="2940"/>
                  <a:pt x="10800" y="2951"/>
                  <a:pt x="10800" y="296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0"/>
          <p:cNvGrpSpPr/>
          <p:nvPr/>
        </p:nvGrpSpPr>
        <p:grpSpPr>
          <a:xfrm>
            <a:off x="565200" y="2963880"/>
            <a:ext cx="2584440" cy="846000"/>
            <a:chOff x="565200" y="2963880"/>
            <a:chExt cx="2584440" cy="846000"/>
          </a:xfrm>
        </p:grpSpPr>
        <p:sp>
          <p:nvSpPr>
            <p:cNvPr id="357" name="Rectangle 11"/>
            <p:cNvSpPr/>
            <p:nvPr/>
          </p:nvSpPr>
          <p:spPr>
            <a:xfrm>
              <a:off x="565200" y="29638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"/>
            <p:cNvSpPr/>
            <p:nvPr/>
          </p:nvSpPr>
          <p:spPr>
            <a:xfrm>
              <a:off x="623880" y="30178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500"/>
                            </p:stCondLst>
                            <p:childTnLst>
                              <p:par>
                                <p:cTn id="9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000"/>
                            </p:stCondLst>
                            <p:childTnLst>
                              <p:par>
                                <p:cTn id="9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500"/>
                            </p:stCondLst>
                            <p:childTnLst>
                              <p:par>
                                <p:cTn id="9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179EA4F-EC6A-4303-97D3-33F19E016D3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66640" y="4718160"/>
            <a:ext cx="2584440" cy="846000"/>
            <a:chOff x="566640" y="4718160"/>
            <a:chExt cx="2584440" cy="846000"/>
          </a:xfrm>
        </p:grpSpPr>
        <p:sp>
          <p:nvSpPr>
            <p:cNvPr id="362" name="Rectangle 5"/>
            <p:cNvSpPr/>
            <p:nvPr/>
          </p:nvSpPr>
          <p:spPr>
            <a:xfrm>
              <a:off x="566640" y="471816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619200" y="47761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7"/>
          <p:cNvGrpSpPr/>
          <p:nvPr/>
        </p:nvGrpSpPr>
        <p:grpSpPr>
          <a:xfrm>
            <a:off x="566640" y="3833640"/>
            <a:ext cx="2584440" cy="846360"/>
            <a:chOff x="566640" y="3833640"/>
            <a:chExt cx="2584440" cy="846360"/>
          </a:xfrm>
        </p:grpSpPr>
        <p:sp>
          <p:nvSpPr>
            <p:cNvPr id="365" name="Rectangle 8"/>
            <p:cNvSpPr/>
            <p:nvPr/>
          </p:nvSpPr>
          <p:spPr>
            <a:xfrm>
              <a:off x="566640" y="383364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625320" y="38872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0"/>
          <p:cNvGrpSpPr/>
          <p:nvPr/>
        </p:nvGrpSpPr>
        <p:grpSpPr>
          <a:xfrm>
            <a:off x="565200" y="2959200"/>
            <a:ext cx="2584440" cy="846000"/>
            <a:chOff x="565200" y="2959200"/>
            <a:chExt cx="2584440" cy="846000"/>
          </a:xfrm>
        </p:grpSpPr>
        <p:sp>
          <p:nvSpPr>
            <p:cNvPr id="368" name="Rectangle 11"/>
            <p:cNvSpPr/>
            <p:nvPr/>
          </p:nvSpPr>
          <p:spPr>
            <a:xfrm>
              <a:off x="565200" y="295920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623880" y="301320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1" name="Rectangle 30"/>
          <p:cNvSpPr/>
          <p:nvPr/>
        </p:nvSpPr>
        <p:spPr>
          <a:xfrm>
            <a:off x="3505320" y="3040200"/>
            <a:ext cx="49528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duct market stakeholders (customers, suppliers and host communities) and organizational stakeholders may withdraw their support of the firm if their needs are not met, at least minim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32"/>
          <p:cNvSpPr/>
          <p:nvPr/>
        </p:nvSpPr>
        <p:spPr>
          <a:xfrm>
            <a:off x="3124080" y="2997360"/>
            <a:ext cx="609840" cy="2082600"/>
          </a:xfrm>
          <a:custGeom>
            <a:avLst/>
            <a:gdLst>
              <a:gd name="textAreaLeft" fmla="*/ 389520 w 609840"/>
              <a:gd name="textAreaRight" fmla="*/ 610200 w 609840"/>
              <a:gd name="textAreaTop" fmla="*/ 360 h 2082600"/>
              <a:gd name="textAreaBottom" fmla="*/ 2082240 h 208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3001"/>
                </a:lnTo>
                <a:cubicBezTo>
                  <a:pt x="10800" y="13012"/>
                  <a:pt x="5400" y="13023"/>
                  <a:pt x="0" y="13023"/>
                </a:cubicBezTo>
                <a:cubicBezTo>
                  <a:pt x="5400" y="13023"/>
                  <a:pt x="10800" y="13034"/>
                  <a:pt x="10800" y="130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328CE67C-E700-44E8-89A5-8F7F0B4BE472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32"/>
          <p:cNvSpPr/>
          <p:nvPr/>
        </p:nvSpPr>
        <p:spPr>
          <a:xfrm>
            <a:off x="3124080" y="297180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6703"/>
                </a:lnTo>
                <a:cubicBezTo>
                  <a:pt x="10800" y="16714"/>
                  <a:pt x="5400" y="16725"/>
                  <a:pt x="0" y="16725"/>
                </a:cubicBezTo>
                <a:cubicBezTo>
                  <a:pt x="5400" y="16725"/>
                  <a:pt x="10800" y="16736"/>
                  <a:pt x="10800" y="16747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7"/>
          <p:cNvGrpSpPr/>
          <p:nvPr/>
        </p:nvGrpSpPr>
        <p:grpSpPr>
          <a:xfrm>
            <a:off x="566640" y="3822840"/>
            <a:ext cx="2584440" cy="846000"/>
            <a:chOff x="566640" y="3822840"/>
            <a:chExt cx="2584440" cy="846000"/>
          </a:xfrm>
        </p:grpSpPr>
        <p:sp>
          <p:nvSpPr>
            <p:cNvPr id="378" name="Rectangle 8"/>
            <p:cNvSpPr/>
            <p:nvPr/>
          </p:nvSpPr>
          <p:spPr>
            <a:xfrm>
              <a:off x="566640" y="38228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9"/>
            <p:cNvSpPr/>
            <p:nvPr/>
          </p:nvSpPr>
          <p:spPr>
            <a:xfrm>
              <a:off x="625320" y="38764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4"/>
          <p:cNvGrpSpPr/>
          <p:nvPr/>
        </p:nvGrpSpPr>
        <p:grpSpPr>
          <a:xfrm>
            <a:off x="566640" y="4710240"/>
            <a:ext cx="2584440" cy="846000"/>
            <a:chOff x="566640" y="4710240"/>
            <a:chExt cx="2584440" cy="846000"/>
          </a:xfrm>
        </p:grpSpPr>
        <p:sp>
          <p:nvSpPr>
            <p:cNvPr id="381" name="Rectangle 5"/>
            <p:cNvSpPr/>
            <p:nvPr/>
          </p:nvSpPr>
          <p:spPr>
            <a:xfrm>
              <a:off x="566640" y="47102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619200" y="476820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0"/>
          <p:cNvGrpSpPr/>
          <p:nvPr/>
        </p:nvGrpSpPr>
        <p:grpSpPr>
          <a:xfrm>
            <a:off x="565200" y="2951280"/>
            <a:ext cx="2584440" cy="846000"/>
            <a:chOff x="565200" y="2951280"/>
            <a:chExt cx="2584440" cy="846000"/>
          </a:xfrm>
        </p:grpSpPr>
        <p:sp>
          <p:nvSpPr>
            <p:cNvPr id="384" name="Rectangle 11"/>
            <p:cNvSpPr/>
            <p:nvPr/>
          </p:nvSpPr>
          <p:spPr>
            <a:xfrm>
              <a:off x="565200" y="29512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623880" y="30052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7" name="Text Box 29"/>
          <p:cNvSpPr/>
          <p:nvPr/>
        </p:nvSpPr>
        <p:spPr>
          <a:xfrm>
            <a:off x="1790640" y="1905120"/>
            <a:ext cx="5562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3505320" y="3014640"/>
            <a:ext cx="49528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ome observers believe that ethically responsible companies design and use governance mechanisms that serve all stakeholders’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mportance of maintaining ethical behavior is seen in the examples of Enron, WorldCom, HealthSouth and Ty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662C5934-8D47-4CA9-889E-573D854AA46A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governance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relationship among stakeholders that is used to determine and control the strategic direction and performance of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identifying ways to ensure that strategic decisions are made more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ed in corporations to establish order between the firm’s owners and its top-level managers whose interests may be in confli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081461E4-32D9-48FD-A51F-4972E2302C4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992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ship Concent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s responsible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representing the firm’s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s by monitoring top-level managers’ strategic dec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16" name="Picture 27" descr="j0090344"/>
          <p:cNvPicPr/>
          <p:nvPr/>
        </p:nvPicPr>
        <p:blipFill>
          <a:blip r:embed="rId1"/>
          <a:stretch/>
        </p:blipFill>
        <p:spPr>
          <a:xfrm>
            <a:off x="5486400" y="2401920"/>
            <a:ext cx="2801880" cy="209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23AA3C6F-40A8-4A35-ACC3-06FC9F8CB066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ecutive Compens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use of salary, bonuses, and long-term incentives to align managers’ interests with shareholders’ intere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for Corporate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purchase of a firm that is underperforming relative to industry rivals in order to improve its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1" name="Picture 29" descr="j0215564"/>
          <p:cNvPicPr/>
          <p:nvPr/>
        </p:nvPicPr>
        <p:blipFill>
          <a:blip r:embed="rId1"/>
          <a:stretch/>
        </p:blipFill>
        <p:spPr>
          <a:xfrm>
            <a:off x="5791320" y="2009880"/>
            <a:ext cx="2879640" cy="286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Marcador de pie de página 4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Marcador de número de diapositiva 5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8D8C634-4811-4918-B66B-07DE40364FB5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paration of Ownership and Managerial Contro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asis of the modern corpor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purchase stock, becoming residual claiman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reduce risk by holding diversified portfolio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fessional managers are contracted to provide decision making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odern public corporation form leads to efficient specialization of tas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isk bearing by sharehold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y development and decision making by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976F8C9-0E62-4DA3-9438-35CC2E9A44D8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gency Relationship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0" name="Freeform 4"/>
          <p:cNvSpPr/>
          <p:nvPr/>
        </p:nvSpPr>
        <p:spPr>
          <a:xfrm>
            <a:off x="457200" y="457200"/>
            <a:ext cx="8229600" cy="466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32" name="Line 6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12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391520" cy="4538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FAA21850-40D8-4BC7-986F-D30C2030273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Relationship Proble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ncipal and agent have divergent interests and goa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s lack direct control of large, publicly trad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makes decisions that result in the pursuit of goals that conflict with those of the princip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t is difficult or expensive for the principal to verify that the agent has behaved appropriate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falls prey to managerial opportunis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6:39:10Z</dcterms:created>
  <dc:creator>Charlie Cook, The University of West Alabama</dc:creator>
  <dc:description/>
  <dc:language>en-US</dc:language>
  <cp:lastModifiedBy>Luis Zaviezo</cp:lastModifiedBy>
  <dcterms:modified xsi:type="dcterms:W3CDTF">2010-11-08T16:49:52Z</dcterms:modified>
  <cp:revision>47</cp:revision>
  <dc:subject>Chapter 10</dc:subject>
  <dc:title>Strategic Management 7e.</dc:title>
</cp:coreProperties>
</file>