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EF22-81D4-4ED3-BDC0-EFBC5945B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3F20-E548-4ED7-BF5D-8BA5FFD65D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0373-3486-4C5B-A29B-39DCCAECA0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50C8A-CAC7-45F3-A79A-8FE75CA5F2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E005E-76D3-4A0B-BAA1-09563E542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1147-B229-4FAA-B27D-CF82872C88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ECAB5-A51B-465A-8327-2BBF236788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B483-6DE5-4978-A904-34E5E7B8D9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C65E-4C35-4BC3-B84B-7B94CC5DFF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11AC3-637F-46E3-A01B-ABC517B81B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7191A-95CA-467E-804F-9FDDCB1624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395A-D7B5-4F6C-916C-E37F5DE04C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86F04-77C2-475D-B4DF-94E024E73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0BBCD-CBA6-4F1D-9E9E-AD3B1255F4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BB3D-D1B8-4BF1-BD9A-500EC50B14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967FD-87B7-4D29-80DF-4EF4199EAD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4B111-CCB2-498C-83C9-76AEE7049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562E0-DE53-42D8-8E82-6C1E6B288C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5F596-80BF-4885-8F51-815091B685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690B5-6999-4256-B38D-AD4B5284B9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80EBF-81BB-4A91-BAFC-84CC52513D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0F90A-0CC7-4E92-8CC7-00D7DD336D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31AF3-288C-4709-9A42-80BABDFA76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6D06-2804-45E1-9B9C-460BE07751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0F21F-506E-419A-8909-DAD8A21EA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84440-0849-4B68-8CAD-8F7B2B4A91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44EC-54BE-4882-9436-02B686051A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0FC57-4753-48A5-A117-4DD15CF2D1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E6965-FB3E-4D4E-880A-E7DB63711D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5961-9EA3-47EA-B551-D8287B8DB4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2846C-01E6-44C3-9649-BC1683B1BE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7198E-0A45-4A5C-8B07-2DF367C7B4D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8B54-5296-4F21-B541-969ADD9062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25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90A15-35BA-42E9-9925-2843A36107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9CDDE-11C0-4644-91E5-E6AA338989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E224D-F4A6-4CAB-A67A-380F88B800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269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D6EA1F-2500-4AC3-894F-A090740782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09A6C3-5198-474D-B896-C85CD60241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7825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5F72D9-9676-47DD-8B86-27D8176D41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7825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B8968F-E841-4826-AD35-389F09E842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33160" y="6400440"/>
            <a:ext cx="57150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76760"/>
            <a:ext cx="129528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–</a:t>
            </a:r>
            <a:fld id="{18E120E6-6CE7-4844-B145-50CF8ACA8063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306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i="1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48080" y="609588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8003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TIONS: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Y</a:t>
            </a:r>
            <a:br>
              <a:rPr sz="1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RMU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200400" y="2590920"/>
            <a:ext cx="5562720" cy="94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Tahoma"/>
              </a:rPr>
              <a:t>CHAPTER 9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Cooperative Strategy</a:t>
            </a:r>
            <a:endParaRPr b="0" i="1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219320"/>
            <a:ext cx="15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1240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7360" y="188424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3300"/>
                </a:solidFill>
                <a:latin typeface="Arial"/>
              </a:rPr>
              <a:t>Slow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24080" y="1884240"/>
            <a:ext cx="5440320" cy="300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in access to a restricted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ablish a franchise in a new mark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stability (e.g., establishing standard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53287-6364-4FA1-9489-63784C5E0840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380880" y="1219320"/>
            <a:ext cx="195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89548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57200" y="19080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Arial"/>
              </a:rPr>
              <a:t>Fast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1908000"/>
            <a:ext cx="5410440" cy="40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development of new goods or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ed up new market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market lead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n industry technology stand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re risky R&amp;D expen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vercome uncertai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9757AF-7864-4615-9881-00CAED516217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asons for Strategic Allianc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219320"/>
            <a:ext cx="18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Mark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98760" y="1219320"/>
            <a:ext cx="497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Arial"/>
              </a:rPr>
              <a:t>R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851120"/>
            <a:ext cx="28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6600"/>
                </a:solidFill>
                <a:latin typeface="Arial"/>
              </a:rPr>
              <a:t>Standard Cyc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98760" y="1851120"/>
            <a:ext cx="521172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market power (reduce industry over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in access to complementary re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tablish economies of 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come trade barr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et competitive challenges from other competi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ol resources for very large capital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new business techn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3FA9F9-CD3E-4DBC-848E-F04DDEF73CA7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1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usiness-Level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157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1390680" y="1333440"/>
            <a:ext cx="6362640" cy="4191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F0E07-77BF-4796-BE40-24DB1533A326}" type="slidenum">
              <a:t>13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Business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05280" y="1371600"/>
            <a:ext cx="47815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bine partner firms’ assets in complementary ways to create new valu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Include distribution, supplier or outsourcing alliances where firms rely on upstream or downstream partners to build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1371600"/>
            <a:ext cx="838440" cy="2819520"/>
          </a:xfrm>
          <a:custGeom>
            <a:avLst/>
            <a:gdLst>
              <a:gd name="textAreaLeft" fmla="*/ 535680 w 838440"/>
              <a:gd name="textAreaRight" fmla="*/ 838800 w 838440"/>
              <a:gd name="textAreaTop" fmla="*/ 0 h 2819520"/>
              <a:gd name="textAreaBottom" fmla="*/ 28198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892"/>
                </a:lnTo>
                <a:cubicBezTo>
                  <a:pt x="10800" y="3892"/>
                  <a:pt x="5400" y="3892"/>
                  <a:pt x="0" y="3892"/>
                </a:cubicBezTo>
                <a:cubicBezTo>
                  <a:pt x="5400" y="3892"/>
                  <a:pt x="10800" y="3892"/>
                  <a:pt x="10800" y="389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9360" y="1332000"/>
            <a:ext cx="2955960" cy="1030320"/>
            <a:chOff x="549360" y="1332000"/>
            <a:chExt cx="2955960" cy="1030320"/>
          </a:xfrm>
        </p:grpSpPr>
        <p:sp>
          <p:nvSpPr>
            <p:cNvPr id="164" name=""/>
            <p:cNvSpPr/>
            <p:nvPr/>
          </p:nvSpPr>
          <p:spPr>
            <a:xfrm>
              <a:off x="549360" y="1332000"/>
              <a:ext cx="2955960" cy="1030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05520" y="1390680"/>
              <a:ext cx="2842920" cy="9129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E754C-C98D-48BD-9CC8-2B61E3D42865}" type="slidenum">
              <a:t>14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5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50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870200" y="304920"/>
            <a:ext cx="5445000" cy="601956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rcRect l="686" t="0" r="3416" b="0"/>
          <a:stretch/>
        </p:blipFill>
        <p:spPr>
          <a:xfrm>
            <a:off x="6578640" y="4572000"/>
            <a:ext cx="2066760" cy="167652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934320" y="4686480"/>
            <a:ext cx="1752480" cy="1496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600" spc="-1" strike="noStrike">
                <a:solidFill>
                  <a:srgbClr val="cc3300"/>
                </a:solidFill>
                <a:latin typeface="Arial"/>
              </a:rPr>
              <a:t>9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ertical and Horizontal Complementary Strategic Alliance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856560" y="47181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627960" y="501480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8643-CD09-4197-9DFA-4FF9F83A7274}" type="slidenum">
              <a:t>15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8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lementary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Vertic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between firms that agree to use their skills and capabilities in different stages of the value chain to create value for both firms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sourcing is one example of this type of alli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3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Strategic Alliance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Formed when partners who agree to combine their resources and skills to create value in the same stage of the value chain.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cus is on long-term product development and distribution opportunit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0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artners may become competitors which requires a great deal of trust between the partner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CBDC07-AC5A-4991-B6EA-341ECD70785E}" type="slidenum">
              <a:t>16</a:t>
            </a:fld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on Respons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062240" y="1409400"/>
            <a:ext cx="4624560" cy="339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Occur when firms join forces to respond to a strategic action of another competitor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1520" indent="-281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Because they can be difficult to reverse and expensive to operate, strategic alliances are primarily formed to respond to strategic rather than tactical action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05320" y="1447920"/>
            <a:ext cx="838080" cy="33526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352680"/>
              <a:gd name="textAreaBottom" fmla="*/ 3353040 h 3352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299"/>
                </a:lnTo>
                <a:cubicBezTo>
                  <a:pt x="10800" y="10299"/>
                  <a:pt x="5400" y="10299"/>
                  <a:pt x="0" y="10299"/>
                </a:cubicBezTo>
                <a:cubicBezTo>
                  <a:pt x="5400" y="10299"/>
                  <a:pt x="10800" y="10299"/>
                  <a:pt x="10800" y="10299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177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533520" y="2548080"/>
            <a:ext cx="3124080" cy="1053720"/>
            <a:chOff x="533520" y="2548080"/>
            <a:chExt cx="3124080" cy="1053720"/>
          </a:xfrm>
        </p:grpSpPr>
        <p:sp>
          <p:nvSpPr>
            <p:cNvPr id="180" name=""/>
            <p:cNvSpPr/>
            <p:nvPr/>
          </p:nvSpPr>
          <p:spPr>
            <a:xfrm>
              <a:off x="533520" y="25480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92920" y="26078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31F7B-4AA1-46E7-BE8E-E38CF656E376}" type="slidenum">
              <a:t>17</a:t>
            </a:fld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Uncertainty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062240" y="1379520"/>
            <a:ext cx="4546800" cy="439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e used to hedge against risk and uncertaint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These alliances are most noticed in fast-cycle markets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n alliance may be formed to reduce the uncertainty associated with developing new product or technology standard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144792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6930"/>
                </a:lnTo>
                <a:cubicBezTo>
                  <a:pt x="10800" y="16930"/>
                  <a:pt x="5400" y="16930"/>
                  <a:pt x="0" y="16930"/>
                </a:cubicBezTo>
                <a:cubicBezTo>
                  <a:pt x="5400" y="16930"/>
                  <a:pt x="10800" y="16930"/>
                  <a:pt x="10800" y="1693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86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189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192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F18942-C562-459F-B054-639AA497F64F}" type="slidenum">
              <a:t>18</a:t>
            </a:fld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100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Competition-Reducing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038480" y="2161800"/>
            <a:ext cx="4648320" cy="35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ed to avoid destructive or excessive competition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Expli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directly negotiate production output and pricing agreements in order to reduce competition (illegal)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499"/>
              </a:spcBef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Tacit collusion:</a:t>
            </a: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 when firms in an industry indirectly coordinate their production and pricing decisions by observing other firm’s actions and respons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505320" y="2127240"/>
            <a:ext cx="838080" cy="36576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657600"/>
              <a:gd name="textAreaBottom" fmla="*/ 36579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8703"/>
                </a:lnTo>
                <a:cubicBezTo>
                  <a:pt x="10800" y="18703"/>
                  <a:pt x="5400" y="18703"/>
                  <a:pt x="0" y="18703"/>
                </a:cubicBezTo>
                <a:cubicBezTo>
                  <a:pt x="5400" y="18703"/>
                  <a:pt x="10800" y="18703"/>
                  <a:pt x="10800" y="18703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19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lementa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"/>
          <p:cNvGrpSpPr/>
          <p:nvPr/>
        </p:nvGrpSpPr>
        <p:grpSpPr>
          <a:xfrm>
            <a:off x="533520" y="2560680"/>
            <a:ext cx="3124080" cy="1053720"/>
            <a:chOff x="533520" y="2560680"/>
            <a:chExt cx="3124080" cy="1053720"/>
          </a:xfrm>
        </p:grpSpPr>
        <p:sp>
          <p:nvSpPr>
            <p:cNvPr id="201" name=""/>
            <p:cNvSpPr/>
            <p:nvPr/>
          </p:nvSpPr>
          <p:spPr>
            <a:xfrm>
              <a:off x="533520" y="2560680"/>
              <a:ext cx="312408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2920" y="2620440"/>
              <a:ext cx="300492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on 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sponse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533520" y="3643200"/>
            <a:ext cx="3124080" cy="1066680"/>
            <a:chOff x="533520" y="3643200"/>
            <a:chExt cx="3124080" cy="1066680"/>
          </a:xfrm>
        </p:grpSpPr>
        <p:sp>
          <p:nvSpPr>
            <p:cNvPr id="204" name=""/>
            <p:cNvSpPr/>
            <p:nvPr/>
          </p:nvSpPr>
          <p:spPr>
            <a:xfrm>
              <a:off x="533520" y="364320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2920" y="370368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Uncertainty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533520" y="4724280"/>
            <a:ext cx="3124080" cy="1066680"/>
            <a:chOff x="533520" y="4724280"/>
            <a:chExt cx="3124080" cy="1066680"/>
          </a:xfrm>
        </p:grpSpPr>
        <p:sp>
          <p:nvSpPr>
            <p:cNvPr id="207" name=""/>
            <p:cNvSpPr/>
            <p:nvPr/>
          </p:nvSpPr>
          <p:spPr>
            <a:xfrm>
              <a:off x="533520" y="4724280"/>
              <a:ext cx="312408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92920" y="4784760"/>
              <a:ext cx="300492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Competition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Reducing Allianc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DE510-D70C-45C6-B14F-03C35E577978}" type="slidenum">
              <a:t>19</a:t>
            </a:fld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42670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90512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cooperative strategies and explain why firms use them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nd discuss three types of strategic allianc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the business-level cooperative strategies and describe their us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 the use of corporate-level cooperative strategies in diversified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stand the importance of cross-border strategic alliances as an international cooperative strateg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104760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C34C2-C93A-4F28-8A5B-E3C3E1791C27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lementary business-level strategic alliances, especially the vertical ones, have the greatest probability of creating a sustainable competitive advantage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Horizontal complementary alliances are sometimes difficult to maintain because they are often between rival competitor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5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ompetitive advantages gained from competition and uncertainty reducing strategies tend to be temporary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BE826C-85C6-400C-A48C-C230103AA7F3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463680"/>
            <a:ext cx="793440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3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porate-Level Cooperative Strategie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2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14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6043680" cy="3105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7D526-0D63-46B6-84FA-1808DD093BE0}" type="slidenum">
              <a:t>21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porate-Level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rporate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 the firm diversify in terms of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ts offered to the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rkets it 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 fewer resource commitme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rmit greater flexibility in terms of efforts to diversify partners’ oper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CCB09B-4F47-401B-8B8A-434B2739AA8A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Diversifying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009680" y="1447920"/>
            <a:ext cx="45464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llows a firm to expand into new product or market areas without completing a merger or an acquisition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rovides some of the potential synergistic benefits of a merger or acquisition, but with less risk and greater levels of flexibilit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ermits a “test” of whether a future merger between the partners would benefit both partie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505320" y="1447920"/>
            <a:ext cx="838080" cy="358128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581280"/>
              <a:gd name="textAreaBottom" fmla="*/ 3581640 h 3581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3255"/>
                </a:lnTo>
                <a:cubicBezTo>
                  <a:pt x="10800" y="3255"/>
                  <a:pt x="5400" y="3255"/>
                  <a:pt x="0" y="3255"/>
                </a:cubicBezTo>
                <a:cubicBezTo>
                  <a:pt x="5400" y="3255"/>
                  <a:pt x="10800" y="3255"/>
                  <a:pt x="10800" y="3255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20560" y="1422360"/>
            <a:ext cx="3124440" cy="1066320"/>
            <a:chOff x="520560" y="1422360"/>
            <a:chExt cx="3124440" cy="1066320"/>
          </a:xfrm>
        </p:grpSpPr>
        <p:sp>
          <p:nvSpPr>
            <p:cNvPr id="223" name=""/>
            <p:cNvSpPr/>
            <p:nvPr/>
          </p:nvSpPr>
          <p:spPr>
            <a:xfrm>
              <a:off x="520560" y="14223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79960" y="14828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040C3-3166-4F4A-AC5C-2839CB34BF97}" type="slidenum">
              <a:t>23</a:t>
            </a:fld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50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Synergistic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962160" y="1483920"/>
            <a:ext cx="4546440" cy="27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joint economies of scope between two or more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287280" indent="-28728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Creates synergy across multiple functions or multiple businesses between partner firm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505320" y="1447920"/>
            <a:ext cx="838080" cy="27432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2743200"/>
              <a:gd name="textAreaBottom" fmla="*/ 2743560 h 2743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2850"/>
                </a:lnTo>
                <a:cubicBezTo>
                  <a:pt x="10800" y="12850"/>
                  <a:pt x="5400" y="12850"/>
                  <a:pt x="0" y="12850"/>
                </a:cubicBezTo>
                <a:cubicBezTo>
                  <a:pt x="5400" y="12850"/>
                  <a:pt x="10800" y="12850"/>
                  <a:pt x="10800" y="1285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29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32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810A7B-1914-4FBF-9207-5F01E1DE6A24}" type="slidenum">
              <a:t>24</a:t>
            </a:fld>
          </a:p>
        </p:txBody>
      </p:sp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15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336699"/>
                </a:solidFill>
                <a:uFillTx/>
                <a:latin typeface="Tahoma"/>
              </a:rPr>
              <a:t>Franchising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062240" y="1430280"/>
            <a:ext cx="45468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Spreads risks and uses resources, capabilities, and competencies without merging or acquiring another company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 contractual relationship (the franchise) is developed between two parties, the franchisee and the franchisor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An alternative to pursuing growth through mergers and acquisitions.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505320" y="1447920"/>
            <a:ext cx="838080" cy="327636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276360"/>
              <a:gd name="textAreaBottom" fmla="*/ 3276720 h 32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7916"/>
                </a:lnTo>
                <a:cubicBezTo>
                  <a:pt x="10800" y="17916"/>
                  <a:pt x="5400" y="17916"/>
                  <a:pt x="0" y="17916"/>
                </a:cubicBezTo>
                <a:cubicBezTo>
                  <a:pt x="5400" y="17916"/>
                  <a:pt x="10800" y="17916"/>
                  <a:pt x="10800" y="17916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520560" y="1422360"/>
            <a:ext cx="3124440" cy="1106280"/>
            <a:chOff x="520560" y="1422360"/>
            <a:chExt cx="3124440" cy="1106280"/>
          </a:xfrm>
        </p:grpSpPr>
        <p:sp>
          <p:nvSpPr>
            <p:cNvPr id="238" name=""/>
            <p:cNvSpPr/>
            <p:nvPr/>
          </p:nvSpPr>
          <p:spPr>
            <a:xfrm>
              <a:off x="520560" y="14223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79960" y="14853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versifying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20560" y="2560680"/>
            <a:ext cx="3124440" cy="1053720"/>
            <a:chOff x="520560" y="2560680"/>
            <a:chExt cx="3124440" cy="1053720"/>
          </a:xfrm>
        </p:grpSpPr>
        <p:sp>
          <p:nvSpPr>
            <p:cNvPr id="241" name=""/>
            <p:cNvSpPr/>
            <p:nvPr/>
          </p:nvSpPr>
          <p:spPr>
            <a:xfrm>
              <a:off x="520560" y="2560680"/>
              <a:ext cx="3124440" cy="10537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79960" y="2620440"/>
              <a:ext cx="3005280" cy="9338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ynergistic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rategic Alli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520560" y="3643200"/>
            <a:ext cx="3124440" cy="1066680"/>
            <a:chOff x="520560" y="3643200"/>
            <a:chExt cx="3124440" cy="1066680"/>
          </a:xfrm>
        </p:grpSpPr>
        <p:sp>
          <p:nvSpPr>
            <p:cNvPr id="244" name=""/>
            <p:cNvSpPr/>
            <p:nvPr/>
          </p:nvSpPr>
          <p:spPr>
            <a:xfrm>
              <a:off x="520560" y="364320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79960" y="370368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ranchis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ACE384-ABA8-4A56-977E-970E56465B35}" type="slidenum">
              <a:t>25</a:t>
            </a:fld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500"/>
                            </p:stCondLst>
                            <p:childTnLst>
                              <p:par>
                                <p:cTn id="2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 flipV="1">
            <a:off x="53640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Assessment of Corporate-Leve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78236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mpared to business-level strategies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roader in scope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6600"/>
                </a:solidFill>
                <a:latin typeface="Wingdings"/>
                <a:ea typeface="Wingdings"/>
              </a:rPr>
              <a:t>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More complex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re cost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22120" indent="-2221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an lead to competitive advantage and value when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ccessful alliance experiences are internal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625320" indent="-284040">
              <a:spcBef>
                <a:spcPts val="9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irm uses such strategies to develop useful knowledge about how to succeed in the futur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B0E829-7300-41E1-AF9B-D685D44C0098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ross-border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ith headquarters in different nations combine their resources and capabilities to create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firm may form cross-border strategic alliances to leverage core competencies that are the foundation of its domestic success to expand into international marke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E9E68-C823-4E03-8BC9-62CC42FCD711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ternational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Synergistic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risk sharing by reducing financial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st partner knows local market and custo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ternational alliances can be difficult to manage due to differences in management styles, cultures or regulatory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ust gauge partner’s strategic intent such that the partner does not gain access to important technology and become a competito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64A21-182C-4827-A58E-1F0BB3858638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cooperative strategy wherein several firms agree to form multiple partnerships to achieve shared objective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table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ynamic alliance net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ffective social relationships and interactions among partners are keys to a successful network cooperative strateg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2F8F4B-5A6E-4C96-8A47-C746641BD6A8}" type="slidenum">
              <a:t>29</a:t>
            </a:fld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5181480" cy="459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Tahoma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904760"/>
            <a:ext cx="8229600" cy="42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cooperative strategies’ risks. 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6699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wo approaches used to manage cooperative strategies.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104472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F29950-2F57-4383-9E2D-87C6F8A94517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56" name=""/>
          <p:cNvSpPr/>
          <p:nvPr/>
        </p:nvSpPr>
        <p:spPr>
          <a:xfrm>
            <a:off x="3962520" y="1528920"/>
            <a:ext cx="44956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Long term relationships that often appear in mature industries where demand is relatively constant and predic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60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Stable networks are built for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it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the economies (scale and/or scope) available between the fi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505320" y="1523880"/>
            <a:ext cx="838080" cy="34290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3429000"/>
              <a:gd name="textAreaBottom" fmla="*/ 342936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2890"/>
                </a:lnTo>
                <a:cubicBezTo>
                  <a:pt x="10800" y="2890"/>
                  <a:pt x="5400" y="2890"/>
                  <a:pt x="0" y="2890"/>
                </a:cubicBezTo>
                <a:cubicBezTo>
                  <a:pt x="5400" y="2890"/>
                  <a:pt x="10800" y="2890"/>
                  <a:pt x="10800" y="289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520560" y="1419120"/>
            <a:ext cx="3124440" cy="1066680"/>
            <a:chOff x="520560" y="1419120"/>
            <a:chExt cx="3124440" cy="1066680"/>
          </a:xfrm>
        </p:grpSpPr>
        <p:sp>
          <p:nvSpPr>
            <p:cNvPr id="259" name=""/>
            <p:cNvSpPr/>
            <p:nvPr/>
          </p:nvSpPr>
          <p:spPr>
            <a:xfrm>
              <a:off x="520560" y="1419120"/>
              <a:ext cx="3124440" cy="10666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79960" y="1479600"/>
              <a:ext cx="3005280" cy="945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6AC72-19FA-41BA-B7B8-2664F00EDEB5}" type="slidenum">
              <a:t>30</a:t>
            </a:fld>
          </a:p>
        </p:txBody>
      </p:sp>
    </p:spTree>
  </p:cSld>
  <p:transition>
    <p:random/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500"/>
                                        <p:tgtEl>
                                          <p:spTgt spid="2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Network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"/>
          <p:cNvSpPr/>
          <p:nvPr/>
        </p:nvSpPr>
        <p:spPr>
          <a:xfrm>
            <a:off x="4038480" y="1479600"/>
            <a:ext cx="4419720" cy="40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Arrangements that evolve in industries with rapid technological change leading to short product life cyc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rimarily used to stimulate rapid, value-creating product innovation and subsequent successful market ent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Purpose is often </a:t>
            </a:r>
            <a:r>
              <a:rPr b="0" i="1" lang="en-US" sz="2400" spc="-1" strike="noStrike">
                <a:solidFill>
                  <a:srgbClr val="006699"/>
                </a:solidFill>
                <a:latin typeface="Arial"/>
              </a:rPr>
              <a:t>exploration</a:t>
            </a:r>
            <a:r>
              <a:rPr b="0" lang="en-US" sz="2400" spc="-1" strike="noStrike">
                <a:solidFill>
                  <a:srgbClr val="006699"/>
                </a:solidFill>
                <a:latin typeface="Arial"/>
              </a:rPr>
              <a:t> of new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1447920"/>
            <a:ext cx="838080" cy="4114800"/>
          </a:xfrm>
          <a:custGeom>
            <a:avLst/>
            <a:gdLst>
              <a:gd name="textAreaLeft" fmla="*/ 535320 w 838080"/>
              <a:gd name="textAreaRight" fmla="*/ 838440 w 83808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8542"/>
                </a:lnTo>
                <a:cubicBezTo>
                  <a:pt x="10800" y="8542"/>
                  <a:pt x="5400" y="8542"/>
                  <a:pt x="0" y="8542"/>
                </a:cubicBezTo>
                <a:cubicBezTo>
                  <a:pt x="5400" y="8542"/>
                  <a:pt x="10800" y="8542"/>
                  <a:pt x="10800" y="8542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520560" y="1407960"/>
            <a:ext cx="3124440" cy="1106280"/>
            <a:chOff x="520560" y="1407960"/>
            <a:chExt cx="3124440" cy="1106280"/>
          </a:xfrm>
        </p:grpSpPr>
        <p:sp>
          <p:nvSpPr>
            <p:cNvPr id="265" name=""/>
            <p:cNvSpPr/>
            <p:nvPr/>
          </p:nvSpPr>
          <p:spPr>
            <a:xfrm>
              <a:off x="520560" y="1407960"/>
              <a:ext cx="3124440" cy="1106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79960" y="1470960"/>
              <a:ext cx="3005280" cy="980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Stable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520560" y="2552760"/>
            <a:ext cx="3124440" cy="1066320"/>
            <a:chOff x="520560" y="2552760"/>
            <a:chExt cx="3124440" cy="1066320"/>
          </a:xfrm>
        </p:grpSpPr>
        <p:sp>
          <p:nvSpPr>
            <p:cNvPr id="268" name=""/>
            <p:cNvSpPr/>
            <p:nvPr/>
          </p:nvSpPr>
          <p:spPr>
            <a:xfrm>
              <a:off x="520560" y="2552760"/>
              <a:ext cx="3124440" cy="106632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79960" y="2613240"/>
              <a:ext cx="3005280" cy="94500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Dynamic Alliance</a:t>
              </a:r>
              <a:br>
                <a:rPr sz="2400"/>
              </a:b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Network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26CAB4-522F-4EAB-9498-600B10C1DF1F}" type="slidenum">
              <a:t>31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500"/>
                            </p:stCondLst>
                            <p:childTnLst>
                              <p:par>
                                <p:cTn id="2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500"/>
                            </p:stCondLst>
                            <p:childTnLst>
                              <p:par>
                                <p:cTn id="2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500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0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2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0688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mpetitive Risks of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act opportunistically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may misrepresent competencies brought to the partnership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Partners fail to make committed resources and capabilities available to other partners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ne partner may make investments that are specific to the alliance while its partner does not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FE824-7707-49BD-BA96-FBDB9936701A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533520"/>
            <a:ext cx="7934400" cy="368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6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3300"/>
                </a:solidFill>
                <a:latin typeface="Arial"/>
              </a:rPr>
              <a:t>9.4</a:t>
            </a:r>
            <a:r>
              <a:rPr b="1" i="1" lang="en-US" sz="16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naging Competitive Risks in Cooperative Strategi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457200"/>
            <a:ext cx="8229600" cy="46656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457200" y="577800"/>
            <a:ext cx="1828800" cy="479160"/>
            <a:chOff x="457200" y="577800"/>
            <a:chExt cx="1828800" cy="479160"/>
          </a:xfrm>
        </p:grpSpPr>
        <p:sp>
          <p:nvSpPr>
            <p:cNvPr id="275" name=""/>
            <p:cNvSpPr/>
            <p:nvPr/>
          </p:nvSpPr>
          <p:spPr>
            <a:xfrm>
              <a:off x="685800" y="577800"/>
              <a:ext cx="0" cy="479160"/>
            </a:xfrm>
            <a:prstGeom prst="line">
              <a:avLst/>
            </a:prstGeom>
            <a:ln w="284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57200" y="88416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8076960" cy="2700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70DE4-AF47-4698-ACFA-E7A0717BDD42}" type="slidenum">
              <a:t>33</a:t>
            </a:fld>
          </a:p>
        </p:txBody>
      </p:sp>
    </p:spTree>
  </p:cSld>
  <p:transition>
    <p:random/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6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5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Risks in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670200" y="5724360"/>
            <a:ext cx="2430720" cy="4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Creating value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777960" y="4038480"/>
            <a:ext cx="2727360" cy="1295280"/>
            <a:chOff x="777960" y="4038480"/>
            <a:chExt cx="2727360" cy="1295280"/>
          </a:xfrm>
        </p:grpSpPr>
        <p:sp>
          <p:nvSpPr>
            <p:cNvPr id="281" name=""/>
            <p:cNvSpPr/>
            <p:nvPr/>
          </p:nvSpPr>
          <p:spPr>
            <a:xfrm>
              <a:off x="777960" y="4038480"/>
              <a:ext cx="2727360" cy="1295280"/>
            </a:xfrm>
            <a:prstGeom prst="rect">
              <a:avLst/>
            </a:prstGeom>
            <a:gradFill rotWithShape="0">
              <a:gsLst>
                <a:gs pos="0">
                  <a:srgbClr val="5e2f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829800" y="4112640"/>
              <a:ext cx="2623320" cy="114732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5e2f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isk and Asset 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nagement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Approach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"/>
          <p:cNvGrpSpPr/>
          <p:nvPr/>
        </p:nvGrpSpPr>
        <p:grpSpPr>
          <a:xfrm>
            <a:off x="777960" y="5562720"/>
            <a:ext cx="2727360" cy="609480"/>
            <a:chOff x="777960" y="5562720"/>
            <a:chExt cx="2727360" cy="609480"/>
          </a:xfrm>
        </p:grpSpPr>
        <p:sp>
          <p:nvSpPr>
            <p:cNvPr id="284" name=""/>
            <p:cNvSpPr/>
            <p:nvPr/>
          </p:nvSpPr>
          <p:spPr>
            <a:xfrm>
              <a:off x="777960" y="5562720"/>
              <a:ext cx="2727360" cy="60948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829800" y="5597280"/>
              <a:ext cx="2623320" cy="54000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Desired Outcom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"/>
          <p:cNvGrpSpPr/>
          <p:nvPr/>
        </p:nvGrpSpPr>
        <p:grpSpPr>
          <a:xfrm>
            <a:off x="777960" y="1425600"/>
            <a:ext cx="2727360" cy="2231280"/>
            <a:chOff x="777960" y="1425600"/>
            <a:chExt cx="2727360" cy="2231280"/>
          </a:xfrm>
        </p:grpSpPr>
        <p:sp>
          <p:nvSpPr>
            <p:cNvPr id="287" name=""/>
            <p:cNvSpPr/>
            <p:nvPr/>
          </p:nvSpPr>
          <p:spPr>
            <a:xfrm>
              <a:off x="777960" y="1425600"/>
              <a:ext cx="2727360" cy="223128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29800" y="1552680"/>
              <a:ext cx="2623320" cy="1977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ompetitive</a:t>
              </a:r>
              <a:br>
                <a:rPr sz="2400"/>
              </a:b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Ris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89" name=""/>
          <p:cNvCxnSpPr>
            <a:stCxn id="287" idx="2"/>
            <a:endCxn id="281" idx="0"/>
          </p:cNvCxnSpPr>
          <p:nvPr/>
        </p:nvCxnSpPr>
        <p:spPr>
          <a:xfrm>
            <a:off x="2141280" y="3657600"/>
            <a:ext cx="1080" cy="3816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290" name=""/>
          <p:cNvCxnSpPr>
            <a:stCxn id="281" idx="2"/>
            <a:endCxn id="284" idx="0"/>
          </p:cNvCxnSpPr>
          <p:nvPr/>
        </p:nvCxnSpPr>
        <p:spPr>
          <a:xfrm>
            <a:off x="2141280" y="5333760"/>
            <a:ext cx="1080" cy="2293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291" name=""/>
          <p:cNvSpPr/>
          <p:nvPr/>
        </p:nvSpPr>
        <p:spPr>
          <a:xfrm>
            <a:off x="3598920" y="4114800"/>
            <a:ext cx="485928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tailed contracts and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Developing trusting relationsh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98920" y="1495440"/>
            <a:ext cx="48592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Inadequate contra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Misrepresentation of compet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Partners fail to use their complementary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751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Arial"/>
              </a:rPr>
              <a:t>Holding alliance partner’s specific investments host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CB70-F3CA-4F46-8ABF-F8D618C81EBB}" type="slidenum">
              <a:t>34</a:t>
            </a:fld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0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500"/>
                            </p:stCondLst>
                            <p:childTnLst>
                              <p:par>
                                <p:cTn id="2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1000"/>
                            </p:stCondLst>
                            <p:childTnLst>
                              <p:par>
                                <p:cTn id="32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st Minimization Management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ve formal contracts with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strategy is to be monitor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y how partner behavior is to be controll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t goals that minimize costs and to prevent opportunistic behavior by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F5EA10-D60D-4951-B76A-5DEDFC73E95A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Managing Cooperative Strategi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Opportunity Maximization Approach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ximize partnership’s value-creation opportun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Learn from each oth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lore additional marketplace pos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intain less formal contracts, fewer constrai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8CAF86-D059-4A07-BF67-CBC393968ED8}" type="slidenum">
              <a:t>36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operative Strateg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ve Strategy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strategy in which firms work together to achieve a shared objecti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4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operating with other firms is a strategy that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reates value for a custom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ceeds the cost of constructing customer value in other way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ablishes a favorable position relative to  competito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EF6169-688B-4414-AE23-B89742107DA0}" type="slidenum">
              <a:t>4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A primary type of cooperative strategy in which firms combine some of their resources and capabilities to create a mutual competitive advantage.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volves the exchange and sharing of resources and capabilities to co-develop or distribute goods and servi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quires cooperative behavior from all partn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CAFAC-E5C5-4E22-98A8-4BF577B2E231}" type="slidenum">
              <a:t>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 Behavio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xamples of cooperative behavior known to contribute to alliance success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ctively solving problem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eing trustworth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ly pursuing ways to combine partners’ resources and capabilities to create valu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Collaborative (Relational) Advantag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competitive advantage developed through a cooperative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2D875F-F8D8-4AE6-826C-2E8DE18F02CB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Allianc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21120" y="3057480"/>
            <a:ext cx="3105000" cy="1736640"/>
            <a:chOff x="3021120" y="3057480"/>
            <a:chExt cx="3105000" cy="1736640"/>
          </a:xfrm>
        </p:grpSpPr>
        <p:sp>
          <p:nvSpPr>
            <p:cNvPr id="111" name=""/>
            <p:cNvSpPr/>
            <p:nvPr/>
          </p:nvSpPr>
          <p:spPr>
            <a:xfrm>
              <a:off x="3021120" y="3057480"/>
              <a:ext cx="3105000" cy="1736640"/>
            </a:xfrm>
            <a:prstGeom prst="rect">
              <a:avLst/>
            </a:prstGeom>
            <a:gradFill rotWithShape="0">
              <a:gsLst>
                <a:gs pos="0">
                  <a:srgbClr val="004646"/>
                </a:gs>
                <a:gs pos="100000">
                  <a:srgbClr val="0099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079800" y="3122280"/>
              <a:ext cx="2987640" cy="1605240"/>
            </a:xfrm>
            <a:prstGeom prst="rect">
              <a:avLst/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ffffff"/>
                  </a:solidFill>
                  <a:latin typeface="Arial"/>
                </a:rPr>
                <a:t>Comb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907920" y="2157480"/>
            <a:ext cx="2725920" cy="1330200"/>
            <a:chOff x="907920" y="2157480"/>
            <a:chExt cx="2725920" cy="1330200"/>
          </a:xfrm>
        </p:grpSpPr>
        <p:sp>
          <p:nvSpPr>
            <p:cNvPr id="114" name=""/>
            <p:cNvSpPr/>
            <p:nvPr/>
          </p:nvSpPr>
          <p:spPr>
            <a:xfrm>
              <a:off x="907920" y="21574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66960" y="2215800"/>
              <a:ext cx="2608200" cy="1212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662440" y="2155680"/>
            <a:ext cx="2725920" cy="1330200"/>
            <a:chOff x="5662440" y="2155680"/>
            <a:chExt cx="2725920" cy="1330200"/>
          </a:xfrm>
        </p:grpSpPr>
        <p:sp>
          <p:nvSpPr>
            <p:cNvPr id="117" name=""/>
            <p:cNvSpPr/>
            <p:nvPr/>
          </p:nvSpPr>
          <p:spPr>
            <a:xfrm>
              <a:off x="5662440" y="2155680"/>
              <a:ext cx="2725920" cy="1330200"/>
            </a:xfrm>
            <a:prstGeom prst="rect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721480" y="2214360"/>
              <a:ext cx="2608200" cy="121284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3139920" y="1449360"/>
            <a:ext cx="1409760" cy="1409760"/>
            <a:chOff x="3139920" y="1449360"/>
            <a:chExt cx="1409760" cy="1409760"/>
          </a:xfrm>
        </p:grpSpPr>
        <p:sp>
          <p:nvSpPr>
            <p:cNvPr id="120" name=""/>
            <p:cNvSpPr/>
            <p:nvPr/>
          </p:nvSpPr>
          <p:spPr>
            <a:xfrm>
              <a:off x="3139920" y="144936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66768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98960" y="1508040"/>
              <a:ext cx="1292040" cy="129240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56676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595760" y="1447920"/>
            <a:ext cx="1409760" cy="1409760"/>
            <a:chOff x="4595760" y="1447920"/>
            <a:chExt cx="1409760" cy="1409760"/>
          </a:xfrm>
        </p:grpSpPr>
        <p:sp>
          <p:nvSpPr>
            <p:cNvPr id="123" name=""/>
            <p:cNvSpPr/>
            <p:nvPr/>
          </p:nvSpPr>
          <p:spPr>
            <a:xfrm>
              <a:off x="4595760" y="1447920"/>
              <a:ext cx="1409760" cy="1409760"/>
            </a:xfrm>
            <a:prstGeom prst="ellipse">
              <a:avLst/>
            </a:prstGeom>
            <a:gradFill rotWithShape="0">
              <a:gsLst>
                <a:gs pos="0">
                  <a:srgbClr val="5e1700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54440" y="1506600"/>
              <a:ext cx="1292400" cy="129204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5e17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Firm 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1312920" y="5191200"/>
            <a:ext cx="6521400" cy="965160"/>
            <a:chOff x="1312920" y="5191200"/>
            <a:chExt cx="6521400" cy="965160"/>
          </a:xfrm>
        </p:grpSpPr>
        <p:sp>
          <p:nvSpPr>
            <p:cNvPr id="126" name=""/>
            <p:cNvSpPr/>
            <p:nvPr/>
          </p:nvSpPr>
          <p:spPr>
            <a:xfrm>
              <a:off x="1312920" y="5191200"/>
              <a:ext cx="6521400" cy="965160"/>
            </a:xfrm>
            <a:prstGeom prst="rect">
              <a:avLst/>
            </a:prstGeom>
            <a:gradFill rotWithShape="0">
              <a:gsLst>
                <a:gs pos="0">
                  <a:srgbClr val="864300"/>
                </a:gs>
                <a:gs pos="100000">
                  <a:srgbClr val="cc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363680" y="5249880"/>
              <a:ext cx="6418080" cy="847800"/>
            </a:xfrm>
            <a:prstGeom prst="rect">
              <a:avLst/>
            </a:prstGeom>
            <a:gradFill rotWithShape="0">
              <a:gsLst>
                <a:gs pos="0">
                  <a:srgbClr val="cc6600"/>
                </a:gs>
                <a:gs pos="100000">
                  <a:srgbClr val="864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utual interests in designing, manufacturing,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or distributing goods or serv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8" name=""/>
          <p:cNvCxnSpPr>
            <a:stCxn id="111" idx="2"/>
            <a:endCxn id="126" idx="0"/>
          </p:cNvCxnSpPr>
          <p:nvPr/>
        </p:nvCxnSpPr>
        <p:spPr>
          <a:xfrm>
            <a:off x="4573080" y="4793760"/>
            <a:ext cx="1080" cy="397800"/>
          </a:xfrm>
          <a:prstGeom prst="straightConnector1">
            <a:avLst/>
          </a:prstGeom>
          <a:ln cap="sq" w="28440">
            <a:solidFill>
              <a:srgbClr val="000000"/>
            </a:solidFill>
            <a:miter/>
            <a:tailEnd len="lg" type="stealth" w="lg"/>
          </a:ln>
        </p:spPr>
      </p:cxnSp>
      <p:grpSp>
        <p:nvGrpSpPr>
          <p:cNvPr id="129" name=""/>
          <p:cNvGrpSpPr/>
          <p:nvPr/>
        </p:nvGrpSpPr>
        <p:grpSpPr>
          <a:xfrm>
            <a:off x="2260440" y="3483000"/>
            <a:ext cx="4613400" cy="453600"/>
            <a:chOff x="2260440" y="3483000"/>
            <a:chExt cx="4613400" cy="453600"/>
          </a:xfrm>
        </p:grpSpPr>
        <p:sp>
          <p:nvSpPr>
            <p:cNvPr id="130" name=""/>
            <p:cNvSpPr/>
            <p:nvPr/>
          </p:nvSpPr>
          <p:spPr>
            <a:xfrm>
              <a:off x="2260440" y="348768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73840" y="3483000"/>
              <a:ext cx="0" cy="448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2260440" y="3921120"/>
            <a:ext cx="4613400" cy="4680"/>
            <a:chOff x="2260440" y="3921120"/>
            <a:chExt cx="4613400" cy="4680"/>
          </a:xfrm>
        </p:grpSpPr>
        <p:sp>
          <p:nvSpPr>
            <p:cNvPr id="133" name=""/>
            <p:cNvSpPr/>
            <p:nvPr/>
          </p:nvSpPr>
          <p:spPr>
            <a:xfrm>
              <a:off x="2260440" y="392580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6114960" y="3921120"/>
              <a:ext cx="758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E9A7EA-FCB7-4B45-BAB0-7CB159949071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ree Types of Strategic Allianc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Joint Ventur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create a legally independent company by sharing some of their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artners who own different percentages of equity in a separate company they have form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Nonequity Strategic Alliance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wo or more firms develop a contractual relationship to share some of their unique resources and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9E4BA-A87E-4E22-A758-75AB0E3BA5B1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560" y="426600"/>
            <a:ext cx="8381880" cy="3988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Autofit/>
          </a:bodyPr>
          <a:p>
            <a:pPr marL="2057400" indent="0"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Table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9.1</a:t>
            </a:r>
            <a:r>
              <a:rPr b="1" i="1" lang="en-US" sz="20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s for Strategic Alliances by Market Type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60360" y="1219320"/>
            <a:ext cx="8402760" cy="51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90680" indent="-2290680">
              <a:spcBef>
                <a:spcPts val="1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low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a restricted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a franchise in a new market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stability (e.g., establishing standard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ast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development of new goods or servi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peed up new market ent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aintain market leadership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Form an industry technology standar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Share risky R&amp;D expens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uncertain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90680" indent="-2290680">
              <a:spcBef>
                <a:spcPts val="9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-Cyc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market power (reduce industry overcapacity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Gain access to complementary resourc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Establish better economies of sca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Overcome trade barrie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Meet competitive challenges from other competitor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Pool resources for very large capital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• Learn new business techn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6E1C9-1672-4248-A0AE-481B1CD686CA}" type="slidenum">
              <a:t>9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The University of West Alabama</dc:creator>
  <dc:description/>
  <dc:language>en-US</dc:language>
  <cp:lastModifiedBy>dii</cp:lastModifiedBy>
  <dcterms:modified xsi:type="dcterms:W3CDTF">2007-06-12T13:38:31Z</dcterms:modified>
  <cp:revision>41</cp:revision>
  <dc:subject>Chapter 9</dc:subject>
  <dc:title>Strategic Management 7e.</dc:title>
</cp:coreProperties>
</file>