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BE39-29BB-4613-A8EE-0602FDAB9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2174-796C-4B9D-8156-9B13FE6E2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426E-AF5F-4605-B76D-E1117F780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5BBC-05BC-47AE-9C5B-127875616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D7BD-8E63-473C-8838-600B4A5A5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B8150-FE0B-48E8-AF36-414F88B34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E518-6852-4B33-B622-E0C9A3AF7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3FCC9-FE50-4B5A-B645-92CAEB3A9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9D9B-FD11-4B0D-A05F-6DA07B4A6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F192-0EAB-4358-A0DE-541138F5D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519C-732A-46DA-AA27-C33C43EA7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39CE-89C3-495F-BC7C-F80DDD9B5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1C37-8905-4320-8D97-2789DC424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9CFA-0C64-4D61-966B-B7A4BFBE8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906C-46C1-4A62-8B4B-B13E87D14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8FB1-9137-4A4D-8617-6ECA7D047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A670-DF4B-47A4-8EE3-A7AC00FE4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BAD4-9BAE-48B5-9133-8CE9C2B22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2761-0102-4FFA-8030-68FDD428D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8452-A58D-4394-9B51-9A1902277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AF22-5720-4589-BF13-ED7AF1BEF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DABA-1375-4536-9A1D-2A99DA881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99DD-6D9D-4DC1-9EAA-000E6F8D4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58D9-A56D-4401-B75B-DBED4F07A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ADC0-F0A2-4783-86CD-0BC9C3FE1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5E11-9A4E-4634-BDD1-04C64A72D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5DE4-84FD-40F1-A8D2-98C280B97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4F59-F30D-4E4B-96FC-2E965EE7C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081C3-75F8-4043-A493-174A16A04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1965-E50D-4B7E-970D-7BBC2B6D2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CBC85D-FA12-4CF8-81B0-9F37AA56CF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47B265-FFFD-415C-8E92-CDC5138A1E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3022D3-45EA-4482-A21B-FFFB857A4A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767E5B-59BC-41B3-BEE6-26AF679242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2B3F38-DE1E-4D59-8229-E4ED3BD777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FF54D0-D4EB-40DA-A572-6B12DAD88C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E12700-85B7-4007-A136-26F08C15E4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5618B1-3BB5-4403-8C36-EB851AE493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46EC90-32FC-4814-9C7A-688E0EC772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6732E4-B604-4471-892F-219B897F1A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F66BCA-1B9D-4449-BD67-9BFACC7E50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13FA25-F0E5-4E4C-B46A-357FDB9B0F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9F4F2E8E-EEF3-4187-B504-D2FE7B12E996}"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70C35F85-6489-4C19-99EE-0F308376BDE9}"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ADB2C6-D9B1-4BC1-BFAB-34F14B532B9A}"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C6B4D79-7559-4ED5-9742-ECE176204ADD}"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0148FB2-4744-499B-8A64-B1C62524D38C}"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0AD44C6-F3FE-4EFE-AE09-143E2F78CAE8}"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B02C052-E698-4707-BDDC-C265C7E7AC71}"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E0876EE-ECCF-482C-9636-22D9FD8CDD0C}"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B245E84A-450B-4E27-B86A-2608EF2957A6}"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97B222D-E983-4A2E-8FD7-4F7F95E1522F}"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966BAD2-268D-45DD-93BD-403D5BC932E0}"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47B037-4528-4948-A73D-A56BC95FA124}"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725670-5CED-4204-9DB5-30F51F621CA1}"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81981A-C30D-477B-A033-6C3CC719126D}"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8E4869-6437-4AE0-8441-9677E26595DB}"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7967F8C-2F0F-4503-AB4A-5B230DA6FF4A}"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ADE8E29-744A-4598-8F08-8B4452E63A46}"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7C4EE85-3A7C-4B76-B2C2-33BA0C3ED47B}"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D125BA0-1CB3-4680-BF44-5A6BC8C059F8}"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66ED155-DB15-40D5-9CD0-441D4A0E790C}"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D37FDC8-8170-458E-9AB0-EF6F27D51C59}"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7E4FB65-B15F-4725-88E6-6C6D3D88356D}"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6779D98-253F-4C08-ADB1-F79B989C0C6E}"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16FC9D6-BC0C-4B22-80FB-F2823AB138C1}"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823E777-2D24-41AD-9383-CE4CB2ACA516}"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8717983-1ED6-4E43-B0DA-CE85FE0E0BCE}"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E4E2FC2E-B094-43EB-986C-447C70703BE2}"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DB5A3B99-92E8-4383-8570-4986118A957F}"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D49FA6D8-07BE-4170-9BBC-D262AFC55509}"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26DB22FB-2180-449B-B05B-3E1796F2605E}"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B27837E-2D79-4257-BA8E-6E67B97B4253}"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1EB990A-0B43-4C78-827E-8B91079F4631}"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2DD074F-3755-4595-B581-CF682877989F}"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C6DF1493-008B-429C-8342-5D70AFF7688F}"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7:36Z</dcterms:modified>
  <cp:revision>40</cp:revision>
  <dc:subject>Chapter 7</dc:subject>
  <dc:title>Strategic Management 7e.</dc:title>
</cp:coreProperties>
</file>