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2E7B8-5243-4FD6-A5F0-4F51EBF3AB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70902-31E1-4A9A-BBDD-021AC1B59E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74F6-ECC2-4809-9465-43B260F754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A3E1-DF4C-43E0-83CF-D89A4E6B6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7250-9A19-4613-96FC-8179569B9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7438-E4DB-459C-9FFE-88443B82D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77DD-7A27-4D23-AEF2-CD43E9E4D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CD25-8308-47A6-B2ED-AFBE5429C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A257-D775-4859-A5E0-17BABECBD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9AB9-7E2D-4AF3-86D1-177EFF81E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C343B-8979-44CE-8E65-92BF7B883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FA948-BB08-4A36-AD2C-AA29E2299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F4CB-DDD0-4610-AE64-0558BCF40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BC1F-78E0-4351-AB56-6720BCC8A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053F-7765-4587-A6A0-E8D1B69AD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26F5-FAE7-411A-99B4-4F84B9C47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EBF3-08C1-449E-9B8B-8D5E4E74E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1A18-5D07-4FC7-974F-DDFA0B052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8B41-D827-4716-AEF2-3CBBD51FB8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DE5D-80E8-4911-B1A0-1C00CFDE9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90130-6759-49B6-8544-EE2CA03D82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35C3-40BA-4783-876C-24907E0CE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3DDBF-3F03-4F66-ACA3-274968FBF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EB52-9330-429A-82FF-1A40E6FC5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7A6A-C7B9-4D5F-9DCA-396EC2478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9279-AFC7-4B72-B6A8-535DC518B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4C40-66A7-4D6E-A18A-1DA534848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E8A6-AF2B-4056-9FA7-50A535DBA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F3F38-E356-48A1-BB34-45203D95DA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FF66-8BDE-4015-9DFA-10A131F04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B571-7B45-4967-AE5E-5C8827F67B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5A520-C171-4C21-9A6E-41B4B12F2F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C6C53-6820-4DB0-B877-15063B6C69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48B20-8C41-44C2-853E-946D9CF494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FECF6-59AC-45CE-94AE-8114565F8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BDB30-CB7D-4CB5-A867-16BF174FBF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281A-64F4-433B-8D3B-7285EB28F7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FD7D6-3C53-4797-97B0-71E6D12CB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0342-61D8-4377-B80B-FF2B628B1E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AF49D-3226-4816-830A-5AF5CBB596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C56AB-7661-44B9-814D-C644D752CC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CC062-EA62-45F3-A2D4-18194180F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5B83F-B9B7-4DBA-81D9-5E4644AD6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–</a:t>
            </a:r>
            <a:fld id="{D3A6A186-887D-44DC-A2AD-7E98C60EA2EB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1197000"/>
            <a:ext cx="5562720" cy="23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2</a:t>
            </a:r>
            <a:br>
              <a:rPr sz="28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 External Environment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Opportunities, Threats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dustry Competition,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d Competitor Analysis</a:t>
            </a:r>
            <a:endParaRPr b="0" i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003366"/>
                </a:solidFill>
                <a:latin typeface="Arial"/>
              </a:rPr>
              <a:t>2.2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onents of the External Environmental Analysi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8080"/>
            <a:ext cx="8458200" cy="48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n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ing early signal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ng meaning through ongoing observations of environmental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eca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ing projections of anticipated outcomes based on monitored changes and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05160" indent="-2405160">
              <a:spcBef>
                <a:spcPts val="1049"/>
              </a:spcBef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es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ing the timing and importance of environmental changes and trends for firms’ strategies and thei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18A8A-9288-4B2E-8B02-8DC60F3DF887}" type="slidenum">
              <a:t>10</a:t>
            </a:fld>
          </a:p>
        </p:txBody>
      </p:sp>
    </p:spTree>
  </p:cSld>
  <p:transition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pportunities and Threa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334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, if exploited, helps a company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ndition in the general environment that may hinder a company’s efforts to achieve strategic competitive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486400" y="1731960"/>
            <a:ext cx="304812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F0EC7-A482-4168-9CAB-36BCC9E368CD}" type="slidenum">
              <a:t>11</a:t>
            </a:fld>
          </a:p>
        </p:txBody>
      </p:sp>
    </p:spTree>
  </p:cSld>
  <p:transition>
    <p:random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Demograph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pulation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g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eographic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thnic mi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ome distribu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952880" y="2322360"/>
            <a:ext cx="3311640" cy="3316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B21AB-2552-4880-B54C-6B68214F59AB}" type="slidenum">
              <a:t>12</a:t>
            </a:fld>
          </a:p>
        </p:txBody>
      </p:sp>
    </p:spTree>
  </p:cSld>
  <p:transition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Economic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lation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est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ade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dget deficits or surplu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sonal savings rat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savings ra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ross domestic produc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2880000" cy="286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AE96-DFCC-423A-ABDB-552F1ECDB1CD}" type="slidenum">
              <a:t>13</a:t>
            </a:fld>
          </a:p>
        </p:txBody>
      </p:sp>
    </p:spTree>
  </p:cSld>
  <p:transition>
    <p:random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5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2578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Political/Leg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titrust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axation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regulation philosoph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bor training law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ducational philosophies and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097680" y="4089240"/>
            <a:ext cx="2436840" cy="208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05795-C264-4536-A122-061F364B4483}" type="slidenum">
              <a:t>14</a:t>
            </a:fld>
          </a:p>
        </p:txBody>
      </p:sp>
    </p:spTree>
  </p:cSld>
  <p:transition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ociocultur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men in the workpla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kforce divers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itudes about quality of worklif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s about environ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work and career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hifts in product and service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F963A-F516-41D0-B738-C6EF9BD593D6}" type="slidenum">
              <a:t>15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30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Aft>
                <a:spcPts val="1400"/>
              </a:spcAft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echnologic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innov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pplications of knowled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 of private and government-supported R&amp;D expenditur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communication 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EC510-3EA3-4EB3-B3AF-1060C4BB3175}" type="slidenum">
              <a:t>16</a:t>
            </a:fld>
          </a:p>
        </p:txBody>
      </p:sp>
    </p:spTree>
  </p:cSld>
  <p:transition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egments of the General Environment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563868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Global Seg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ortant political ev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itical global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ly industrialized countr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 cultural and institutional attrib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735520" y="4284720"/>
            <a:ext cx="2646360" cy="182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76C4B-435E-4424-863B-3E3E09328AB1}" type="slidenum">
              <a:t>17</a:t>
            </a:fld>
          </a:p>
        </p:txBody>
      </p:sp>
    </p:spTree>
  </p:cSld>
  <p:transition>
    <p:random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producing products that are close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ms that influence one 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s a rich mix of competitive strategies that companies use in pursuing strategic competitiveness and above-average retu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5904-2A60-4892-BC1D-BEE575C24FE4}" type="slidenum">
              <a:t>18</a:t>
            </a:fld>
          </a:p>
        </p:txBody>
      </p:sp>
    </p:spTree>
  </p:cSld>
  <p:transition>
    <p:random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46620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ve Forces of Competition Model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44784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4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009880" y="1181160"/>
            <a:ext cx="5124240" cy="5143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3F1C3-8108-4981-B3FD-E06B7595699F}" type="slidenum">
              <a:t>19</a:t>
            </a:fld>
          </a:p>
        </p:txBody>
      </p:sp>
    </p:spTree>
  </p:cSld>
  <p:transition>
    <p:random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2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analyzing and understanding the firm’s external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escribe the general environment and the industry environment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our activities of the external environmental analysis proces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and describe the general environment’s six segment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601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five competitive forces and explain how they determine an industry’s profit potential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D6EA6-51A3-483B-BBBD-FC588970F66B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New Entrants: 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CFD17-22A0-4249-BCEA-F707F31DF17A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500"/>
                            </p:stCondLst>
                            <p:childTnLst>
                              <p:par>
                                <p:cTn id="4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5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ginal improvements in efficiency that a firm experiences as it incrementally increases its siz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actors (advantages and disadvantages) related to large- and small-scale entr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 in pricing and market sha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s related to scale econom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or retal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1A75-8FB5-4FA1-8FDA-FB296B58C90B}" type="slidenum">
              <a:t>21</a:t>
            </a:fld>
          </a:p>
        </p:txBody>
      </p:sp>
    </p:spTree>
  </p:cSld>
  <p:transition>
    <p:random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Unique produc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ustomer loyalt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s at competitive pri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apital Requiremen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hysical facil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Invento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Marketing activit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Availability of capital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43040" y="1219320"/>
            <a:ext cx="43434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witching Cos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One-time costs customers incur when they buy from a different supplier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raining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ic costs of ending a relation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8640" indent="-27864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ccess to Distribution Channel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Stocking or shelf spac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ice break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Cooperative advertising allowanc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526AC-A2A0-4E43-B004-7560FE8224ED}" type="slidenum">
              <a:t>22</a:t>
            </a:fld>
          </a:p>
        </p:txBody>
      </p:sp>
    </p:spTree>
  </p:cSld>
  <p:transition>
    <p:random/>
  </p:transition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500"/>
                            </p:stCondLst>
                            <p:childTnLst>
                              <p:par>
                                <p:cTn id="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200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riers to Entr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st Disadvantages Independent of Sca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prietary product technolog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avorable access to raw material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sirable location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Government policy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Licensing and permit requirement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regulation of industries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xpected retaliation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Responses by existing competitors may depend on a firm’s present stake in the industry (available business options)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marL="290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86282-E1B0-46F2-8CB5-E91EA9E57057}" type="slidenum">
              <a:t>23</a:t>
            </a:fld>
          </a:p>
        </p:txBody>
      </p:sp>
    </p:spTree>
  </p:cSld>
  <p:transition>
    <p:random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000"/>
                            </p:stCondLst>
                            <p:childTnLst>
                              <p:par>
                                <p:cTn id="5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150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500"/>
                            </p:stCondLst>
                            <p:childTnLst>
                              <p:par>
                                <p:cTn id="6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Suppli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li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itable substitute products are not avail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vidual buyers are not large customers of suppliers and there are many of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goods are critical to the buyers’ marketplace suc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’ products create high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 pose a threat to integrate forward into buy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1933C-F47C-40B2-B32F-0CBB52B3A4E0}" type="slidenum">
              <a:t>24</a:t>
            </a:fld>
          </a:p>
        </p:txBody>
      </p:sp>
    </p:spTree>
  </p:cSld>
  <p:transition>
    <p:random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argaining Power of Buy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uyer power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are large and few in numb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purchase a large portion of an industry’s total outpu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purchases are a significant portion of a supplier’s annual reven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’ switching costs are low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can pose threat to integrate backward into the sellers’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259A-90A9-444D-8B60-31928E3F63C5}" type="slidenum">
              <a:t>25</a:t>
            </a:fld>
          </a:p>
        </p:txBody>
      </p:sp>
    </p:spTree>
  </p:cSld>
  <p:transition>
    <p:random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fill="hold">
                      <p:stCondLst>
                        <p:cond delay="0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at of Substitute Produc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threat of substitute products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 face fe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ubstitute product’s price is low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bstitute product’s quality and performance are equal to or greater than the existing produc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iated industry products that are valued by customers reduce this threa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594F-CD0F-4EDD-B36C-1A6D66C82302}" type="slidenum">
              <a:t>26</a:t>
            </a:fld>
          </a:p>
        </p:txBody>
      </p:sp>
    </p:spTree>
  </p:cSld>
  <p:transition>
    <p:random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nsity of Rivalry Among Competi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rivalry increase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numerous or equally balanced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ustry growth slows or declin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are high fixed costs or high storage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re is a lack of differentiation opportunities or low switching cos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the strategic stakes are high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high exit barriers prevent competitors from leaving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C5B5E-38E1-4CE4-9AF7-D2992D907C33}" type="slidenum">
              <a:t>27</a:t>
            </a:fld>
          </a:p>
        </p:txBody>
      </p:sp>
    </p:spTree>
  </p:cSld>
  <p:transition>
    <p:random/>
  </p:transition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0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71640" y="1606680"/>
            <a:ext cx="29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871880" y="2633760"/>
            <a:ext cx="3538440" cy="2000160"/>
            <a:chOff x="4871880" y="2633760"/>
            <a:chExt cx="3538440" cy="2000160"/>
          </a:xfrm>
        </p:grpSpPr>
        <p:sp>
          <p:nvSpPr>
            <p:cNvPr id="170" name=""/>
            <p:cNvSpPr/>
            <p:nvPr/>
          </p:nvSpPr>
          <p:spPr>
            <a:xfrm>
              <a:off x="4871880" y="263376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74840" y="275436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Un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609480" y="2414520"/>
            <a:ext cx="324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strong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3040" y="36180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09680" y="477360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ns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7760" y="495612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Low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6320" y="193500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2440" y="2865600"/>
            <a:ext cx="138420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3568680" y="373500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603600" y="4167000"/>
            <a:ext cx="1552680" cy="896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F13A7-CE56-4A26-A191-E9F0AA3373D7}" type="slidenum">
              <a:t>28</a:t>
            </a:fld>
          </a:p>
        </p:txBody>
      </p:sp>
    </p:spTree>
  </p:cSld>
  <p:transition>
    <p:random/>
  </p:transition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fill="hold">
                      <p:stCondLst>
                        <p:cond delay="0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50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preting Industry Analys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4871880" y="2637000"/>
            <a:ext cx="3538440" cy="2000160"/>
            <a:chOff x="4871880" y="2637000"/>
            <a:chExt cx="3538440" cy="2000160"/>
          </a:xfrm>
        </p:grpSpPr>
        <p:sp>
          <p:nvSpPr>
            <p:cNvPr id="182" name=""/>
            <p:cNvSpPr/>
            <p:nvPr/>
          </p:nvSpPr>
          <p:spPr>
            <a:xfrm>
              <a:off x="4871880" y="2637000"/>
              <a:ext cx="3538440" cy="200016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74840" y="2757600"/>
              <a:ext cx="3330720" cy="17589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Attractive</a:t>
              </a:r>
              <a:br>
                <a:rPr sz="3200"/>
              </a:br>
              <a:r>
                <a:rPr b="0" lang="en-US" sz="32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880920" y="16002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entry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81120" y="23940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iers and buyers have weak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42840" y="3749760"/>
            <a:ext cx="288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 threats from substitute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262160" y="474012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rivalry among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27760" y="495936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High profit pot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86320" y="1938240"/>
            <a:ext cx="1761840" cy="101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18000" y="2868480"/>
            <a:ext cx="138420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568680" y="3738240"/>
            <a:ext cx="1314360" cy="352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45000" y="4208400"/>
            <a:ext cx="1552320" cy="897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CD227-36D8-4C58-91D5-7A8CEBF6DE5B}" type="slidenum">
              <a:t>29</a:t>
            </a:fld>
          </a:p>
        </p:txBody>
      </p:sp>
    </p:spTree>
  </p:cSld>
  <p:transition>
    <p:random/>
  </p:transition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0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500"/>
                            </p:stCondLst>
                            <p:childTnLst>
                              <p:par>
                                <p:cTn id="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500"/>
                            </p:stCondLst>
                            <p:childTnLst>
                              <p:par>
                                <p:cTn id="8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500"/>
                            </p:stCondLst>
                            <p:childTnLst>
                              <p:par>
                                <p:cTn id="8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000"/>
                            </p:stCondLst>
                            <p:childTnLst>
                              <p:par>
                                <p:cTn id="859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groups and describe their influence on the fir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63680" indent="-46368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what firms need to know about their competitors and different methods (including ethical standards) used to collect intelligence about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87A72-29A9-4875-B1EF-4316A662C895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Group Defin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et of firms emphasizing similar strategic dimensions and using simila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competition between strategic group firms is greater than between firms outside that strategic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more heterogeneity in the performance of firms within strategic grou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market posi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product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66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Arial"/>
              </a:rPr>
              <a:t>Similar strategic actions</a:t>
            </a: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955AF-8C46-4B71-A5A8-B9B140F0B7BA}" type="slidenum">
              <a:t>30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4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8" dur="5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1" dur="5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500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Group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Dimen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tent of technological leadership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qua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ing Poli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stribution channe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ustomer servic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678E2-F923-42C6-A58F-AFEBF95E86B3}" type="slidenum">
              <a:t>31</a:t>
            </a:fld>
          </a:p>
        </p:txBody>
      </p:sp>
    </p:spTree>
  </p:cSld>
  <p:transition>
    <p:random/>
  </p:transition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0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Intellige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ethical gathering of needed information and data that provides insight into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direction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future objectiv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capabilities and intentions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urrent strateg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beliefs about the industry (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assump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petitor’s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6CFA9-1CBF-48F2-A09D-9B51F03F60EA}" type="slidenum">
              <a:t>32</a:t>
            </a:fld>
          </a:p>
        </p:txBody>
      </p:sp>
    </p:spTree>
  </p:cSld>
  <p:transition>
    <p:random/>
  </p:transition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1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533520" y="609480"/>
            <a:ext cx="8324640" cy="5607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156040" cy="153828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934320" y="597960"/>
            <a:ext cx="1752480" cy="1343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2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or Analysis Compon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62244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53080" y="928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A1F10-2E67-4EC5-A550-E1E48D49ACB0}" type="slidenum">
              <a:t>33</a:t>
            </a:fld>
          </a:p>
        </p:txBody>
      </p:sp>
    </p:spTree>
  </p:cSld>
  <p:transition>
    <p:random/>
  </p:transition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0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600200"/>
            <a:ext cx="391608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our goals compare with our competitors’ go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will the emphasis be placed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is the attitude toward ris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561960" y="1492200"/>
            <a:ext cx="3400200" cy="932040"/>
            <a:chOff x="561960" y="1492200"/>
            <a:chExt cx="3400200" cy="932040"/>
          </a:xfrm>
        </p:grpSpPr>
        <p:sp>
          <p:nvSpPr>
            <p:cNvPr id="207" name=""/>
            <p:cNvSpPr/>
            <p:nvPr/>
          </p:nvSpPr>
          <p:spPr>
            <a:xfrm>
              <a:off x="561960" y="1492200"/>
              <a:ext cx="340020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9400" y="1595520"/>
              <a:ext cx="314496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962520" y="1523880"/>
            <a:ext cx="838080" cy="2895840"/>
          </a:xfrm>
          <a:custGeom>
            <a:avLst/>
            <a:gdLst>
              <a:gd name="textAreaLeft" fmla="*/ 535320 w 838080"/>
              <a:gd name="textAreaRight" fmla="*/ 838440 w 838080"/>
              <a:gd name="textAreaTop" fmla="*/ 1440 h 2895840"/>
              <a:gd name="textAreaBottom" fmla="*/ 2894400 h 289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3297"/>
                </a:lnTo>
                <a:cubicBezTo>
                  <a:pt x="10800" y="3318"/>
                  <a:pt x="5400" y="3339"/>
                  <a:pt x="0" y="3339"/>
                </a:cubicBezTo>
                <a:cubicBezTo>
                  <a:pt x="5400" y="3339"/>
                  <a:pt x="10800" y="3360"/>
                  <a:pt x="10800" y="3381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304FB-2C6B-4C9A-8008-CE31054495E7}" type="slidenum">
              <a:t>34</a:t>
            </a:fld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0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"/>
                            </p:stCondLst>
                            <p:childTnLst>
                              <p:par>
                                <p:cTn id="9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4397400" y="2055960"/>
            <a:ext cx="388152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are we currently compet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es this strategy support changes in the competitive struc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13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16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3962520" y="198108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9938"/>
                </a:lnTo>
                <a:cubicBezTo>
                  <a:pt x="10800" y="9959"/>
                  <a:pt x="5400" y="9980"/>
                  <a:pt x="0" y="9980"/>
                </a:cubicBezTo>
                <a:cubicBezTo>
                  <a:pt x="5400" y="9980"/>
                  <a:pt x="10800" y="10001"/>
                  <a:pt x="10800" y="10022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520B-3821-4CEB-8F2F-F6FEAEA7BF94}" type="slidenum">
              <a:t>35</a:t>
            </a:fld>
          </a:p>
        </p:txBody>
      </p:sp>
    </p:spTree>
  </p:cSld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0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4427640" y="2514600"/>
            <a:ext cx="39164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Do we assume the future will be volati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we operating under a status qu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ssumptions do our competitors hold about the industry and themsel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533520" y="1486080"/>
            <a:ext cx="3422160" cy="931680"/>
            <a:chOff x="533520" y="1486080"/>
            <a:chExt cx="3422160" cy="931680"/>
          </a:xfrm>
        </p:grpSpPr>
        <p:sp>
          <p:nvSpPr>
            <p:cNvPr id="222" name=""/>
            <p:cNvSpPr/>
            <p:nvPr/>
          </p:nvSpPr>
          <p:spPr>
            <a:xfrm>
              <a:off x="533520" y="148608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61680" y="1589040"/>
              <a:ext cx="3165480" cy="7236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25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28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962520" y="2514600"/>
            <a:ext cx="838080" cy="3124080"/>
          </a:xfrm>
          <a:custGeom>
            <a:avLst/>
            <a:gdLst>
              <a:gd name="textAreaLeft" fmla="*/ 535320 w 838080"/>
              <a:gd name="textAreaRight" fmla="*/ 838440 w 838080"/>
              <a:gd name="textAreaTop" fmla="*/ 1800 h 3124080"/>
              <a:gd name="textAreaBottom" fmla="*/ 312228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0140"/>
                </a:lnTo>
                <a:cubicBezTo>
                  <a:pt x="10800" y="10161"/>
                  <a:pt x="5400" y="10182"/>
                  <a:pt x="0" y="10182"/>
                </a:cubicBezTo>
                <a:cubicBezTo>
                  <a:pt x="5400" y="10182"/>
                  <a:pt x="10800" y="10203"/>
                  <a:pt x="10800" y="10224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F0F37-5541-454D-BF38-1B98E6D8C61F}" type="slidenum">
              <a:t>36</a:t>
            </a:fld>
          </a:p>
        </p:txBody>
      </p:sp>
    </p:spTree>
  </p:cSld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fill="hold">
                      <p:stCondLst>
                        <p:cond delay="0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500"/>
                            </p:stCondLst>
                            <p:childTnLst>
                              <p:par>
                                <p:cTn id="10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4438800" y="3962520"/>
            <a:ext cx="39211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are our strengths and weakn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do we rate compared to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34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37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40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33520" y="4540320"/>
            <a:ext cx="3422160" cy="931680"/>
            <a:chOff x="533520" y="4540320"/>
            <a:chExt cx="3422160" cy="931680"/>
          </a:xfrm>
        </p:grpSpPr>
        <p:sp>
          <p:nvSpPr>
            <p:cNvPr id="243" name=""/>
            <p:cNvSpPr/>
            <p:nvPr/>
          </p:nvSpPr>
          <p:spPr>
            <a:xfrm>
              <a:off x="533520" y="4540320"/>
              <a:ext cx="3422160" cy="9316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62040" y="4643280"/>
              <a:ext cx="3165120" cy="72360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3962520" y="3886200"/>
            <a:ext cx="838080" cy="2133720"/>
          </a:xfrm>
          <a:custGeom>
            <a:avLst/>
            <a:gdLst>
              <a:gd name="textAreaLeft" fmla="*/ 535320 w 838080"/>
              <a:gd name="textAreaRight" fmla="*/ 838440 w 838080"/>
              <a:gd name="textAreaTop" fmla="*/ 1080 h 2133720"/>
              <a:gd name="textAreaBottom" fmla="*/ 2132640 h 213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"/>
                  <a:pt x="10800" y="42"/>
                </a:cubicBezTo>
                <a:lnTo>
                  <a:pt x="10800" y="11142"/>
                </a:lnTo>
                <a:cubicBezTo>
                  <a:pt x="10800" y="11163"/>
                  <a:pt x="5400" y="11184"/>
                  <a:pt x="0" y="11184"/>
                </a:cubicBezTo>
                <a:cubicBezTo>
                  <a:pt x="5400" y="11184"/>
                  <a:pt x="10800" y="11205"/>
                  <a:pt x="10800" y="11226"/>
                </a:cubicBezTo>
                <a:lnTo>
                  <a:pt x="10800" y="21558"/>
                </a:lnTo>
                <a:cubicBezTo>
                  <a:pt x="10800" y="2157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E9F0C-3927-4063-B0A9-269DFE662233}" type="slidenum">
              <a:t>37</a:t>
            </a:fld>
          </a:p>
        </p:txBody>
      </p:sp>
    </p:spTree>
  </p:cSld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3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800600" y="2514600"/>
            <a:ext cx="3619440" cy="36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at will our competitors do in the futu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Where do we hold an advantage over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w will this change our relationship with our competit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091120" y="1447920"/>
            <a:ext cx="3002040" cy="931680"/>
            <a:chOff x="5091120" y="1447920"/>
            <a:chExt cx="3002040" cy="931680"/>
          </a:xfrm>
        </p:grpSpPr>
        <p:sp>
          <p:nvSpPr>
            <p:cNvPr id="249" name=""/>
            <p:cNvSpPr/>
            <p:nvPr/>
          </p:nvSpPr>
          <p:spPr>
            <a:xfrm>
              <a:off x="5091120" y="1447920"/>
              <a:ext cx="3002040" cy="931680"/>
            </a:xfrm>
            <a:prstGeom prst="rect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03800" y="1550880"/>
              <a:ext cx="2776680" cy="723600"/>
            </a:xfrm>
            <a:prstGeom prst="rect">
              <a:avLst/>
            </a:prstGeom>
            <a:gradFill rotWithShape="0">
              <a:gsLst>
                <a:gs pos="0">
                  <a:srgbClr val="754617"/>
                </a:gs>
                <a:gs pos="100000">
                  <a:srgbClr val="ff99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948120" y="1709640"/>
            <a:ext cx="1143360" cy="3242520"/>
            <a:chOff x="3948120" y="1709640"/>
            <a:chExt cx="1143360" cy="3242520"/>
          </a:xfrm>
        </p:grpSpPr>
        <p:cxnSp>
          <p:nvCxnSpPr>
            <p:cNvPr id="252" name=""/>
            <p:cNvCxnSpPr/>
            <p:nvPr/>
          </p:nvCxnSpPr>
          <p:spPr>
            <a:xfrm flipV="1">
              <a:off x="3951360" y="2154960"/>
              <a:ext cx="1140480" cy="2797560"/>
            </a:xfrm>
            <a:prstGeom prst="bentConnector3">
              <a:avLst>
                <a:gd name="adj1" fmla="val 39090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3951360" y="2004480"/>
              <a:ext cx="1140480" cy="1896840"/>
            </a:xfrm>
            <a:prstGeom prst="bentConnector3">
              <a:avLst>
                <a:gd name="adj1" fmla="val 27123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cxnSp>
          <p:nvCxnSpPr>
            <p:cNvPr id="254" name=""/>
            <p:cNvCxnSpPr/>
            <p:nvPr/>
          </p:nvCxnSpPr>
          <p:spPr>
            <a:xfrm flipV="1">
              <a:off x="3951360" y="1866600"/>
              <a:ext cx="1140480" cy="995400"/>
            </a:xfrm>
            <a:prstGeom prst="bentConnector3">
              <a:avLst>
                <a:gd name="adj1" fmla="val 15219"/>
              </a:avLst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</p:cxnSp>
        <p:sp>
          <p:nvSpPr>
            <p:cNvPr id="255" name=""/>
            <p:cNvSpPr/>
            <p:nvPr/>
          </p:nvSpPr>
          <p:spPr>
            <a:xfrm>
              <a:off x="3948120" y="1709640"/>
              <a:ext cx="114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39640" y="1481040"/>
            <a:ext cx="3422520" cy="932040"/>
            <a:chOff x="539640" y="1481040"/>
            <a:chExt cx="3422520" cy="932040"/>
          </a:xfrm>
        </p:grpSpPr>
        <p:sp>
          <p:nvSpPr>
            <p:cNvPr id="257" name=""/>
            <p:cNvSpPr/>
            <p:nvPr/>
          </p:nvSpPr>
          <p:spPr>
            <a:xfrm>
              <a:off x="539640" y="148104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00" y="1584360"/>
              <a:ext cx="3165840" cy="72396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Objectiv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539640" y="2496960"/>
            <a:ext cx="3422520" cy="932040"/>
            <a:chOff x="539640" y="2496960"/>
            <a:chExt cx="3422520" cy="932040"/>
          </a:xfrm>
        </p:grpSpPr>
        <p:sp>
          <p:nvSpPr>
            <p:cNvPr id="260" name=""/>
            <p:cNvSpPr/>
            <p:nvPr/>
          </p:nvSpPr>
          <p:spPr>
            <a:xfrm>
              <a:off x="539640" y="2496960"/>
              <a:ext cx="3422520" cy="93204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68520" y="26002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urrent Strateg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533520" y="3519360"/>
            <a:ext cx="3422160" cy="932040"/>
            <a:chOff x="533520" y="3519360"/>
            <a:chExt cx="3422160" cy="932040"/>
          </a:xfrm>
        </p:grpSpPr>
        <p:sp>
          <p:nvSpPr>
            <p:cNvPr id="263" name=""/>
            <p:cNvSpPr/>
            <p:nvPr/>
          </p:nvSpPr>
          <p:spPr>
            <a:xfrm>
              <a:off x="533520" y="351936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040" y="362268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ssump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4538520"/>
            <a:ext cx="3422160" cy="932040"/>
            <a:chOff x="533520" y="4538520"/>
            <a:chExt cx="3422160" cy="932040"/>
          </a:xfrm>
        </p:grpSpPr>
        <p:sp>
          <p:nvSpPr>
            <p:cNvPr id="266" name=""/>
            <p:cNvSpPr/>
            <p:nvPr/>
          </p:nvSpPr>
          <p:spPr>
            <a:xfrm>
              <a:off x="533520" y="4538520"/>
              <a:ext cx="3422160" cy="93204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462f1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040" y="4641840"/>
              <a:ext cx="3165120" cy="723960"/>
            </a:xfrm>
            <a:prstGeom prst="rect">
              <a:avLst/>
            </a:prstGeom>
            <a:gradFill rotWithShape="0">
              <a:gsLst>
                <a:gs pos="0">
                  <a:srgbClr val="462f17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9836B-01B1-4E05-9904-E2E79010FA6C}" type="slidenum">
              <a:t>38</a:t>
            </a:fld>
          </a:p>
        </p:txBody>
      </p:sp>
    </p:spTree>
  </p:cSld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0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fill="hold">
                            <p:stCondLst>
                              <p:cond delay="500"/>
                            </p:stCondLst>
                            <p:childTnLst>
                              <p:par>
                                <p:cTn id="10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lement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network of companies that sell complementary products or services or are compatible with the focal firm’s own product or serv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complementor’s product or service adds value to the sale of the focal firm’s product or service, it is likely to create value for the focal fi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f a complementor’s product or service is in a market into which the focal firm intends to expand, the complementor can represent a formidable competi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B782A-62F4-47EE-9CAF-518247E70260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479520"/>
            <a:ext cx="80010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2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xternal Environment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49536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06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23880" y="1295280"/>
            <a:ext cx="6324840" cy="5059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20F45-3149-4AE2-8CDD-C110736A1776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thical Considera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legal and ethic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btaining publicly available inform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ttending trade fairs and shows to obtain competitors’ brochures, view their exhibits, and listen to discussions about their produc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s considered both unethical and illegal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lackmai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respass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vesdropp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ealing drawings, samples, or docu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0618B-C994-4E1F-9021-F274E771F270}" type="slidenum">
              <a:t>40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eneral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mensions in the broader society that influence an industry and the firms within i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ograph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c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litical/leg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ociocultur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c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lob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71C40-9EA7-4060-BE48-A9B5657BC217}" type="slidenum">
              <a:t>5</a:t>
            </a:fld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2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General Environment: Segments and Element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80880" y="1143000"/>
            <a:ext cx="8382240" cy="516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2CF4C-8537-458D-80E5-96180BA13D44}" type="slidenum">
              <a:t>6</a:t>
            </a:fld>
          </a:p>
        </p:txBody>
      </p:sp>
    </p:spTree>
  </p:cSld>
  <p:transition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y Environ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et of factors directly influencing a firm and its competitive actions and competitive respons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new entra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wer of 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reat of 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nsity of rivalry among competito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A3CDE-3A94-42A7-B5C2-A40AD9DA7101}" type="slidenum">
              <a:t>7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or Analysi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48769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athering and interpreting information about all of the companies that the firm competes agains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derstanding the firm’s competitor environment complements the insights provided by studying the general and industry environment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486400" y="1343160"/>
            <a:ext cx="3124080" cy="33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17CDA-F836-4A50-BD05-C339F1C841B6}" type="slidenum">
              <a:t>8</a:t>
            </a:fld>
          </a:p>
        </p:txBody>
      </p:sp>
    </p:spTree>
  </p:cSld>
  <p:transition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nalysis of the External Environment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eneral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the fu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dustry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factors and conditions influencing a firm’s profitability within an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etitor environmen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d on predicting the dynamics of competitors’ actions, responses and inten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FF668-8E08-4E65-B336-782BC4D00517}" type="slidenum">
              <a:t>9</a:t>
            </a:fld>
          </a:p>
        </p:txBody>
      </p:sp>
    </p:spTree>
  </p:cSld>
  <p:transition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dii</cp:lastModifiedBy>
  <dcterms:modified xsi:type="dcterms:W3CDTF">2007-06-12T13:34:20Z</dcterms:modified>
  <cp:revision>44</cp:revision>
  <dc:subject>Chapter 2</dc:subject>
  <dc:title>Strategic Management 7e.</dc:title>
</cp:coreProperties>
</file>