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16.pct" ContentType="image/x-pict"/>
  <Override PartName="/ppt/media/image14.pct" ContentType="image/x-pict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ct" ContentType="image/x-pict"/>
  <Override PartName="/ppt/media/image13.png" ContentType="image/png"/>
  <Override PartName="/ppt/media/image6.png" ContentType="image/png"/>
  <Override PartName="/ppt/media/image9.pct" ContentType="image/x-pict"/>
  <Override PartName="/ppt/media/image11.png" ContentType="image/png"/>
  <Override PartName="/ppt/media/image7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move the slide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B092-443A-4025-88FC-BADDFB706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3602-F955-4AAF-AEDF-2F96D28E3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E8152-46A0-4F90-AF26-5BFF19598B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92FD5-CC38-4B18-A3FB-8CCFB3F806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09050-B7BE-45EF-B1D9-6FBC76A875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64404-CE87-4E2F-AAF1-97461EDB5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56555-916D-4D4A-AABE-FFA7F3F66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D8C24-168A-435D-843D-11C011F10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4A605-64DD-47B7-A304-0B8852362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DA6E1-B3D4-4308-895C-5743F1F61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4A4B2-EA52-4F55-BDCB-58C7A7EDC2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5E458-7591-4B7E-BD48-DA1198707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11B12-F0DA-4801-9DB9-67E489C7D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FDBA4-416F-4ABE-95D6-C5B535100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144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</a:t>
            </a:r>
            <a:fld id="{74F7155D-41F4-4781-930A-3901235A5110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title text format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9920" y="60958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8120" y="2057400"/>
            <a:ext cx="5943600" cy="14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1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Management and Strategic Competitiveness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Global Econom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oods, people, skills, and ideas move freely across geographic bor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vement is relatively unfettered by artificial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ansion into global arena complicates a firm’s competitive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term: Where is the fastest growth likely to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: Where will sustainable growth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B042C-8C9B-455E-B620-577FDED71F2D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March of Globaliz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economic interdependence among countri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low of goods and services, financial capital, and knowledge across country bor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formance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ity, cost, productivity, product introduction time, and operation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range of opportunities for companies competing in the 21st-century competitive landscap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bility of foreign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the risks of participating outside of a firm’s domestic country in the global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time required for firms to learn how to compete in markets that are new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26BE4-0A93-4300-BBB6-6D2FBC2FDF22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y and 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chnology Diffu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peed at which new technologies become availab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ruptive Technolog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 that destroy the value of existing technology and create new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erpetual Innov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apidity and consistency with which new, information-intensive technologies replace older o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7D224-F176-4345-9203-429E25E623BB}" type="slidenum">
              <a:t>12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Information 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bility to effectively and efficiently access and use information has become an important source of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 includes personal computers, cellular phones, artificial intelligence, virtual reality, massive databases, electronic networks, internet trad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89216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AD1BF-095C-4E92-B8FF-0C5CBC27D1FD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creasing Knowledge Intens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nowledge as a critical organizational resource for creating an intangible competitive advanta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trategic flexibility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the set of capabilities used to respond to various demands and opportunities in dynamic and uncertain competitive environ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rganizational slack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slack resources that allow the firm flexibility to respond to environmental cha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apacity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2C1BA-1D1E-412A-BEE9-7BCB2CE42180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minance of the External Environ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 in which a firm competes has a stronger influence on the firm’s performance than do the choices managers make inside their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perties Determining Perform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62719-18B5-4F83-8241-5BA8B8BA2ED5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our Assumptions of the I/O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82840" y="1486080"/>
            <a:ext cx="697536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al environment imposes pressures and constraints that determine strategies leading to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459080"/>
            <a:ext cx="838080" cy="761760"/>
            <a:chOff x="549360" y="1459080"/>
            <a:chExt cx="838080" cy="761760"/>
          </a:xfrm>
        </p:grpSpPr>
        <p:sp>
          <p:nvSpPr>
            <p:cNvPr id="138" name=""/>
            <p:cNvSpPr/>
            <p:nvPr/>
          </p:nvSpPr>
          <p:spPr>
            <a:xfrm>
              <a:off x="549360" y="145908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9320" y="152820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705040"/>
            <a:ext cx="838080" cy="762120"/>
            <a:chOff x="549360" y="2705040"/>
            <a:chExt cx="838080" cy="762120"/>
          </a:xfrm>
        </p:grpSpPr>
        <p:sp>
          <p:nvSpPr>
            <p:cNvPr id="141" name=""/>
            <p:cNvSpPr/>
            <p:nvPr/>
          </p:nvSpPr>
          <p:spPr>
            <a:xfrm>
              <a:off x="549360" y="270504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320" y="277416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39720" y="2743200"/>
            <a:ext cx="714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st firms competing in an industry control similar strategically relevant resources and pursue similar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3867120"/>
            <a:ext cx="609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ources used to implement strategies are highly mobile across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9360" y="3832200"/>
            <a:ext cx="838080" cy="762120"/>
            <a:chOff x="549360" y="3832200"/>
            <a:chExt cx="838080" cy="762120"/>
          </a:xfrm>
        </p:grpSpPr>
        <p:sp>
          <p:nvSpPr>
            <p:cNvPr id="146" name=""/>
            <p:cNvSpPr/>
            <p:nvPr/>
          </p:nvSpPr>
          <p:spPr>
            <a:xfrm>
              <a:off x="549360" y="383220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9320" y="390132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9360" y="5105520"/>
            <a:ext cx="838080" cy="761760"/>
            <a:chOff x="549360" y="5105520"/>
            <a:chExt cx="838080" cy="761760"/>
          </a:xfrm>
        </p:grpSpPr>
        <p:sp>
          <p:nvSpPr>
            <p:cNvPr id="149" name=""/>
            <p:cNvSpPr/>
            <p:nvPr/>
          </p:nvSpPr>
          <p:spPr>
            <a:xfrm>
              <a:off x="549360" y="510552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320" y="517464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39720" y="5029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rganizational decision makers are assumed to be rational and committed to acting in the firm’s best interests (profit-maxim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06927-5B45-431C-8758-0FE7E12B8145}" type="slidenum">
              <a:t>16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5568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55200"/>
            <a:ext cx="190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/O Model of Above-Average Return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78152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380CD-1242-4966-A8EA-E2507AB8FDDC}" type="slidenum">
              <a:t>17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86440" y="1833480"/>
            <a:ext cx="3842280" cy="4340160"/>
            <a:chOff x="586440" y="1833480"/>
            <a:chExt cx="3842280" cy="4340160"/>
          </a:xfrm>
        </p:grpSpPr>
        <p:sp>
          <p:nvSpPr>
            <p:cNvPr id="158" name=""/>
            <p:cNvSpPr/>
            <p:nvPr/>
          </p:nvSpPr>
          <p:spPr>
            <a:xfrm>
              <a:off x="609480" y="2152800"/>
              <a:ext cx="3687840" cy="36874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7280" y="2205000"/>
              <a:ext cx="912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3200" y="5349960"/>
              <a:ext cx="1762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976600">
              <a:off x="3161160" y="4602960"/>
              <a:ext cx="1271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531600">
              <a:off x="2964960" y="3099240"/>
              <a:ext cx="1721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emo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576600">
              <a:off x="360720" y="4550040"/>
              <a:ext cx="167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ocio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993400">
              <a:off x="290880" y="3016080"/>
              <a:ext cx="181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tical/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6520" y="2894040"/>
              <a:ext cx="2633760" cy="2278080"/>
            </a:xfrm>
            <a:prstGeom prst="hexagon">
              <a:avLst>
                <a:gd name="adj" fmla="val 2890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1080" y="302436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1080" y="431964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1960" y="1833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1080" y="58053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8760" y="428472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255320"/>
            <a:ext cx="38862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ategy is dictated by the external environment of the firm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opportunities exist in these environmen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m develops internal skills required by external environme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can the firm do about the opportunitie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160" y="140328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rn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97400" y="1681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100320" y="1681200"/>
            <a:ext cx="1805040" cy="13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876040" y="1700280"/>
            <a:ext cx="2009880" cy="52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03040" y="1681200"/>
            <a:ext cx="2001960" cy="267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D8607-387C-4BAD-BEFE-39F823CC1F39}" type="slidenum">
              <a:t>18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22680" y="1447920"/>
            <a:ext cx="4076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udy the external environment, especially the industry environmen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440" y="1380960"/>
            <a:ext cx="3801960" cy="593640"/>
            <a:chOff x="541440" y="1380960"/>
            <a:chExt cx="3801960" cy="593640"/>
          </a:xfrm>
        </p:grpSpPr>
        <p:sp>
          <p:nvSpPr>
            <p:cNvPr id="181" name=""/>
            <p:cNvSpPr/>
            <p:nvPr/>
          </p:nvSpPr>
          <p:spPr>
            <a:xfrm>
              <a:off x="54144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50000">
                  <a:srgbClr val="bbe0e3"/>
                </a:gs>
                <a:gs pos="100000">
                  <a:srgbClr val="435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1452240"/>
              <a:ext cx="3643560" cy="44928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49246-1E3E-4EEA-981F-3D0C68465383}" type="slidenum">
              <a:t>19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competitiveness, strategy, competitive advantage, above-average returns, and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21st-century competitive landscape and explain how globalization and technological changes shape i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dustrial organization (I/O) model to explain how firms can earn above-average retur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ource-based model to explain how firms can earn above-average return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71BCC-6131-4E80-B567-3D17D015AEBD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02240" y="1981080"/>
            <a:ext cx="3525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 with a high potential for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429000"/>
            <a:ext cx="3505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One whose structural characteristics suggest above-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440" y="1371600"/>
            <a:ext cx="3801960" cy="593640"/>
            <a:chOff x="541440" y="1371600"/>
            <a:chExt cx="3801960" cy="593640"/>
          </a:xfrm>
        </p:grpSpPr>
        <p:sp>
          <p:nvSpPr>
            <p:cNvPr id="187" name=""/>
            <p:cNvSpPr/>
            <p:nvPr/>
          </p:nvSpPr>
          <p:spPr>
            <a:xfrm>
              <a:off x="54144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64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440" y="1982880"/>
            <a:ext cx="3801960" cy="593640"/>
            <a:chOff x="541440" y="1982880"/>
            <a:chExt cx="3801960" cy="593640"/>
          </a:xfrm>
        </p:grpSpPr>
        <p:sp>
          <p:nvSpPr>
            <p:cNvPr id="190" name=""/>
            <p:cNvSpPr/>
            <p:nvPr/>
          </p:nvSpPr>
          <p:spPr>
            <a:xfrm>
              <a:off x="54144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64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309E3-C136-488B-A38C-95E03754F4D4}" type="slidenum">
              <a:t>20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2640" y="2592000"/>
            <a:ext cx="41148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strategy called for by the attractive industry to earn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0280" y="3765600"/>
            <a:ext cx="38228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: Selection of a strategy linked with above-average returns in a particular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440" y="1390680"/>
            <a:ext cx="3801960" cy="593640"/>
            <a:chOff x="541440" y="1390680"/>
            <a:chExt cx="3801960" cy="593640"/>
          </a:xfrm>
        </p:grpSpPr>
        <p:sp>
          <p:nvSpPr>
            <p:cNvPr id="196" name=""/>
            <p:cNvSpPr/>
            <p:nvPr/>
          </p:nvSpPr>
          <p:spPr>
            <a:xfrm>
              <a:off x="541440" y="1390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461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440" y="2001960"/>
            <a:ext cx="3801960" cy="593640"/>
            <a:chOff x="541440" y="2001960"/>
            <a:chExt cx="3801960" cy="593640"/>
          </a:xfrm>
        </p:grpSpPr>
        <p:sp>
          <p:nvSpPr>
            <p:cNvPr id="199" name=""/>
            <p:cNvSpPr/>
            <p:nvPr/>
          </p:nvSpPr>
          <p:spPr>
            <a:xfrm>
              <a:off x="541440" y="2001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640" y="2073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440" y="2614680"/>
            <a:ext cx="3801960" cy="593640"/>
            <a:chOff x="541440" y="2614680"/>
            <a:chExt cx="3801960" cy="593640"/>
          </a:xfrm>
        </p:grpSpPr>
        <p:sp>
          <p:nvSpPr>
            <p:cNvPr id="202" name=""/>
            <p:cNvSpPr/>
            <p:nvPr/>
          </p:nvSpPr>
          <p:spPr>
            <a:xfrm>
              <a:off x="541440" y="2614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640" y="2685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E6E3A-C0F4-4773-867C-628B3D2B6599}" type="slidenum">
              <a:t>21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2240" y="3201480"/>
            <a:ext cx="40752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or acqui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sets and skill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eded to implement a chosen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373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ssets and skills: those assets and skills required to implement a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1380960"/>
            <a:ext cx="3801960" cy="593640"/>
            <a:chOff x="533520" y="1380960"/>
            <a:chExt cx="3801960" cy="593640"/>
          </a:xfrm>
        </p:grpSpPr>
        <p:sp>
          <p:nvSpPr>
            <p:cNvPr id="208" name=""/>
            <p:cNvSpPr/>
            <p:nvPr/>
          </p:nvSpPr>
          <p:spPr>
            <a:xfrm>
              <a:off x="53352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720" y="1452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1440" y="1990800"/>
            <a:ext cx="3801960" cy="593640"/>
            <a:chOff x="541440" y="1990800"/>
            <a:chExt cx="3801960" cy="593640"/>
          </a:xfrm>
        </p:grpSpPr>
        <p:sp>
          <p:nvSpPr>
            <p:cNvPr id="211" name=""/>
            <p:cNvSpPr/>
            <p:nvPr/>
          </p:nvSpPr>
          <p:spPr>
            <a:xfrm>
              <a:off x="541440" y="19908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640" y="20620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440" y="2603520"/>
            <a:ext cx="3801960" cy="593640"/>
            <a:chOff x="541440" y="2603520"/>
            <a:chExt cx="3801960" cy="593640"/>
          </a:xfrm>
        </p:grpSpPr>
        <p:sp>
          <p:nvSpPr>
            <p:cNvPr id="214" name=""/>
            <p:cNvSpPr/>
            <p:nvPr/>
          </p:nvSpPr>
          <p:spPr>
            <a:xfrm>
              <a:off x="541440" y="26035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26748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440" y="3216240"/>
            <a:ext cx="3801960" cy="593640"/>
            <a:chOff x="541440" y="3216240"/>
            <a:chExt cx="3801960" cy="593640"/>
          </a:xfrm>
        </p:grpSpPr>
        <p:sp>
          <p:nvSpPr>
            <p:cNvPr id="217" name=""/>
            <p:cNvSpPr/>
            <p:nvPr/>
          </p:nvSpPr>
          <p:spPr>
            <a:xfrm>
              <a:off x="541440" y="32162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640" y="32875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C14E5-EF8F-47BA-9BEE-599EB1C44A48}" type="slidenum">
              <a:t>22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9495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 Use the firm’s strengths (its developed or acquired assets and skills) to implement the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43600" y="5181480"/>
            <a:ext cx="3871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implementation: select strategic actions linked with effective implementation of the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520" y="1376280"/>
            <a:ext cx="3801960" cy="593640"/>
            <a:chOff x="533520" y="1376280"/>
            <a:chExt cx="3801960" cy="593640"/>
          </a:xfrm>
        </p:grpSpPr>
        <p:sp>
          <p:nvSpPr>
            <p:cNvPr id="223" name=""/>
            <p:cNvSpPr/>
            <p:nvPr/>
          </p:nvSpPr>
          <p:spPr>
            <a:xfrm>
              <a:off x="533520" y="1376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720" y="1447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3520" y="1987560"/>
            <a:ext cx="3801960" cy="593640"/>
            <a:chOff x="533520" y="1987560"/>
            <a:chExt cx="3801960" cy="593640"/>
          </a:xfrm>
        </p:grpSpPr>
        <p:sp>
          <p:nvSpPr>
            <p:cNvPr id="226" name=""/>
            <p:cNvSpPr/>
            <p:nvPr/>
          </p:nvSpPr>
          <p:spPr>
            <a:xfrm>
              <a:off x="533520" y="1987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720" y="2058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520" y="2600280"/>
            <a:ext cx="3801960" cy="593640"/>
            <a:chOff x="533520" y="2600280"/>
            <a:chExt cx="3801960" cy="593640"/>
          </a:xfrm>
        </p:grpSpPr>
        <p:sp>
          <p:nvSpPr>
            <p:cNvPr id="229" name=""/>
            <p:cNvSpPr/>
            <p:nvPr/>
          </p:nvSpPr>
          <p:spPr>
            <a:xfrm>
              <a:off x="533520" y="2600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2720" y="2671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520" y="3213000"/>
            <a:ext cx="3801960" cy="593640"/>
            <a:chOff x="533520" y="3213000"/>
            <a:chExt cx="3801960" cy="593640"/>
          </a:xfrm>
        </p:grpSpPr>
        <p:sp>
          <p:nvSpPr>
            <p:cNvPr id="232" name=""/>
            <p:cNvSpPr/>
            <p:nvPr/>
          </p:nvSpPr>
          <p:spPr>
            <a:xfrm>
              <a:off x="533520" y="3213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720" y="3284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33520" y="3825720"/>
            <a:ext cx="3801960" cy="593640"/>
            <a:chOff x="533520" y="3825720"/>
            <a:chExt cx="3801960" cy="593640"/>
          </a:xfrm>
        </p:grpSpPr>
        <p:sp>
          <p:nvSpPr>
            <p:cNvPr id="235" name=""/>
            <p:cNvSpPr/>
            <p:nvPr/>
          </p:nvSpPr>
          <p:spPr>
            <a:xfrm>
              <a:off x="533520" y="38257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720" y="38970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4947C-14A3-4119-A326-9C7C1ED0C4F2}" type="slidenum">
              <a:t>23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(I/O)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1371600"/>
            <a:ext cx="3801960" cy="593640"/>
            <a:chOff x="533520" y="1371600"/>
            <a:chExt cx="3801960" cy="593640"/>
          </a:xfrm>
        </p:grpSpPr>
        <p:sp>
          <p:nvSpPr>
            <p:cNvPr id="239" name=""/>
            <p:cNvSpPr/>
            <p:nvPr/>
          </p:nvSpPr>
          <p:spPr>
            <a:xfrm>
              <a:off x="53352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72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982880"/>
            <a:ext cx="3801960" cy="593640"/>
            <a:chOff x="533520" y="1982880"/>
            <a:chExt cx="3801960" cy="593640"/>
          </a:xfrm>
        </p:grpSpPr>
        <p:sp>
          <p:nvSpPr>
            <p:cNvPr id="242" name=""/>
            <p:cNvSpPr/>
            <p:nvPr/>
          </p:nvSpPr>
          <p:spPr>
            <a:xfrm>
              <a:off x="53352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520" y="2595600"/>
            <a:ext cx="3801960" cy="593640"/>
            <a:chOff x="533520" y="2595600"/>
            <a:chExt cx="3801960" cy="593640"/>
          </a:xfrm>
        </p:grpSpPr>
        <p:sp>
          <p:nvSpPr>
            <p:cNvPr id="245" name=""/>
            <p:cNvSpPr/>
            <p:nvPr/>
          </p:nvSpPr>
          <p:spPr>
            <a:xfrm>
              <a:off x="533520" y="2595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720" y="2666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3208320"/>
            <a:ext cx="3801960" cy="593640"/>
            <a:chOff x="533520" y="3208320"/>
            <a:chExt cx="3801960" cy="593640"/>
          </a:xfrm>
        </p:grpSpPr>
        <p:sp>
          <p:nvSpPr>
            <p:cNvPr id="248" name=""/>
            <p:cNvSpPr/>
            <p:nvPr/>
          </p:nvSpPr>
          <p:spPr>
            <a:xfrm>
              <a:off x="533520" y="3208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2720" y="3279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520" y="3821040"/>
            <a:ext cx="3801960" cy="593640"/>
            <a:chOff x="533520" y="3821040"/>
            <a:chExt cx="3801960" cy="593640"/>
          </a:xfrm>
        </p:grpSpPr>
        <p:sp>
          <p:nvSpPr>
            <p:cNvPr id="251" name=""/>
            <p:cNvSpPr/>
            <p:nvPr/>
          </p:nvSpPr>
          <p:spPr>
            <a:xfrm>
              <a:off x="533520" y="38210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2720" y="38923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891040" y="332424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31880"/>
            <a:ext cx="843120" cy="247356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560"/>
              <a:gd name="textAreaBottom" fmla="*/ 2409120 h 24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65720" y="2867040"/>
            <a:ext cx="1861920" cy="190512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4920" y="5181480"/>
            <a:ext cx="37256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4433760"/>
            <a:ext cx="3801960" cy="593640"/>
            <a:chOff x="533520" y="4433760"/>
            <a:chExt cx="3801960" cy="593640"/>
          </a:xfrm>
        </p:grpSpPr>
        <p:sp>
          <p:nvSpPr>
            <p:cNvPr id="258" name=""/>
            <p:cNvSpPr/>
            <p:nvPr/>
          </p:nvSpPr>
          <p:spPr>
            <a:xfrm>
              <a:off x="533520" y="44337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45050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29182-E184-4598-9D61-EBC294F9108C}" type="slidenum">
              <a:t>24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fita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’s rate of return on invested capital relative to its cost of capit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n industry’s profitability results from interaction among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ve rivalry among firms currently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tential entrants to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88267-B12F-4FEB-8B10-66AC6A45B113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808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rms earn above-average returns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ost leadership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standardized product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differentiated products for which customers are willing to pay a price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83240" y="4267080"/>
            <a:ext cx="17449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16782-255C-4D3A-B57D-2F31786F4BFD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esource-Based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el Assumpt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organization is a collection of unique resources and capabilities that provides the basis for its strategy and that is the primary source of its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 evolve and must be managed dynamical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ces in firms’ performances are due primarily to their unique resources and capabilities rather than structural characteristics of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acquire different resources and develop unique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94F9E-F90F-405F-A46E-0F65A2DF0640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34880" y="457200"/>
            <a:ext cx="215604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190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3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esource-Based Model of Above-Average Return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495468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4385C-A4CB-4829-B958-6CE644C5FC98}" type="slidenum">
              <a:t>28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4724280"/>
            <a:ext cx="3505320" cy="13716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of Above-Average Retur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7160" y="1523880"/>
            <a:ext cx="423216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rategy is dictated by the firm’s unique resources and capabilitie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ind an environment in which to exploit these assets (where are the best opportunities?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7720" y="1981080"/>
            <a:ext cx="3048120" cy="3124440"/>
            <a:chOff x="837720" y="1981080"/>
            <a:chExt cx="3048120" cy="3124440"/>
          </a:xfrm>
        </p:grpSpPr>
        <p:sp>
          <p:nvSpPr>
            <p:cNvPr id="278" name=""/>
            <p:cNvSpPr/>
            <p:nvPr/>
          </p:nvSpPr>
          <p:spPr>
            <a:xfrm rot="5400000">
              <a:off x="799560" y="2018880"/>
              <a:ext cx="3124440" cy="304812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teg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mpetitive 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938760"/>
              <a:ext cx="2286000" cy="3373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301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3565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394080"/>
              <a:ext cx="2286000" cy="3373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2819520"/>
              <a:ext cx="2286000" cy="337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B86D2-FE97-4CDD-8DAA-9BE70C84DB61}" type="slidenum">
              <a:t>29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520"/>
            <a:ext cx="5181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vision and mission and discuss their valu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akeholders and describe their ability to influence organizatio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work of strategic leader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64B37-B615-41D3-A138-55E9CCD01743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Capabil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403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puts into a firm’s production proces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individua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0400" y="1142640"/>
            <a:ext cx="4037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city of a set of resources to perform in an integrative mann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bility shoul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simple that it is highly im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complex that it defies internal steer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1CB3A-19BD-4D9F-94E5-E23978CC4B49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02240" y="1142640"/>
            <a:ext cx="40752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firm’s resourc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compared with competito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440" y="1300320"/>
            <a:ext cx="3801960" cy="593640"/>
            <a:chOff x="541440" y="1300320"/>
            <a:chExt cx="3801960" cy="593640"/>
          </a:xfrm>
        </p:grpSpPr>
        <p:sp>
          <p:nvSpPr>
            <p:cNvPr id="290" name=""/>
            <p:cNvSpPr/>
            <p:nvPr/>
          </p:nvSpPr>
          <p:spPr>
            <a:xfrm>
              <a:off x="541440" y="1300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640" y="1371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2057400"/>
            <a:ext cx="3576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Resources: inputs into a firm’s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FF1D4-7BAF-4FD0-AB8E-A3604F14BFE2}" type="slidenum">
              <a:t>31</a:t>
            </a:fld>
          </a:p>
        </p:txBody>
      </p: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01880" y="1821960"/>
            <a:ext cx="3933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firm’s capabiliti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at it can do better than its competitor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296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299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09480" y="2630520"/>
            <a:ext cx="38815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apability: capacity of an integrated set of resources to integratively perform a task or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9C8D4-068B-4F45-8F61-5EC019D22F45}" type="slidenum">
              <a:t>32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2240" y="2416320"/>
            <a:ext cx="35416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potential of the firm’s resources and capabilities in terms of a competitive advantage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05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08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11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3200400"/>
            <a:ext cx="3429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ompetitive advantage: </a:t>
            </a:r>
            <a:br>
              <a:rPr sz="2000"/>
            </a:b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bility of a firm to outperform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22BE8-C0DB-46A5-A987-FD2912CB665C}" type="slidenum">
              <a:t>33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2640" y="3154320"/>
            <a:ext cx="4114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17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20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23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26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3809880"/>
            <a:ext cx="3881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 an industry with opportunities that can be exploited by the firm’s resourc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902DE-AD71-4848-9541-0EADF6247025}" type="slidenum">
              <a:t>34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7767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a strategy that best allows the firm to utilize its resources and capabilities relative to opportunities in the external environment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32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35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38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41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41440" y="3745080"/>
            <a:ext cx="3801960" cy="1131480"/>
            <a:chOff x="541440" y="3745080"/>
            <a:chExt cx="3801960" cy="1131480"/>
          </a:xfrm>
        </p:grpSpPr>
        <p:sp>
          <p:nvSpPr>
            <p:cNvPr id="344" name=""/>
            <p:cNvSpPr/>
            <p:nvPr/>
          </p:nvSpPr>
          <p:spPr>
            <a:xfrm>
              <a:off x="541440" y="3745080"/>
              <a:ext cx="3801960" cy="1131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0640" y="3880800"/>
              <a:ext cx="3642840" cy="8560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38080" y="4890960"/>
            <a:ext cx="3119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 and implementation: strategic actions taken to earn above 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C9CC7-04D4-4D1E-B41B-DF8F9F80E9CC}" type="slidenum">
              <a:t>35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3520" y="1295280"/>
            <a:ext cx="3801960" cy="593640"/>
            <a:chOff x="533520" y="1295280"/>
            <a:chExt cx="3801960" cy="593640"/>
          </a:xfrm>
        </p:grpSpPr>
        <p:sp>
          <p:nvSpPr>
            <p:cNvPr id="349" name=""/>
            <p:cNvSpPr/>
            <p:nvPr/>
          </p:nvSpPr>
          <p:spPr>
            <a:xfrm>
              <a:off x="53352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72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33520" y="1906560"/>
            <a:ext cx="3801960" cy="593640"/>
            <a:chOff x="533520" y="1906560"/>
            <a:chExt cx="3801960" cy="593640"/>
          </a:xfrm>
        </p:grpSpPr>
        <p:sp>
          <p:nvSpPr>
            <p:cNvPr id="352" name=""/>
            <p:cNvSpPr/>
            <p:nvPr/>
          </p:nvSpPr>
          <p:spPr>
            <a:xfrm>
              <a:off x="53352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272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33520" y="2519280"/>
            <a:ext cx="3801960" cy="593640"/>
            <a:chOff x="533520" y="2519280"/>
            <a:chExt cx="3801960" cy="593640"/>
          </a:xfrm>
        </p:grpSpPr>
        <p:sp>
          <p:nvSpPr>
            <p:cNvPr id="355" name=""/>
            <p:cNvSpPr/>
            <p:nvPr/>
          </p:nvSpPr>
          <p:spPr>
            <a:xfrm>
              <a:off x="53352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72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520" y="3132000"/>
            <a:ext cx="3801960" cy="593640"/>
            <a:chOff x="533520" y="3132000"/>
            <a:chExt cx="3801960" cy="593640"/>
          </a:xfrm>
        </p:grpSpPr>
        <p:sp>
          <p:nvSpPr>
            <p:cNvPr id="358" name=""/>
            <p:cNvSpPr/>
            <p:nvPr/>
          </p:nvSpPr>
          <p:spPr>
            <a:xfrm>
              <a:off x="53352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72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3745080"/>
            <a:ext cx="3801960" cy="1053720"/>
            <a:chOff x="533520" y="3745080"/>
            <a:chExt cx="3801960" cy="1053720"/>
          </a:xfrm>
        </p:grpSpPr>
        <p:sp>
          <p:nvSpPr>
            <p:cNvPr id="361" name=""/>
            <p:cNvSpPr/>
            <p:nvPr/>
          </p:nvSpPr>
          <p:spPr>
            <a:xfrm>
              <a:off x="533520" y="3745080"/>
              <a:ext cx="3801960" cy="1053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2720" y="3871440"/>
              <a:ext cx="3642840" cy="79740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520" y="4813200"/>
            <a:ext cx="3801960" cy="593640"/>
            <a:chOff x="533520" y="4813200"/>
            <a:chExt cx="3801960" cy="593640"/>
          </a:xfrm>
        </p:grpSpPr>
        <p:sp>
          <p:nvSpPr>
            <p:cNvPr id="364" name=""/>
            <p:cNvSpPr/>
            <p:nvPr/>
          </p:nvSpPr>
          <p:spPr>
            <a:xfrm>
              <a:off x="533520" y="48132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20" y="48844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91040" y="330516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83120" y="324648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1080" y="1554120"/>
            <a:ext cx="843120" cy="247320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200"/>
              <a:gd name="textAreaBottom" fmla="*/ 240876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7800" y="2789280"/>
            <a:ext cx="1861920" cy="231444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484960"/>
            <a:ext cx="334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905C8-2F0E-441C-9F5E-8993689A0848}" type="slidenum">
              <a:t>3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Criteria for Resources and Capabilities That Become Core Competencies</a:t>
            </a:r>
            <a:endParaRPr b="0" lang="en-US" sz="2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3022560"/>
            <a:ext cx="2590560" cy="1625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85800" y="1905120"/>
            <a:ext cx="7772400" cy="3886200"/>
            <a:chOff x="685800" y="1905120"/>
            <a:chExt cx="7772400" cy="3886200"/>
          </a:xfrm>
        </p:grpSpPr>
        <p:sp>
          <p:nvSpPr>
            <p:cNvPr id="376" name=""/>
            <p:cNvSpPr/>
            <p:nvPr/>
          </p:nvSpPr>
          <p:spPr>
            <a:xfrm>
              <a:off x="2590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866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90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866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1905120"/>
              <a:ext cx="2819520" cy="99072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05120"/>
              <a:ext cx="28195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800960"/>
              <a:ext cx="2819520" cy="9903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ly to Im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0960"/>
              <a:ext cx="2819520" cy="9903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nsubstitu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034A0-3BD4-4B32-8F81-3E3C696D167F}" type="slidenum">
              <a:t>37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How Resources and Capabilities Provide Competitive Advanta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417840" y="5102280"/>
            <a:ext cx="526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m is organized appropriately to obtain the full benefits of the resources in order to realize a competitive advant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2027160"/>
            <a:ext cx="17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1080" y="2065320"/>
            <a:ext cx="5330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the firm to exploit opportunities or neutralize threats in its extern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71560" y="3063960"/>
            <a:ext cx="15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7840" y="3111480"/>
            <a:ext cx="511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essed by few, if any, current and potential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8280" y="4078440"/>
            <a:ext cx="267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ly to im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7840" y="4102200"/>
            <a:ext cx="524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other firms cannot obtain them or must obtain them at a much 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5059440"/>
            <a:ext cx="273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substit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B25BF-6251-4496-8E38-4924B7520D2B}" type="slidenum">
              <a:t>38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n the four key criteria of resources and capabilities are met, they become core competencie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rial competencies are especially importan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re competencies serve as a source of competitive advantage, create value, and provide the opportunity for above-average return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958FC-AA8C-4B27-B207-B27A9990F8D2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Competitiv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successfully formulates and implements a value-cre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tegrated and coordinated set of commitments and actions designed to exploit core competencies and gain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implements a strategy that its competitors are unable to duplicate or find too costly to try to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22DDF-CB1B-4199-B784-59CC57507E01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hy Two Models?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12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0000" indent="-2700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ial Organization (I/O)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environment outside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824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-Based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inside of the firm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uccessful strategy formulation and implementation actions result only when the firm properly uses both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C5A5A-2CEB-4B6A-A644-B01B23650630}" type="slidenum">
              <a:t>40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enduring picture of what the firm wants to be and, in broad terms, what it wants to ultimately achie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s and challenges people and evokes emotions and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ffective vision statements are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ed by a host of people from across the organiz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early tied to external and internal environmental condi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 with strategic leaders’ decisions and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0F89E-8460-410F-8445-4BC4D2B5CACF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the business or businesses in which the firm intends to compete and the customers it intends to ser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concrete than the firm’s 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effective when it fosters strong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 are the fruits of the firm’s efforts to achieve its vision and missi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9AE73-AEE3-49E0-8A28-28C5261A315A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s and groups who can affect, and are affected by, the strategic outcomes achieved and who have enforceable claims on a firm’s performan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aims on the firm’s performance are enforced by the stakeholder’s ability to withhold participation essential to the firm’s surviv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more critical and valued a stakeholder’s participation, the greater a firm’s dependency on 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must find ways to either accommodate or insulate the organization from the demands of stakeholders controlling critic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70388-C1A3-4DB6-AF9F-C38D52E1B1AF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 Involve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wo issues affect the extent of stakeholder involvement in the firm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retu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stakehold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r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so every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ore to share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889520" y="2590920"/>
            <a:ext cx="35686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09C6C-5EF2-4A8E-81A5-B121A23BAC8E}" type="slidenum">
              <a:t>44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17600"/>
            <a:ext cx="8001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1.4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hree Stakeholder Group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80880"/>
            <a:ext cx="8229600" cy="4669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485640"/>
            <a:ext cx="1828800" cy="479520"/>
            <a:chOff x="457200" y="485640"/>
            <a:chExt cx="1828800" cy="479520"/>
          </a:xfrm>
        </p:grpSpPr>
        <p:sp>
          <p:nvSpPr>
            <p:cNvPr id="412" name=""/>
            <p:cNvSpPr/>
            <p:nvPr/>
          </p:nvSpPr>
          <p:spPr>
            <a:xfrm>
              <a:off x="990720" y="485640"/>
              <a:ext cx="0" cy="4795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7920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76240" y="1228680"/>
            <a:ext cx="569124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129B8-8854-4CA0-B947-1C5BEF827AA2}" type="slidenum">
              <a:t>45</a:t>
            </a:fld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89640" y="1371600"/>
            <a:ext cx="3944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Shareholders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Major supplier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ivat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1371600"/>
            <a:ext cx="3639960" cy="1098360"/>
            <a:chOff x="533520" y="1371600"/>
            <a:chExt cx="3639960" cy="1098360"/>
          </a:xfrm>
        </p:grpSpPr>
        <p:sp>
          <p:nvSpPr>
            <p:cNvPr id="418" name=""/>
            <p:cNvSpPr/>
            <p:nvPr/>
          </p:nvSpPr>
          <p:spPr>
            <a:xfrm>
              <a:off x="533520" y="137160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640" y="145260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A8F35-E2C6-4A19-90D0-6312E184B403}" type="slidenum">
              <a:t>46</a:t>
            </a:fld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5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apital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areholders and lenders expect the firm to preserve and enhance the wealth they have entrusted to i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the return on their investment (and, hence, their wealth) to be maxim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returns to be commensurate with the degree of risk to the sharehold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ment must balance the interests of shareholders and lenders with its concerns for the firm’s future competitive abilit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20B88-5060-4DBB-A7C1-0A2A76675327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3520" y="1295280"/>
            <a:ext cx="3639960" cy="1098360"/>
            <a:chOff x="533520" y="1295280"/>
            <a:chExt cx="3639960" cy="1098360"/>
          </a:xfrm>
        </p:grpSpPr>
        <p:sp>
          <p:nvSpPr>
            <p:cNvPr id="424" name=""/>
            <p:cNvSpPr/>
            <p:nvPr/>
          </p:nvSpPr>
          <p:spPr>
            <a:xfrm>
              <a:off x="533520" y="129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0640" y="137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7280" y="2454120"/>
            <a:ext cx="3639960" cy="1098360"/>
            <a:chOff x="557280" y="2454120"/>
            <a:chExt cx="3639960" cy="1098360"/>
          </a:xfrm>
        </p:grpSpPr>
        <p:sp>
          <p:nvSpPr>
            <p:cNvPr id="427" name=""/>
            <p:cNvSpPr/>
            <p:nvPr/>
          </p:nvSpPr>
          <p:spPr>
            <a:xfrm>
              <a:off x="557280" y="24541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25351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89640" y="2441520"/>
            <a:ext cx="4097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s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3F06D-D614-4E8C-A9A7-7BC79EA8D0E1}" type="slidenum">
              <a:t>48</a:t>
            </a:fld>
          </a:p>
        </p:txBody>
      </p:sp>
    </p:spTree>
  </p:cSld>
  <p:transition>
    <p:random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oduct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and reliable products at low pr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ek loyal customers willing to pay highest sustainable prices for goods and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st commun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companies willing to be long-term employers and providers of tax revenues while minimizing demands on public support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ion officia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secure jobs and desirable working condi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FA337-7024-4547-8A18-BD61254833F0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440" y="114264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vestor’s uncertainty about the economic gains or losses that will result from a particular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equal to those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in excess of what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347E8-6799-4A00-8277-31A3BC18375A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7560" y="1306440"/>
            <a:ext cx="3639960" cy="1098360"/>
            <a:chOff x="547560" y="1306440"/>
            <a:chExt cx="3639960" cy="1098360"/>
          </a:xfrm>
        </p:grpSpPr>
        <p:sp>
          <p:nvSpPr>
            <p:cNvPr id="434" name=""/>
            <p:cNvSpPr/>
            <p:nvPr/>
          </p:nvSpPr>
          <p:spPr>
            <a:xfrm>
              <a:off x="547560" y="130644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680" y="138744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7280" y="2465280"/>
            <a:ext cx="3639960" cy="1098360"/>
            <a:chOff x="557280" y="2465280"/>
            <a:chExt cx="3639960" cy="1098360"/>
          </a:xfrm>
        </p:grpSpPr>
        <p:sp>
          <p:nvSpPr>
            <p:cNvPr id="437" name=""/>
            <p:cNvSpPr/>
            <p:nvPr/>
          </p:nvSpPr>
          <p:spPr>
            <a:xfrm>
              <a:off x="557280" y="246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254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1440" y="3625920"/>
            <a:ext cx="3639960" cy="1098360"/>
            <a:chOff x="541440" y="3625920"/>
            <a:chExt cx="3639960" cy="1098360"/>
          </a:xfrm>
        </p:grpSpPr>
        <p:sp>
          <p:nvSpPr>
            <p:cNvPr id="440" name=""/>
            <p:cNvSpPr/>
            <p:nvPr/>
          </p:nvSpPr>
          <p:spPr>
            <a:xfrm>
              <a:off x="541440" y="36259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7069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Organizational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89640" y="3797280"/>
            <a:ext cx="35049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n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AEBDA-97EF-444C-86EC-D40A5F24A406}" type="slidenum">
              <a:t>50</a:t>
            </a:fld>
          </a:p>
        </p:txBody>
      </p:sp>
    </p:spTree>
  </p:cSld>
  <p:transition>
    <p:random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784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a dynamic, stimulating and rewarding work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satisfied by a company that is growing and actively developing their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708280" y="3646440"/>
            <a:ext cx="407340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AB69B-76BA-47C0-9C6B-EEDD6506A9A7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Lead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ople located in different parts of the firm who are using the strategic management process to help the firm reach its vision and mis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erequisites for Effective Strategic Leadershi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rd 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orough analy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accomplish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023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8D04F-3DCC-4B9F-90D4-2B4CA54557FF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, and core values that are shared throughout the firm and that influence how the firm conducts busi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Value of a Functional 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orts effective delegation of strategic respon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support for strategic lea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courages social ener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sters of respect for oth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DC0C6-81A5-4400-81FC-C1BA40B0F26A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edicting Outcomes of Strategic Decisions: Profit Po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784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ofit P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total profits earned in an industry at all points along the value chai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ing the components of a profit pool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fine the pool’s bounda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the pool’s overall siz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size of each value-chain activity in the po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concile the calculation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which activity provides the most profit potential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48336-EF07-4F13-BCDF-71516BBD1031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Management Proc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udy the external and internal environmen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 marketplace opportunities and threa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termine how to use core competenc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strategic intent to leverage resources, capabilities and core competencies and win competitive battl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e formulation and implementation of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ek feedback to improve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2D426-1101-4D72-805C-4F475AC9098F}" type="slidenum">
              <a:t>5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Management Proc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ull set of commitments, decisions, and actions required for a firm to achieve strategic competitiveness and earn above-average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3402000"/>
            <a:ext cx="433872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3E562-C63E-429D-A738-0F62513B3B9D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03360"/>
            <a:ext cx="6248520" cy="578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62720" y="488880"/>
            <a:ext cx="1919160" cy="141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1320" y="655560"/>
            <a:ext cx="17528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trategic Management Proces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2B7FC-73B6-459D-B220-2EA2CABDFC2D}" type="slidenum">
              <a:t>7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21st-Century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erilous Business Worl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pid changes in industry boundaries and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ventional sources of competitive advantage losing effectivenes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ormous investments required to compete global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vere consequences for fail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velop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Implementing 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or planned actions rather than reac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s coordinate business unit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118B4-8F54-4197-8B8B-C80FF24EB05F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457200" y="3048120"/>
            <a:ext cx="4038480" cy="3047760"/>
          </a:xfrm>
          <a:custGeom>
            <a:avLst/>
            <a:gdLst>
              <a:gd name="textAreaLeft" fmla="*/ 969840 w 4038480"/>
              <a:gd name="textAreaRight" fmla="*/ 3068640 w 4038480"/>
              <a:gd name="textAreaTop" fmla="*/ 731880 h 3047760"/>
              <a:gd name="textAreaBottom" fmla="*/ 23158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411" y="21600"/>
                </a:lnTo>
                <a:lnTo>
                  <a:pt x="6189" y="216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ynamic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Global Econom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technolog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 maneuver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global and innovat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a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4495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ypercompetition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condition of rapidly escalating competition based 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e-quality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create new know-how and establish first-mov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protect or invade established product or geographic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2840" y="1219320"/>
            <a:ext cx="2444760" cy="24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C20BD-0041-4A4F-8C89-40E239CF481F}" type="slidenum">
              <a:t>9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Luis Zaviezo</cp:lastModifiedBy>
  <dcterms:modified xsi:type="dcterms:W3CDTF">2007-07-11T22:11:52Z</dcterms:modified>
  <cp:revision>54</cp:revision>
  <dc:subject>Chapter 1</dc:subject>
  <dc:title>Strategic Management 7e.</dc:title>
</cp:coreProperties>
</file>