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41F4-6097-4DC5-8E62-375CC2BF0809}"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527A-DCE4-4427-B99C-1419B78E26C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F891-0E10-4EF5-AB04-121397EDAD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B038-F4B4-4F38-873C-F20D5AD73A5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8FA9-6846-4E47-A38C-160323D9A82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2AAC-1896-469C-8666-090084B4D87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9E81-C5B3-4249-BF39-DADB81000E2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2E98-72E7-4C23-9868-B97518B35A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C5DB-5492-40DF-8094-70B39A7EDD0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B391-4006-4A1B-94BD-AF7B304AB46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FB18-FB4D-4CC7-BA26-F7624A474CA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F46A-1A0D-4E23-9E19-38A3DB8AED4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BD95-414B-4679-973C-8186E8D099C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92A5-0F11-4E88-891A-89C0E9F911D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E5FA-A658-4822-A4F1-D2E63955797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1666-79CE-4F3C-B357-E089B3B3508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63BC-C4DB-4400-8660-1160EF11E4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99AE4-90A5-4358-B317-CB1DA6AE8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F9A7F-7053-4629-B68C-82EC9B69B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E8F32-0531-40E1-AD55-8DFAC2DC6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4B615-1FDB-4295-80AA-5375B1253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87E35-EDE8-429E-AA4A-3F05DF3D1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AF9E7-D56E-4E4D-87BD-1CDBEAE5A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82C6C-8409-4153-862F-BF8674061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5E595-F30E-4EA6-A348-1B44D546B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AD281-7E0A-4699-8935-A16985E33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3D85F-F3C9-4E79-8ACD-8C56E6EB4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C98B6-41A2-4EE8-8C52-DEB201D59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58419-FC9E-4A90-902F-3973B14FF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8C50D-5507-42AD-9702-58AEE8DC9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C20FB-02CE-4DFA-9C99-E264BAB9B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676D4-956C-4AC7-9368-2EB02C9B5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72A82-DCE4-490C-A767-649252A8E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6CD6E-497A-4819-9A76-4A48DAEED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CDACDB-1576-4B81-A649-5FA8A00E18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46143E-3183-4531-B790-D47315AB57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2DC106-6207-4FF2-9E75-7321608B29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7E702D-6F57-46BE-B1C9-08487200F0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780B36-021B-475C-8637-414AFA7CAA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2696B-83B4-4EB5-93DE-0AD547A04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FA9E85-0032-4F88-B355-755E5A911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8C37F-9381-420E-A22E-00436C1C7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BA654A-3AEB-457A-AF66-63045423B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7B21F-BA06-46BC-931E-5A320D0E1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25D52B-AD47-4332-8924-2F0A801CE5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85CE86-E7E3-45A8-A9BB-9DD7A147E9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48547F-718D-453A-A5AF-3310EFD8AD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ACABD6-038F-4B48-9903-CB1BC68424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CC8D8-2629-4D4C-971A-AF384E4471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8B428D-3217-4C6C-9C8D-A3037B81B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DCCE4-0018-409F-82A4-3D7FC1B8F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02CEF-24DD-43D4-BDAD-5B03303110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ED3D0E-9BD0-4751-8900-8A9160804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1097E-C62E-419A-AAED-723D2EDB7D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02ABA6-7523-438F-B634-59AD8FEC6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30304D-9859-4BE0-B331-91A6273E3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071B2-DCE6-4130-AD0F-FA5090E1B6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81C94A-C998-462C-8C39-CD86043167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1E6008-5983-42C0-A5C2-B651FA61DF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233BF0-6E73-48A2-B6B2-E991853DD5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6E61C-4078-4E74-A392-001A714DB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F8B67-0F5D-466D-975C-2B47B1446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9CE3C-8E2C-4A6E-A37B-4EA640C3D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09A4-4DFD-4B02-9AE9-01C51E7CF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A348B-9B9F-4E6E-A1A9-F5806F950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FE46-7940-4D52-817D-B14514BC4A03}"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355F-1768-49B8-A91B-253A2CFC4D82}"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CFF7-4999-421C-ABE5-78968A191004}"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F5D1-4DA5-4F7C-8210-1FF957A2598D}"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30280" y="2236680"/>
            <a:ext cx="8302680" cy="1901880"/>
          </a:xfrm>
          <a:prstGeom prst="rect">
            <a:avLst/>
          </a:prstGeom>
          <a:ln w="0">
            <a:noFill/>
          </a:ln>
        </p:spPr>
      </p:pic>
      <p:sp>
        <p:nvSpPr>
          <p:cNvPr id="203" name="PlaceHolder 1"/>
          <p:cNvSpPr>
            <a:spLocks noGrp="1"/>
          </p:cNvSpPr>
          <p:nvPr>
            <p:ph type="subTitle"/>
          </p:nvPr>
        </p:nvSpPr>
        <p:spPr>
          <a:xfrm>
            <a:off x="1371600" y="933480"/>
            <a:ext cx="6400800" cy="120960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SI ACTÚAS COMO UN PENSADOR TE CONVERTIRÁS EN UNO.  Edward  De Bono</a:t>
            </a:r>
            <a:endParaRPr b="0" lang="en-US" sz="2600" spc="-1" strike="noStrike">
              <a:solidFill>
                <a:srgbClr val="ffffff"/>
              </a:solidFill>
              <a:latin typeface="Constantia"/>
            </a:endParaRPr>
          </a:p>
        </p:txBody>
      </p:sp>
      <p:sp>
        <p:nvSpPr>
          <p:cNvPr id="204" name="4 Rectángulo"/>
          <p:cNvSpPr/>
          <p:nvPr/>
        </p:nvSpPr>
        <p:spPr>
          <a:xfrm>
            <a:off x="1571760" y="5157720"/>
            <a:ext cx="7000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a dificultad principal para el pensamiento es la confusión. Intentamos hacer demasiado al mismo tiempo. Las emociones, la información, la lógica, la esperanza y la creatividad nos agobian. Es como hacer malabarismo con demasiadas pelotas…</a:t>
            </a:r>
            <a:endParaRPr b="0" lang="en-US" sz="1800" spc="-1" strike="noStrike">
              <a:solidFill>
                <a:srgbClr val="000000"/>
              </a:solidFill>
              <a:latin typeface="Arial"/>
            </a:endParaRPr>
          </a:p>
        </p:txBody>
      </p:sp>
      <p:sp>
        <p:nvSpPr>
          <p:cNvPr id="205" name="5 CuadroTexto"/>
          <p:cNvSpPr/>
          <p:nvPr/>
        </p:nvSpPr>
        <p:spPr>
          <a:xfrm>
            <a:off x="6215040" y="42148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Raúl Uribe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arzo de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AZUL</a:t>
            </a:r>
            <a:endParaRPr b="0" lang="en-US" sz="4000" spc="-1" strike="noStrike">
              <a:solidFill>
                <a:srgbClr val="04617b"/>
              </a:solidFill>
              <a:latin typeface="Calibri"/>
            </a:endParaRPr>
          </a:p>
        </p:txBody>
      </p:sp>
      <p:sp>
        <p:nvSpPr>
          <p:cNvPr id="223" name=""/>
          <p:cNvSpPr txBox="1"/>
          <p:nvPr/>
        </p:nvSpPr>
        <p:spPr>
          <a:xfrm>
            <a:off x="457200" y="856800"/>
            <a:ext cx="8229600" cy="6286680"/>
          </a:xfrm>
          <a:prstGeom prst="rect">
            <a:avLst/>
          </a:prstGeom>
          <a:noFill/>
          <a:ln w="0">
            <a:noFill/>
          </a:ln>
        </p:spPr>
        <p:txBody>
          <a:bodyPr anchor="t">
            <a:normAutofit fontScale="91000"/>
          </a:bodyPr>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azul es el sombrero del control. El pensador del sombrero azul organiza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mismo. Pensar con el sombrero azul es pensar acerca del pensamiento</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cesario para indagar el tem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es como el director de orquesta. Es quien propone, quien  llama al uso de los otros sombreros.</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define los temas hacia los que debe dirigirse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El pensamiento de sombrero azul establece el foco. Define los problemas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abora las preguntas. El pensamiento de sombrero azul determina las tareas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que se van a desarrollar.</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es responsable de la síntesis, la visión global y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clusiones. Esto puede ocurrir de tanto en tanto durante el curso del pensamiento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ambién al final</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monitorea el pensamiento y asegura el respeto de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eglas de Juego. El pensamiento de sombrero azul detiene la discusión e insiste en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cartográfico. El pensamiento de sombrero azul refuerza y aplica la disciplin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e puede usar el pensamiento de sombrero azul en interrupciones eventuales para pedir</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un sombrero. También puede utilizarse para establecer una secuencia gradual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eraciones de pensamiento que deben respetarse tal como una danza respeta la</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reografía. </a:t>
            </a:r>
            <a:r>
              <a:rPr b="0" lang="es-ES" sz="1600" spc="-1" strike="noStrike">
                <a:solidFill>
                  <a:srgbClr val="000000"/>
                </a:solidFill>
                <a:latin typeface="Constantia"/>
              </a:rPr>
              <a:t>Aún cuando se asigne a una persona el rol especifico del pensamiento de sombrero azul, este rol está abierto a  cualquiera que quiera proponer comentarios o sugerencias de sombrero azu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42960" y="428400"/>
            <a:ext cx="8043840" cy="98892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AS VENTAJAS DE LAS TECNICAS DE LOS SEIS SOMBREROS.</a:t>
            </a:r>
            <a:br>
              <a:rPr sz="4500"/>
            </a:br>
            <a:endParaRPr b="0" lang="en-US" sz="32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STIMULA LA CREATIVIDA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REDUCE EL TIEMPO DE LAS REUNIONES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A EN LA GENERACIÓN DE NUEVAS IDE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MUEVE RELACIONES POSITIV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CONTRIBUCIÓN DE LAS REUN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ES Y MÁS RÁPIDAS DECIS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INNOVACIÓN</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PENSAMIENTO LATERAL </a:t>
            </a:r>
            <a:endParaRPr b="0" lang="en-US" sz="36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Pensamiento Lateral se concibe como un Pensamiento Creativo, una forma de escapar a las ideas fijas. Es una habilidad mental adquirida que busca una solución mediante métodos no ortodoxos, que normalmente serían ignorados por el pensamiento lógico.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 necesidad de que todas las fases del pensamiento sean correctas, es la principal barrera en la concepción de nuevas idea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el Pensamiento Lateral se prescinde inicialmente de la evaluación, es decir si las ideas en el proceso de su formulación son correctas. Primero se obtiene un gran número de ideas y luego se exponen a su evaluación, análisis y valoració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os tipos de pensamiento</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creador del Pensamiento Lateral, Dr. Edward de Bono DISTINGUE entre dos tipos de pensamiento:</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Vertical, que usa el proceso lógico, según el método histórico tradicional</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Lateral, que involucra desorganizar  la mirada , buscar ideas desde otros ángulos , desde otros paradigma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mbos son igualmente necesarios, con el Pensamiento Lateral creamos las ideas, o con el Pensamiento Lógico las desarrollamos, las seleccionamos y las utilizamos.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s técnicas del Pensamiento Lateral se utilizan en los manuales de docencia para profesores de primaria y secundaria .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TÉCNICAS DEL PENSAMIENTO LATERAL</a:t>
            </a:r>
            <a:endParaRPr b="0" lang="en-US" sz="32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LGUNAS DE ELLA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LTERNATIVAS: cualquier método para valorar una situación es solo una de las muchas opciones posib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FOQUES: cuando y como cambiar el enfoque del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IDEAS DOMINANTES: REESTRUCTURAR modelos establecido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VISIÓN DE SUPUESTOS: porque en la solución de las problemas se presuponen siempre ciertos limit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TOS y DESAFIOS: escapar de los limites establecidos por el pensamiento tradiciona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TRADAS ALEATORIAS: utilizar ideas no relacionados con el tema para abrir nuevas líneas de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PO - PROVOCACIÓN: transformar una idea provocativa en una potencialmente operacional (P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HERRAMIENTAS PARA DIRIGIR LA ATENCIÓN DEL PENSAMIENTO. DATT</a:t>
            </a:r>
            <a:endParaRPr b="0" lang="en-US" sz="32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esarrolladas por el Dr. Edward de Bono, las técnicas de </a:t>
            </a:r>
            <a:r>
              <a:rPr b="1" lang="es-ES" sz="2000" spc="-1" strike="noStrike">
                <a:solidFill>
                  <a:srgbClr val="000000"/>
                </a:solidFill>
                <a:latin typeface="Constantia"/>
              </a:rPr>
              <a:t>DATT               ( Direct Attention To Thought) </a:t>
            </a:r>
            <a:r>
              <a:rPr b="0" lang="es-ES" sz="2000" spc="-1" strike="noStrike">
                <a:solidFill>
                  <a:srgbClr val="000000"/>
                </a:solidFill>
                <a:latin typeface="Constantia"/>
              </a:rPr>
              <a:t>nacen de un estudio exhaustivo llevado a cabo durante varios años en las Universidades de Cambridge y Oxford, de cómo funciona el cerebro y como maneja la información: habitualmente uno tiende a permanecer dentro del circuito de lo conocido. El gran logro ha sido inventar unas herramientas simples pero poderosas, que permiten estirar la mente, ampliar la visión y llegar a conclusiones consecuentes y consistent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ATT son diez herramientas que proporcionan de forma consistente la toma de decisiones y la resolución de problemas. Los conceptos y técnicas de DATT ayudan a dirigir el pensamiento para conseguir la información pertinente y actuar de forma apropiada. El enfoque de la estrategia DATT permite aguzar la percepción de manera comprensiva, efectiva y eficaz, mejorando la capacidad para considerar las consecuencias antes de actuar. Crea una estructura para definir las prioridades, teniendo en cuenta la importancia de los valores ante cualquier toma de decisión.</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7148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s 10 Herramientas DATT</a:t>
            </a:r>
            <a:endParaRPr b="0" lang="en-US" sz="5000" spc="-1" strike="noStrike">
              <a:solidFill>
                <a:srgbClr val="04617b"/>
              </a:solidFill>
              <a:latin typeface="Calibri"/>
            </a:endParaRPr>
          </a:p>
        </p:txBody>
      </p:sp>
      <p:sp>
        <p:nvSpPr>
          <p:cNvPr id="235" name=""/>
          <p:cNvSpPr txBox="1"/>
          <p:nvPr/>
        </p:nvSpPr>
        <p:spPr>
          <a:xfrm>
            <a:off x="457200" y="1000080"/>
            <a:ext cx="8229600" cy="5786640"/>
          </a:xfrm>
          <a:prstGeom prst="rect">
            <a:avLst/>
          </a:prstGeom>
          <a:noFill/>
          <a:ln w="0">
            <a:noFill/>
          </a:ln>
        </p:spPr>
        <p:txBody>
          <a:bodyPr anchor="t">
            <a:normAutofit/>
          </a:bodyPr>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mp;S. Consecuencias y Secuelas</a:t>
            </a:r>
            <a:r>
              <a:rPr b="0" lang="es-ES" sz="1600" spc="-1" strike="noStrike">
                <a:solidFill>
                  <a:srgbClr val="000000"/>
                </a:solidFill>
                <a:latin typeface="Constantia"/>
              </a:rPr>
              <a:t>: Considerar las consecuencias proyectadas hacia el futuro para evitar resultados inadvertidamente negativ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PMI . Plus, Menos, Interesante:</a:t>
            </a:r>
            <a:r>
              <a:rPr b="0" lang="es-ES" sz="1600" spc="-1" strike="noStrike">
                <a:solidFill>
                  <a:srgbClr val="000000"/>
                </a:solidFill>
                <a:latin typeface="Constantia"/>
              </a:rPr>
              <a:t> Tener en cuenta todos los factores tanto positivos, como negativos e interesantes antes de tomar una decisión. Hacer un mapa.</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RAD. Reconocer, Analizar, Dividir:</a:t>
            </a:r>
            <a:r>
              <a:rPr b="0" lang="es-ES" sz="1600" spc="-1" strike="noStrike">
                <a:solidFill>
                  <a:srgbClr val="000000"/>
                </a:solidFill>
                <a:latin typeface="Constantia"/>
              </a:rPr>
              <a:t> Romper la información en trozos manejables para maximizar los esfuerzos y recurs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F. Considerar Ampliamente todos los Factores:</a:t>
            </a:r>
            <a:r>
              <a:rPr b="0" lang="es-ES" sz="1600" spc="-1" strike="noStrike">
                <a:solidFill>
                  <a:srgbClr val="000000"/>
                </a:solidFill>
                <a:latin typeface="Constantia"/>
              </a:rPr>
              <a:t> Ahorrar esfuerzo y recursos costosos. Considerar todos los factores relacionadas con la acción, plan, decisión, juicio o situación antes de tomar una decisión.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GO.  Objetivos (Aims, Goals, Objectives)</a:t>
            </a:r>
            <a:r>
              <a:rPr b="0" lang="es-ES" sz="1600" spc="-1" strike="noStrike">
                <a:solidFill>
                  <a:srgbClr val="000000"/>
                </a:solidFill>
                <a:latin typeface="Constantia"/>
              </a:rPr>
              <a:t>: Mantener un enfoque afilado sobre las metas para encaminar el proceso hacia los resultados dese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PC.  Alternativas, Posibilidades, Caminos:</a:t>
            </a:r>
            <a:r>
              <a:rPr b="0" lang="es-ES" sz="1600" spc="-1" strike="noStrike">
                <a:solidFill>
                  <a:srgbClr val="000000"/>
                </a:solidFill>
                <a:latin typeface="Constantia"/>
              </a:rPr>
              <a:t> Amplia la gama de soluciones con el objetivo de elegir el que mejor se adapte a los retos traz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OPV . Otras Personas, sus Puntos de Vista (Other People's Views):</a:t>
            </a:r>
            <a:r>
              <a:rPr b="0" lang="es-ES" sz="1600" spc="-1" strike="noStrike">
                <a:solidFill>
                  <a:srgbClr val="000000"/>
                </a:solidFill>
                <a:latin typeface="Constantia"/>
              </a:rPr>
              <a:t> Tener en cuenta el punto de vista de los demás. Ayuda a ampliar la perspectiva.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KVI.  Valores Claves Implicados (Key Values Involved): </a:t>
            </a:r>
            <a:r>
              <a:rPr b="0" lang="es-ES" sz="1600" spc="-1" strike="noStrike">
                <a:solidFill>
                  <a:srgbClr val="000000"/>
                </a:solidFill>
                <a:latin typeface="Constantia"/>
              </a:rPr>
              <a:t>Asegura que los valores están en línea son su forma de pensar.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FIP.  Fundamental, Importante, Prioritario (First Important Priority): </a:t>
            </a:r>
            <a:r>
              <a:rPr b="0" lang="es-ES" sz="1600" spc="-1" strike="noStrike">
                <a:solidFill>
                  <a:srgbClr val="000000"/>
                </a:solidFill>
                <a:latin typeface="Constantia"/>
              </a:rPr>
              <a:t>Identifica las primeras prioridades para conseguir los resultados necesari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DOCA . Decisión/Diseño, Obtener, Canales, Acción (Decision/Design, Outcome, Channels, Action): </a:t>
            </a:r>
            <a:r>
              <a:rPr b="0" lang="es-ES" sz="1600" spc="-1" strike="noStrike">
                <a:solidFill>
                  <a:srgbClr val="000000"/>
                </a:solidFill>
                <a:latin typeface="Constantia"/>
              </a:rPr>
              <a:t>Atención directa enfocada hacía el resultado del pensamiento y la acción que se tiene que tomar. Asegura que se completa el proceso y que se diseñe un camino hacía adelante. </a:t>
            </a:r>
            <a:br>
              <a:rPr sz="1600"/>
            </a:br>
            <a:r>
              <a:rPr b="0" lang="es-ES" sz="1600" spc="-1" strike="noStrike">
                <a:solidFill>
                  <a:srgbClr val="000000"/>
                </a:solidFill>
                <a:latin typeface="Constantia"/>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ensamiento deliberado</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ugar de sólo </a:t>
            </a:r>
            <a:r>
              <a:rPr b="0" i="1" lang="es-ES" sz="2600" spc="-1" strike="noStrike">
                <a:solidFill>
                  <a:srgbClr val="000000"/>
                </a:solidFill>
                <a:latin typeface="Constantia"/>
              </a:rPr>
              <a:t>reaccionar ante una </a:t>
            </a:r>
            <a:r>
              <a:rPr b="0" lang="es-ES" sz="2600" spc="-1" strike="noStrike">
                <a:solidFill>
                  <a:srgbClr val="000000"/>
                </a:solidFill>
                <a:latin typeface="Constantia"/>
              </a:rPr>
              <a:t>determinada situación, el joven traza un mapa simple. Para hacerlo, contempla primero la dirección "Plus" (positivo) y anota lo que observa. El joven dirige después su atención hacia la dirección “Minus” (negativo) y finalmente hacia la dirección "Interesting”(interesante) (para todas las cosas que vale la pena anotar pero no encajan ni en "Plus" ni en "Minus"). El mapa está trazado. El pensador elige su ru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tención y desempeñ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intención es el primer paso. Es fácil y difícil al mismo tiempo. Bastante parecido a los hábitos  sobre los que es fácil escribir pero no tan fácil realiz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sta razón hacen falta ciertas estructuras tangibles, los seis sombreros para pensar, ofrecen una forma de traducir la intención en </a:t>
            </a:r>
            <a:r>
              <a:rPr b="0" lang="es-CL" sz="2600" spc="-1" strike="noStrike">
                <a:solidFill>
                  <a:srgbClr val="000000"/>
                </a:solidFill>
                <a:latin typeface="Constantia"/>
              </a:rPr>
              <a:t>desempeño efectiv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OS SEIS SOMBREROS </a:t>
            </a:r>
            <a:br>
              <a:rPr sz="4500"/>
            </a:br>
            <a:endParaRPr b="0" lang="en-US" sz="4500" spc="-1" strike="noStrike">
              <a:solidFill>
                <a:srgbClr val="04617b"/>
              </a:solidFill>
              <a:latin typeface="Calibri"/>
            </a:endParaRPr>
          </a:p>
        </p:txBody>
      </p:sp>
      <p:sp>
        <p:nvSpPr>
          <p:cNvPr id="211" name=""/>
          <p:cNvSpPr txBox="1"/>
          <p:nvPr/>
        </p:nvSpPr>
        <p:spPr>
          <a:xfrm>
            <a:off x="0" y="1428840"/>
            <a:ext cx="9144000" cy="5038560"/>
          </a:xfrm>
          <a:prstGeom prst="rect">
            <a:avLst/>
          </a:prstGeom>
          <a:noFill/>
          <a:ln w="0">
            <a:noFill/>
          </a:ln>
        </p:spPr>
        <p:txBody>
          <a:bodyPr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Hay seis sombreros metafóricos donde se cambian los colores para indicar el tipo de pensamiento que se está utilizando. Cuando se realiza en grupo, todos los participantes deben utilizar el mismo sombrero a la vez.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Blanc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información disponible, es neutral y objetivo. Trata hechos, cifras, necesidades y ausencias de información.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Rojo </a:t>
            </a:r>
            <a:br>
              <a:rPr sz="1400"/>
            </a:br>
            <a:r>
              <a:rPr b="0" lang="es-ES" sz="1400" spc="-1" strike="noStrike">
                <a:solidFill>
                  <a:srgbClr val="000000"/>
                </a:solidFill>
                <a:latin typeface="Constantia"/>
              </a:rPr>
              <a:t>Este tiene que ver con intuición, sentimientos y emociones. El sombrero rojo permite exponer una intuición/sentimiento sin tener que justificarla. Presentimiento e intui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Negro </a:t>
            </a:r>
            <a:br>
              <a:rPr sz="1400"/>
            </a:br>
            <a:r>
              <a:rPr b="0" lang="es-ES" sz="1400" spc="-1" strike="noStrike">
                <a:solidFill>
                  <a:srgbClr val="000000"/>
                </a:solidFill>
                <a:latin typeface="Constantia"/>
              </a:rPr>
              <a:t>Es el sombrero del juicio y la cautela. Debe ser siempre lógico y en ningún sentido es un sombrero negativo o inferior a los demás. El sombrero negro se utiliza para señalar por qué una sugerencia no encaja en los hechos, la experiencia disponible, el sistema utilizado, o la política que se está siguiendo. Abogado del Diablo.</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marill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lógica positiva, representa los valores y beneficios de cualquier tema a tratar. Debe ser utilizado para mirar adelante hacia los resultados de una acción propuesta o que ya ha ocurrido.  Luz de sol, brillo y optimismo, positivo, constructivo,oportunidad.</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Verde </a:t>
            </a:r>
            <a:br>
              <a:rPr sz="1400"/>
            </a:br>
            <a:r>
              <a:rPr b="0" lang="es-ES" sz="1400" spc="-1" strike="noStrike">
                <a:solidFill>
                  <a:srgbClr val="000000"/>
                </a:solidFill>
                <a:latin typeface="Constantia"/>
              </a:rPr>
              <a:t>Es el sombrero de la creatividad, alternativas, propuestas, busca lo que es interesante, estímulos y cambios.  Fertilidad,creatividad,plantas brotando de las semillas, movimiento, provoca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zul </a:t>
            </a:r>
            <a:br>
              <a:rPr sz="1400"/>
            </a:br>
            <a:r>
              <a:rPr b="0" lang="es-ES" sz="1400" spc="-1" strike="noStrike">
                <a:solidFill>
                  <a:srgbClr val="000000"/>
                </a:solidFill>
                <a:latin typeface="Constantia"/>
              </a:rPr>
              <a:t>Este es el sombrero de la vista global. No se enfoca en el asunto propiamente dicho sino vigila el proceso del 'pensamiento', es el papel de director de orquesta. Moderación y control.</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BLANCO</a:t>
            </a:r>
            <a:endParaRPr b="0" lang="en-US" sz="3600" spc="-1" strike="noStrike">
              <a:solidFill>
                <a:srgbClr val="04617b"/>
              </a:solidFill>
              <a:latin typeface="Calibri"/>
            </a:endParaRPr>
          </a:p>
        </p:txBody>
      </p:sp>
      <p:sp>
        <p:nvSpPr>
          <p:cNvPr id="213" name=""/>
          <p:cNvSpPr txBox="1"/>
          <p:nvPr/>
        </p:nvSpPr>
        <p:spPr>
          <a:xfrm>
            <a:off x="457200" y="1142640"/>
            <a:ext cx="8229600" cy="5181480"/>
          </a:xfrm>
          <a:prstGeom prst="rect">
            <a:avLst/>
          </a:prstGeom>
          <a:noFill/>
          <a:ln w="0">
            <a:noFill/>
          </a:ln>
        </p:spPr>
        <p:txBody>
          <a:bodyPr anchor="t">
            <a:normAutofit fontScale="87000"/>
          </a:bodyPr>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magine una computadora que da los </a:t>
            </a:r>
            <a:r>
              <a:rPr b="1" lang="es-ES" sz="1600" spc="-1" strike="noStrike">
                <a:solidFill>
                  <a:srgbClr val="000000"/>
                </a:solidFill>
                <a:latin typeface="Constantia"/>
              </a:rPr>
              <a:t>hechos y las cifras </a:t>
            </a:r>
            <a:r>
              <a:rPr b="0" lang="es-ES" sz="1600" spc="-1" strike="noStrike">
                <a:solidFill>
                  <a:srgbClr val="000000"/>
                </a:solidFill>
                <a:latin typeface="Constantia"/>
              </a:rPr>
              <a:t>que se le piden. Es neutral y</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bjetiva. No hace interpretaciones ni da opiniones. Cuando usa el sombrero blanco,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bería imitar la computadora.</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ersona que pide información debe enmarcar y precisar las preguntas a fin de obtene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nformación o para completar vacíos de la información existent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la práctica existe un sistema doble de información. El primer nivel contiene hechos</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ificados y probados, hechos de primera clase. El segundo, hechos que se cree que son</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aderos, pero que todavía no han sido totalmente verificados, hechos de segunda</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las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credibilidad varía desde "siempre verdadero" hasta "nunca verdadero". En el medio</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hay niveles utilizables, tales como "en general", "a veces", y "en forma ocasional".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uede presentar esta clase de información con el sombrero blanco siempre que se use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rco" apropiado para indicar su grado de probabilidad.</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blanco es una </a:t>
            </a:r>
            <a:r>
              <a:rPr b="1" lang="es-ES" sz="1600" spc="-1" strike="noStrike">
                <a:solidFill>
                  <a:srgbClr val="000000"/>
                </a:solidFill>
                <a:latin typeface="Constantia"/>
              </a:rPr>
              <a:t>disciplina y una dirección</a:t>
            </a:r>
            <a:r>
              <a:rPr b="0" lang="es-ES" sz="1600" spc="-1" strike="noStrike">
                <a:solidFill>
                  <a:srgbClr val="000000"/>
                </a:solidFill>
                <a:latin typeface="Constantia"/>
              </a:rPr>
              <a:t>. Él pensador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sfuerza por ser más neutral y más objetivo al presentar la información. Te pueden pedi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te pongas el sombrero blanco o puedes pedirle a otro que lo haga. Se puede opta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or usarlo o por quitárselo.</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blanco (ausencia de color) indica neutralidad.</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5840"/>
            <a:ext cx="822960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ROJO</a:t>
            </a:r>
            <a:endParaRPr b="0" lang="en-US" sz="4000" spc="-1" strike="noStrike">
              <a:solidFill>
                <a:srgbClr val="04617b"/>
              </a:solidFill>
              <a:latin typeface="Calibri"/>
            </a:endParaRPr>
          </a:p>
        </p:txBody>
      </p:sp>
      <p:sp>
        <p:nvSpPr>
          <p:cNvPr id="215" name=""/>
          <p:cNvSpPr txBox="1"/>
          <p:nvPr/>
        </p:nvSpPr>
        <p:spPr>
          <a:xfrm>
            <a:off x="456840" y="1214280"/>
            <a:ext cx="8472600" cy="5143680"/>
          </a:xfrm>
          <a:prstGeom prst="rect">
            <a:avLst/>
          </a:prstGeom>
          <a:noFill/>
          <a:ln w="0">
            <a:noFill/>
          </a:ln>
        </p:spPr>
        <p:txBody>
          <a:bodyPr anchor="t">
            <a:normAutofit fontScale="91000"/>
          </a:bodyPr>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uso del sombrero rojo permite que el pensador diga: "Así me </a:t>
            </a:r>
            <a:r>
              <a:rPr b="1" lang="es-ES" sz="1600" spc="-1" strike="noStrike">
                <a:solidFill>
                  <a:srgbClr val="000000"/>
                </a:solidFill>
                <a:latin typeface="Constantia"/>
              </a:rPr>
              <a:t>siento </a:t>
            </a:r>
            <a:r>
              <a:rPr b="0" lang="es-ES" sz="1600" spc="-1" strike="noStrike">
                <a:solidFill>
                  <a:srgbClr val="000000"/>
                </a:solidFill>
                <a:latin typeface="Constantia"/>
              </a:rPr>
              <a:t>con respecto a es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su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legitimiza las </a:t>
            </a:r>
            <a:r>
              <a:rPr b="1" lang="es-ES" sz="1600" spc="-1" strike="noStrike">
                <a:solidFill>
                  <a:srgbClr val="000000"/>
                </a:solidFill>
                <a:latin typeface="Constantia"/>
              </a:rPr>
              <a:t>emociones y los sentimientos </a:t>
            </a:r>
            <a:r>
              <a:rPr b="0" lang="es-ES" sz="1600" spc="-1" strike="noStrike">
                <a:solidFill>
                  <a:srgbClr val="000000"/>
                </a:solidFill>
                <a:latin typeface="Constantia"/>
              </a:rPr>
              <a:t>como una parte importan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l pensami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hace visibles los sentimientos para que puedan convertirse en parte del</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pa y también del sistema de valores que elige la ruta en el map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provee al pensador de un método conveniente para entrar y salir del mo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mocional; así puede hacerlo de una manera que no resulta posible sin este truco 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instrum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permite que el pensador explore los sentimientos de los demás cuan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es solicita un puntó de vista de sombrero roj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uando un pensador está usando el sombrero rojo, </a:t>
            </a:r>
            <a:r>
              <a:rPr b="0" i="1" lang="es-ES" sz="1600" spc="-1" strike="noStrike">
                <a:solidFill>
                  <a:srgbClr val="000000"/>
                </a:solidFill>
                <a:latin typeface="Constantia"/>
              </a:rPr>
              <a:t>nunca debería hacer el intento d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justificar los sentimientos o de "basarlos en la lógic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cubre dos amplios tipos de sentimiento. En primer lugar, las emocione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munes, que varían desde las fuertes, tales como miedo y disgusto, hasta las má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utiles como la sospecha. En segundo lugar, los juicios complejos, clasificables en tip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es como presentimientos, intuiciones, sensaciones, preferencias, sentimientos estétic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y otros tipos no justificables de modo perceptible. Cuando una opinión consta en gran</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edida de este tipo de sentimientos también se lo puede encajar bajo el sombrero roj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AMARILLO</a:t>
            </a:r>
            <a:endParaRPr b="0" lang="en-US" sz="3600" spc="-1" strike="noStrike">
              <a:solidFill>
                <a:srgbClr val="04617b"/>
              </a:solidFill>
              <a:latin typeface="Calibri"/>
            </a:endParaRPr>
          </a:p>
        </p:txBody>
      </p:sp>
      <p:sp>
        <p:nvSpPr>
          <p:cNvPr id="217" name=""/>
          <p:cNvSpPr txBox="1"/>
          <p:nvPr/>
        </p:nvSpPr>
        <p:spPr>
          <a:xfrm>
            <a:off x="457200" y="1356840"/>
            <a:ext cx="8229600" cy="5286600"/>
          </a:xfrm>
          <a:prstGeom prst="rect">
            <a:avLst/>
          </a:prstGeom>
          <a:noFill/>
          <a:ln w="0">
            <a:noFill/>
          </a:ln>
        </p:spPr>
        <p:txBody>
          <a:bodyPr anchor="t">
            <a:normAutofit fontScale="88000"/>
          </a:bodyPr>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positivo y constructivo. El color amarillo simboliza el brillo del sol, la luminosidad y el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se ocupa de la evaluación positiva del mismo mod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el pensamiento de sombrero negro se ocupa de la evaluación negativa.</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abarca un espectro positivo que va desde el</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specto lógico y práctico basta los sueños, visiones y esperanza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indaga y explora en busca de valor y benefici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spués procura encontrar respaldo lógico para este valor y beneficio. El pensamiento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trata de manifestar un optimismo bien fundado, pero no se limita a est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t>
            </a:r>
            <a:r>
              <a:rPr b="0" lang="es-ES" sz="1600" spc="-1" strike="noStrike">
                <a:solidFill>
                  <a:srgbClr val="000000"/>
                </a:solidFill>
                <a:latin typeface="Constantia"/>
              </a:rPr>
              <a:t>a menos que se califique adecuadamente otros tipos de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constructivo y generativo. De él surgen</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ropuestas concretas y sugerencias. Se ocupa de la operabilidad y de hacer que las</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sas ocurran. La eficacia es el objetivo del pensamiento constructivo de sombrero a</a:t>
            </a:r>
            <a:r>
              <a:rPr b="0" lang="es-CL" sz="1600" spc="-1" strike="noStrike">
                <a:solidFill>
                  <a:srgbClr val="000000"/>
                </a:solidFill>
                <a:latin typeface="Constantia"/>
              </a:rPr>
              <a:t>marill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puede ser especulativo y buscador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ortunidades. Permite, además, visiones y sueño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no se ocupa de la mera euforia positiva (sombrer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ojo) ni tampoco, directamente, de la creación de ideas nuevas (sombrero verd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186760" cy="1154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NEGRO</a:t>
            </a:r>
            <a:endParaRPr b="0" lang="en-US" sz="4000" spc="-1" strike="noStrike">
              <a:solidFill>
                <a:srgbClr val="04617b"/>
              </a:solidFill>
              <a:latin typeface="Calibri"/>
            </a:endParaRPr>
          </a:p>
        </p:txBody>
      </p:sp>
      <p:sp>
        <p:nvSpPr>
          <p:cNvPr id="219" name=""/>
          <p:cNvSpPr txBox="1"/>
          <p:nvPr/>
        </p:nvSpPr>
        <p:spPr>
          <a:xfrm>
            <a:off x="456840" y="1499760"/>
            <a:ext cx="8472600" cy="4824360"/>
          </a:xfrm>
          <a:prstGeom prst="rect">
            <a:avLst/>
          </a:prstGeom>
          <a:noFill/>
          <a:ln w="0">
            <a:noFill/>
          </a:ln>
        </p:spPr>
        <p:txBody>
          <a:bodyPr anchor="t">
            <a:normAutofit fontScale="93000"/>
          </a:bodyPr>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r de sombrero negro se ocupa específicamente </a:t>
            </a:r>
            <a:r>
              <a:rPr b="1" lang="es-ES" sz="1600" spc="-1" strike="noStrike">
                <a:solidFill>
                  <a:srgbClr val="000000"/>
                </a:solidFill>
                <a:latin typeface="Constantia"/>
              </a:rPr>
              <a:t>del juicio negativo</a:t>
            </a:r>
            <a:r>
              <a:rPr b="0" lang="es-ES" sz="1600" spc="-1" strike="noStrike">
                <a:solidFill>
                  <a:srgbClr val="000000"/>
                </a:solidFill>
                <a:latin typeface="Constantia"/>
              </a:rPr>
              <a:t>. El pensado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 sombrero negro señala lo que está mal, lo incorrecto y erróneo. El pensador de</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negro señala que algo no se acomoda a la experiencia o al conocimient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ceptado. El pensador de sombrero negro señala por qué algo no va a funcionar.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 sombrero negro señala los </a:t>
            </a:r>
            <a:r>
              <a:rPr b="1" lang="es-ES" sz="1600" spc="-1" strike="noStrike">
                <a:solidFill>
                  <a:srgbClr val="000000"/>
                </a:solidFill>
                <a:latin typeface="Constantia"/>
              </a:rPr>
              <a:t>riesgos y peligros</a:t>
            </a:r>
            <a:r>
              <a:rPr b="0" lang="es-ES" sz="1600" spc="-1" strike="noStrike">
                <a:solidFill>
                  <a:srgbClr val="000000"/>
                </a:solidFill>
                <a:latin typeface="Constantia"/>
              </a:rPr>
              <a:t>. El pensador de sombrer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ro señala las imperfecciones de un diseñ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a:t>
            </a:r>
            <a:r>
              <a:rPr b="0" i="1" lang="es-ES" sz="1600" spc="-1" strike="noStrike">
                <a:solidFill>
                  <a:srgbClr val="000000"/>
                </a:solidFill>
                <a:latin typeface="Constantia"/>
              </a:rPr>
              <a:t>no es argumentación y nunca se lo debería consider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 Es un intento objetivo de poner en el mapa los elementos negativo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señalar los errores en el proceso d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y en el método mism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confrontar una idea con el pasad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i encaja con lo ya sabid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proyectar una idea en el futur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é podría fracasar o ir mal.</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hacer preguntas negativa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no debería utilizarse para encubrir complacencia</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ativa o sentimientos negativos, los que deberían utilizar el sombrero roj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juicio positivo queda para el sombrero amarillo. De presentarse ideas nuevas,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siempre se debe usar antes que el negr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VERDE</a:t>
            </a:r>
            <a:endParaRPr b="0" lang="en-US" sz="4000" spc="-1" strike="noStrike">
              <a:solidFill>
                <a:srgbClr val="04617b"/>
              </a:solidFill>
              <a:latin typeface="Calibri"/>
            </a:endParaRPr>
          </a:p>
        </p:txBody>
      </p:sp>
      <p:sp>
        <p:nvSpPr>
          <p:cNvPr id="221" name=""/>
          <p:cNvSpPr txBox="1"/>
          <p:nvPr/>
        </p:nvSpPr>
        <p:spPr>
          <a:xfrm>
            <a:off x="457200" y="1214280"/>
            <a:ext cx="8229600" cy="4911840"/>
          </a:xfrm>
          <a:prstGeom prst="rect">
            <a:avLst/>
          </a:prstGeom>
          <a:noFill/>
          <a:ln w="0">
            <a:noFill/>
          </a:ln>
        </p:spPr>
        <p:txBody>
          <a:bodyPr anchor="t">
            <a:normAutofit fontScale="92000"/>
          </a:bodyPr>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verde es para el </a:t>
            </a:r>
            <a:r>
              <a:rPr b="1" lang="es-ES" sz="1600" spc="-1" strike="noStrike">
                <a:solidFill>
                  <a:srgbClr val="000000"/>
                </a:solidFill>
                <a:latin typeface="Constantia"/>
              </a:rPr>
              <a:t>pensamiento creativo</a:t>
            </a:r>
            <a:r>
              <a:rPr b="0" lang="es-ES" sz="1600" spc="-1" strike="noStrike">
                <a:solidFill>
                  <a:srgbClr val="000000"/>
                </a:solidFill>
                <a:latin typeface="Constantia"/>
              </a:rPr>
              <a:t>. La persona que se lo pone va a us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lenguaje del pensamiento creativo. Quienes se hallen a su alrededor, deben consider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roducto como un producto creativo. Idealmente, tanto el pensador como el oyent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berían usar sombreros verde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color verde es símbolo de la fertilidad, el crecimiento y el valor de las semilla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búsqueda de alternativas es un aspecto fundamental del pensamiento de sombrer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e. Hace falta ir más allá de lo conocido, lo obvio y lo satisfactorio.</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 la pausa creativa el pensador de sombrero verde se detiene en un punto dado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siderar la posibilidad de ideas alternativas en ese punto. No hacen falta razones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esta paus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el pensamiento de sombrero verde el lenguaje del movimiento reemplaza al del juici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procura avanzar desde una idea para alcanzar otra nuev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rovocación es un elemento importante del pensamiento de sombrero verde</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lateral es una serie de actitudes, lenguajes y técnicas (que incluyen</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ovimiento, provocación ) para saltar de pautas en un sistema auto-organizado d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utas asimétricas. Se utiliza para generar conceptos y percepcione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04:23:36Z</dcterms:created>
  <dc:creator>Acer</dc:creator>
  <dc:description/>
  <dc:language>en-US</dc:language>
  <cp:lastModifiedBy>Raul Uribe</cp:lastModifiedBy>
  <dcterms:modified xsi:type="dcterms:W3CDTF">2011-03-08T09:51:35Z</dcterms:modified>
  <cp:revision>27</cp:revision>
  <dc:subject/>
  <dc:title>Edward de Bono</dc:title>
</cp:coreProperties>
</file>