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ABE-65B0-4002-9C42-28BF882459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C68-7DDC-48D6-8258-10590BD0F2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22AB-7F39-4D19-AA3A-7B59A1867B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B2B-9E37-41A9-8EEA-D1FDE52852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FF8-2AFE-46AB-9F3D-722C0E90E5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2A2-EC1B-41A0-B504-94D975B28D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262-191A-4F43-8EFF-93AC03400C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214-A021-42ED-9AAB-A3EEBAF527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112-D002-4DEA-B76E-00B9BE41FD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C28-9CF6-456F-A551-D0D7715601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F13-384F-4C4E-8FAB-D42867B68C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E38-046E-43FB-9EBD-4870D20F7A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3CF-2092-4671-9C17-758E223762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DF2-4D5F-4B93-BE80-9260DE5292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004-B850-4459-8EF0-08A96A55FE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1835-55E3-4AA8-A0D7-58C350FA99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D50-49E9-432B-B0D7-7578F58856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189-090E-4417-8581-C4B1249C42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771-F01E-427E-9685-2F981E59F3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D4E-FBE9-4F20-8017-ADC2AF361B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1FC2-D9ED-4464-95C2-36295CEB41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E0A9-E661-40BD-9F5B-E77A1925A8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EF52-F722-4D32-B18D-E317169254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0F61-DB63-46C5-85B6-1FFEDEA34E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733-94A7-4C78-ACE1-87F6526E40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936-D9A0-4934-AD9F-39A87C84E8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208C-C049-4DED-BECC-2F51CD5570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BF1-0777-405B-8FAE-6BB57F1993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F15-63BA-41A5-91BF-81D33631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2E9-B7F5-4B2F-B7B5-C99E74A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26C-3CBE-4D77-952E-BFBAC131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745-FDC3-4B6C-AC3F-C5FC1494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807-62F3-4D62-A8CB-348DA0E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DCD-DE62-4F4E-9ABE-3C4BA0F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34F-BACC-4270-88F0-F0A5706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000-7A23-4530-99FE-ACEED60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33E-BFF9-4910-9D6E-8B70AC47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890-BA84-48A5-8DFD-296BD20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3A6-E448-444A-8944-DE79EA0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A0F-4702-4A7D-A268-60FAEC0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90D9-990C-4E26-9EEB-C2FB8B311F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100negocios.com/ideas-de-negocios-para-2010/#more-61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F705-3EC4-4D9D-8AD6-B18AB33F7F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A5ED-68B4-4973-A6E5-B5E288303C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FA6-E6A7-480D-8CB9-AFE93B7591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AE15-4844-4389-A246-24CD583594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A3C1-45C1-4880-BED8-945DBDFE0A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4E9E-6191-4F34-8D4F-0A2DA99674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EC7A-DFD5-47A8-8D35-AE69EFE184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779-43C2-4BC7-B514-4D02812929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DC7-B4F7-4F91-9199-23EF2C0811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548-D527-49A7-809F-479AEEB6DE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DB4-AE37-478E-AADC-BAB3A801FD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AB41-7E36-4DC5-9E2F-369D071427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7E4-55CD-44C8-B8C9-EE86E3974E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994-A34B-4245-8EE2-636E956F43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F3D-E086-4E28-BC61-808ED336A5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4DA-44DF-490A-AF1F-E4681A2479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14AE-1D95-4726-AA0F-A4B76E9F18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804-9023-4F0E-9CCA-D2D79B4A2A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C222-C56F-4BD6-A405-8A50962261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deasdenegocios.com.ar/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E44-4D77-4F29-9FDA-D74618D123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78F-D006-4A2A-98EE-BDC0FEC8B9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2CBC-1071-46AB-8467-8AC81DD10C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6AA-7E1C-4D9D-9D79-EBD459CB92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FC40-E331-48D6-8051-DEA024141D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450F-7320-4EEF-BBC2-7805A59338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EA3A-38A6-4096-A17D-0CBB809362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F24-05DE-4A71-8358-7B9DF478AF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Raul Uribe</cp:lastModifiedBy>
  <dcterms:modified xsi:type="dcterms:W3CDTF">2011-03-10T10:28:35Z</dcterms:modified>
  <cp:revision>3</cp:revision>
  <dc:subject/>
  <dc:title>Diapositiva 1</dc:title>
</cp:coreProperties>
</file>