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7675-C95C-4865-8023-2E8748DA07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F3A7-CFF7-40E2-BE6E-CA0B5B4DF6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FC24-1EDF-4607-984D-717146DC57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D7A6-3EE7-4AAA-9689-F1F3AC70F0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DA14-4278-4D1F-A50F-A46D313B17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AF57-9F76-4B8B-8D56-A837FDDA97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583F-96E6-4798-957D-ABD01ACBF4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6771-DA33-4DF1-87A5-A91C67E3792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9C53-ECCF-49E8-A9BF-245460BFFBF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997D-F867-40C3-B56E-6C9DA2639D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7764-0E2B-4A88-B22D-7EB7103A7C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63D4-8602-4EFC-AFB8-D2CC4A30F3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1DC5-5C6C-4E98-8614-1C0C19D06E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D9D9-97E2-47FF-BE02-AB435A0E06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FA92-71E7-4D89-AB01-89BF32F1520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F402-C6B7-483E-9757-A5F3F09DA8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B156-6A21-41D0-AF70-1EC66DEF0D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AC7F-01BC-48DB-87D0-EFA4199919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1EBE-0477-4DCB-9457-59D1946F8D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60AE-3D23-442D-8F4E-57E11BD3A8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BE80-7503-431F-BFDC-2B5E69014D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671C-3D8C-4C9D-93C3-CDA79EBB399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54FC-D6EB-4CE6-A0BC-22DDB038BD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CEB4-53D3-4E67-B9A0-F2A99F7567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4DF4-726F-4DB4-ABA8-9B6EBA9DA0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B756-47D7-45F4-9C95-C0FBF9C7B6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D084-2518-407D-8622-6034197C7A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6737-B1CD-415C-869B-952C7C0D82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CB7-4ECA-46A0-93BA-788AFE37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24B-5590-4B79-9CAB-2DE1FEEB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9D2-566C-47B5-A0FE-32CD6B5E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FBF-F94A-49BD-B74D-72F83773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342-69C5-4CAC-B48C-4394E382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2CE-5593-4972-B82F-6EB053D0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BF3-8B64-40E1-B3E4-E0F07C5E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B17-BE03-4977-B896-AC0D2B62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E1D-312A-4005-AAE1-3002352F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FA2-464D-4BF1-8400-ADB3D761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7C3-2EA4-4B3D-A4D5-58DF3A74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21B-80F0-41CC-BDC2-A61EA9A1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C9EA-7D80-4CB7-A2E4-201D41A41D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deasdenegocios.com.ar/ideas.htm" TargetMode="External"/><Relationship Id="rId2" Type="http://schemas.openxmlformats.org/officeDocument/2006/relationships/hyperlink" Target="http://www.100negocios.com/ideas-de-negocios-para-2010/#more-61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46F7-A1FD-41EE-A58F-42517D46A3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928880" y="0"/>
            <a:ext cx="5283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3716-BE70-43AE-9D51-86DA8DD737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BEFF-0C7C-490F-9542-0E0E6B56D4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084400" y="0"/>
            <a:ext cx="49752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0C0A-0DA0-484E-8F75-8A43789FE3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882800" y="189000"/>
            <a:ext cx="5873760" cy="597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E7DC-7D0C-421D-A071-713DA18D855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379600" y="0"/>
            <a:ext cx="43848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F7F5-1766-40A9-A5D2-DAF8596F00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001A-C5EB-4401-A7E8-2CD890B192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704960" y="0"/>
            <a:ext cx="57326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185C-D836-4D45-9000-15E626CA71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374920" y="0"/>
            <a:ext cx="439416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80D4-28E9-4E34-A30A-5AD23A1D1A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55680" y="0"/>
            <a:ext cx="48308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2602-88F7-47C0-B18F-D8B3913BDE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368440" y="0"/>
            <a:ext cx="44071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13D7-98C3-4EE2-BF72-2BD6333C02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2F26-F9A2-4B35-AF9C-2342D27563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23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6A7A-468B-40FB-8194-04BF1264DC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262240" y="0"/>
            <a:ext cx="46162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2284-1385-438F-8AC2-22E2CD052C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320920" y="0"/>
            <a:ext cx="44989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8FBA-CD6B-478C-AE05-E0D3020569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124000" y="58680"/>
            <a:ext cx="6048360" cy="5661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F74B-D16D-4F27-A59D-6BB424A5E6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330280" y="0"/>
            <a:ext cx="44816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7761-7343-427C-A0BB-71572904F1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301840" y="0"/>
            <a:ext cx="45385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D7B9-BD6A-47A9-91AF-C158297696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41640" y="0"/>
            <a:ext cx="48607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5B14-D387-418E-BB00-E71A4422641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045440" y="2275920"/>
            <a:ext cx="75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deasdenegocios.com.ar/ideas.ht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70320" y="342900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100negocios.com/ideas-de-negocios-para-2010/#more-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882D-EF5C-4FBF-B374-4B3C21B637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D257-FC51-4583-B9B6-8CD2E79519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224080" y="0"/>
            <a:ext cx="46958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39D7-C805-4DB9-A02E-C778A14772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325600" y="0"/>
            <a:ext cx="4491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4703-5AFE-437D-9B4B-068EEE1186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627280" y="0"/>
            <a:ext cx="42940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D122-6722-4B09-A9D3-67401865E6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321440" cy="1114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27C3-E8E5-4A77-A693-DDAEAC63EF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413080" y="0"/>
            <a:ext cx="43164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CFE4-C054-426D-A463-966FE2D4F4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1AE6-504A-48CE-A47B-D8E5E1ED8E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126040" cy="2722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01:20Z</dcterms:created>
  <dc:creator>Usuario</dc:creator>
  <dc:description/>
  <dc:language>en-US</dc:language>
  <cp:lastModifiedBy>Raul Uribe</cp:lastModifiedBy>
  <dcterms:modified xsi:type="dcterms:W3CDTF">2011-03-10T10:28:35Z</dcterms:modified>
  <cp:revision>3</cp:revision>
  <dc:subject/>
  <dc:title>Diapositiva 1</dc:title>
</cp:coreProperties>
</file>