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A3BC-BA66-46D1-9527-D1D05D22E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E56B-FFD7-453F-83F9-1E045D40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A409-9FE7-4500-889F-0C592F1B5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B33C-DF5C-4E7B-82AB-1BF483144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2EE5-CAA3-4E3B-BFED-89FAA3D19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3871-0797-4918-8E44-C4CCA565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2CD3-98B9-46D4-87A9-D8DC030E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4B1F-39F3-443D-AA2D-9F88BBCE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B01B-3ED8-4EF4-8A60-4DB1DFEB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DC32-0F7B-4BCA-A213-C3975B3B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EC5B-9935-4199-B338-64EF5557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5F73-3D28-434C-826B-20B8B9CD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1E6D-294B-4239-B71B-1283EB69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8282-94CF-45F6-B1BE-9FE8133C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620B-E11A-4677-B8E8-3BC3B9A7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5B22-CB58-44B6-BA8A-7ADEC306B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A6A7-B89A-46C3-9982-59AA74074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F7C5-4838-4483-8A65-41E80AD8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D635-D229-4D59-8D43-EFC76822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6453-6710-4A84-98A9-BCFE74C7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6AFF-B351-469C-A1D0-BF7578D1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FD58-984F-4F30-8EF1-82FF2389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3116-E063-4399-8933-FBDDCF16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CA9A-DB4F-4170-A750-3240A4EB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837840"/>
                  <a:gd name="textAreaBottom" fmla="*/ 6838200 h 68378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BDB8-B8BB-4D87-AC10-0DD41E82A82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20240"/>
                  <a:gd name="textAreaBottom" fmla="*/ 9120600 h 91202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560"/>
                  <a:gd name="textAreaBottom" fmla="*/ 574920 h 574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>
                  <a:gd name="textAreaLeft" fmla="*/ -360 w 461880"/>
                  <a:gd name="textAreaRight" fmla="*/ 461880 w 46188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840"/>
                  <a:gd name="textAreaBottom" fmla="*/ 502200 h 501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>
                <a:gd name="textAreaLeft" fmla="*/ -360 w 9147240"/>
                <a:gd name="textAreaRight" fmla="*/ 9147240 w 914724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A86C-A5FC-4C15-BB20-3AF7E2181EC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STRATEGIA NACIONAL DE  DESARROLL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Estrategia Nacional de Desarrollo busca dar coherencia a las decisiones públicas y privad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000000"/>
                </a:solidFill>
                <a:uFillTx/>
                <a:latin typeface="Arial"/>
              </a:rPr>
              <a:t>Desarrollo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: es un proceso complejo que busca producir y compatibiliza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recimiento económ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ogreso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qu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ustentabilidad Ambien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Un elemento fundamental de una E. de D. es contar con reglas del juego estable ==&gt; Establecer consensos y generar Políticas de Estado que tengan mayor legitimidad socia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4"/>
          <p:cNvSpPr/>
          <p:nvPr/>
        </p:nvSpPr>
        <p:spPr>
          <a:xfrm>
            <a:off x="1066680" y="1447920"/>
            <a:ext cx="8077320" cy="0"/>
          </a:xfrm>
          <a:prstGeom prst="line">
            <a:avLst/>
          </a:prstGeom>
          <a:ln w="19080">
            <a:solidFill>
              <a:srgbClr val="5495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STEMA NACIONAL DE INVERSION PUBLIC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 el S.N.I. es posible identificar tres estados sucesivos por los que pasan todos los proyec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inve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rs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STEMA NACIONAL DE INVERSION PUBLIC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914400" y="1981080"/>
            <a:ext cx="1143000" cy="533520"/>
          </a:xfrm>
          <a:prstGeom prst="rect">
            <a:avLst/>
          </a:prstGeom>
          <a:solidFill>
            <a:srgbClr val="c0c9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2514600" y="1981080"/>
            <a:ext cx="1066680" cy="533520"/>
          </a:xfrm>
          <a:prstGeom prst="rect">
            <a:avLst/>
          </a:prstGeom>
          <a:solidFill>
            <a:srgbClr val="c0c9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f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4191120" y="1981080"/>
            <a:ext cx="2057400" cy="533520"/>
          </a:xfrm>
          <a:prstGeom prst="rect">
            <a:avLst/>
          </a:prstGeom>
          <a:solidFill>
            <a:srgbClr val="c0c9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fact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6858000" y="1981080"/>
            <a:ext cx="1828800" cy="533520"/>
          </a:xfrm>
          <a:prstGeom prst="rect">
            <a:avLst/>
          </a:prstGeom>
          <a:solidFill>
            <a:srgbClr val="c0c9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act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4191120" y="3048120"/>
            <a:ext cx="2209680" cy="5331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4191120" y="4114800"/>
            <a:ext cx="2209680" cy="5335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c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4191120" y="5257800"/>
            <a:ext cx="22860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18"/>
          <p:cNvSpPr/>
          <p:nvPr/>
        </p:nvSpPr>
        <p:spPr>
          <a:xfrm>
            <a:off x="2057400" y="2209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19"/>
          <p:cNvSpPr/>
          <p:nvPr/>
        </p:nvSpPr>
        <p:spPr>
          <a:xfrm>
            <a:off x="365760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20"/>
          <p:cNvSpPr/>
          <p:nvPr/>
        </p:nvSpPr>
        <p:spPr>
          <a:xfrm>
            <a:off x="6248520" y="2209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1"/>
          <p:cNvSpPr/>
          <p:nvPr/>
        </p:nvSpPr>
        <p:spPr>
          <a:xfrm>
            <a:off x="754380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23"/>
          <p:cNvSpPr/>
          <p:nvPr/>
        </p:nvSpPr>
        <p:spPr>
          <a:xfrm>
            <a:off x="518148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24"/>
          <p:cNvSpPr/>
          <p:nvPr/>
        </p:nvSpPr>
        <p:spPr>
          <a:xfrm>
            <a:off x="5181480" y="3505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25"/>
          <p:cNvSpPr/>
          <p:nvPr/>
        </p:nvSpPr>
        <p:spPr>
          <a:xfrm>
            <a:off x="5181480" y="4648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27"/>
          <p:cNvSpPr/>
          <p:nvPr/>
        </p:nvSpPr>
        <p:spPr>
          <a:xfrm>
            <a:off x="6858000" y="3886200"/>
            <a:ext cx="1905120" cy="6094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conv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29"/>
          <p:cNvSpPr/>
          <p:nvPr/>
        </p:nvSpPr>
        <p:spPr>
          <a:xfrm>
            <a:off x="7848720" y="2514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30"/>
          <p:cNvSpPr/>
          <p:nvPr/>
        </p:nvSpPr>
        <p:spPr>
          <a:xfrm>
            <a:off x="457200" y="274320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31"/>
          <p:cNvSpPr/>
          <p:nvPr/>
        </p:nvSpPr>
        <p:spPr>
          <a:xfrm>
            <a:off x="533520" y="49528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94920" y="11430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ICLO DE VIDA D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37"/>
          <p:cNvSpPr/>
          <p:nvPr/>
        </p:nvSpPr>
        <p:spPr>
          <a:xfrm flipH="1">
            <a:off x="6400440" y="3276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38"/>
          <p:cNvSpPr/>
          <p:nvPr/>
        </p:nvSpPr>
        <p:spPr>
          <a:xfrm>
            <a:off x="914400" y="609588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39"/>
          <p:cNvSpPr/>
          <p:nvPr/>
        </p:nvSpPr>
        <p:spPr>
          <a:xfrm>
            <a:off x="1447920" y="6172200"/>
            <a:ext cx="7391160" cy="45720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VALUACION EX -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42"/>
          <p:cNvSpPr/>
          <p:nvPr/>
        </p:nvSpPr>
        <p:spPr>
          <a:xfrm>
            <a:off x="990720" y="990720"/>
            <a:ext cx="815328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STEMA NACIONAL DE INVERSION PUBLIC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447560"/>
            <a:ext cx="74372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MIDEPLAN y a la DIPRES, les corresponde normar y administrar el S.N.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S.N.I. implementa procedimientos que permiten l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articip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ón coordinada d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las distintas instituciones pú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cas que participan en el proceso de invers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ya se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 su calidad de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estor o Prom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rmul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ida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alu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idad Financ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id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 T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idad Operado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"/>
          <p:cNvSpPr/>
          <p:nvPr/>
        </p:nvSpPr>
        <p:spPr>
          <a:xfrm>
            <a:off x="1143000" y="1219320"/>
            <a:ext cx="800100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STEMA NACIONAL DE INVERSION PUBLIC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028"/>
          <p:cNvSpPr/>
          <p:nvPr/>
        </p:nvSpPr>
        <p:spPr>
          <a:xfrm>
            <a:off x="1905120" y="1447920"/>
            <a:ext cx="266688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s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029"/>
          <p:cNvSpPr/>
          <p:nvPr/>
        </p:nvSpPr>
        <p:spPr>
          <a:xfrm>
            <a:off x="1905120" y="2438280"/>
            <a:ext cx="266688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ul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1030"/>
          <p:cNvSpPr/>
          <p:nvPr/>
        </p:nvSpPr>
        <p:spPr>
          <a:xfrm>
            <a:off x="6019920" y="2209680"/>
            <a:ext cx="2743200" cy="1143000"/>
          </a:xfrm>
          <a:prstGeom prst="ellipse">
            <a:avLst/>
          </a:prstGeom>
          <a:solidFill>
            <a:srgbClr val="c0c9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DE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031"/>
          <p:cNvSpPr/>
          <p:nvPr/>
        </p:nvSpPr>
        <p:spPr>
          <a:xfrm>
            <a:off x="1905120" y="3733920"/>
            <a:ext cx="266688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dad Financi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1032"/>
          <p:cNvSpPr/>
          <p:nvPr/>
        </p:nvSpPr>
        <p:spPr>
          <a:xfrm>
            <a:off x="6248520" y="3657600"/>
            <a:ext cx="2590560" cy="1143000"/>
          </a:xfrm>
          <a:prstGeom prst="ellipse">
            <a:avLst/>
          </a:prstGeom>
          <a:solidFill>
            <a:srgbClr val="c0c9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ISTE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CI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033"/>
          <p:cNvSpPr/>
          <p:nvPr/>
        </p:nvSpPr>
        <p:spPr>
          <a:xfrm>
            <a:off x="2057400" y="4876920"/>
            <a:ext cx="266688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dad Téc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034"/>
          <p:cNvSpPr/>
          <p:nvPr/>
        </p:nvSpPr>
        <p:spPr>
          <a:xfrm>
            <a:off x="1981080" y="6019920"/>
            <a:ext cx="274320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dad Operad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041"/>
          <p:cNvSpPr/>
          <p:nvPr/>
        </p:nvSpPr>
        <p:spPr>
          <a:xfrm>
            <a:off x="320040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1046"/>
          <p:cNvSpPr/>
          <p:nvPr/>
        </p:nvSpPr>
        <p:spPr>
          <a:xfrm>
            <a:off x="4572000" y="2590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1047"/>
          <p:cNvSpPr/>
          <p:nvPr/>
        </p:nvSpPr>
        <p:spPr>
          <a:xfrm flipH="1">
            <a:off x="4572000" y="28195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048"/>
          <p:cNvSpPr/>
          <p:nvPr/>
        </p:nvSpPr>
        <p:spPr>
          <a:xfrm>
            <a:off x="3200400" y="3048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049"/>
          <p:cNvSpPr/>
          <p:nvPr/>
        </p:nvSpPr>
        <p:spPr>
          <a:xfrm>
            <a:off x="4572000" y="39625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1050"/>
          <p:cNvSpPr/>
          <p:nvPr/>
        </p:nvSpPr>
        <p:spPr>
          <a:xfrm flipH="1">
            <a:off x="4571640" y="41911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1051"/>
          <p:cNvSpPr/>
          <p:nvPr/>
        </p:nvSpPr>
        <p:spPr>
          <a:xfrm>
            <a:off x="3200400" y="4267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1052"/>
          <p:cNvSpPr/>
          <p:nvPr/>
        </p:nvSpPr>
        <p:spPr>
          <a:xfrm>
            <a:off x="6248520" y="5257800"/>
            <a:ext cx="2666880" cy="1143000"/>
          </a:xfrm>
          <a:prstGeom prst="ellipse">
            <a:avLst/>
          </a:prstGeom>
          <a:solidFill>
            <a:srgbClr val="c0c9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AL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054"/>
          <p:cNvSpPr/>
          <p:nvPr/>
        </p:nvSpPr>
        <p:spPr>
          <a:xfrm>
            <a:off x="807732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055"/>
          <p:cNvSpPr/>
          <p:nvPr/>
        </p:nvSpPr>
        <p:spPr>
          <a:xfrm flipV="1">
            <a:off x="685800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061"/>
          <p:cNvSpPr/>
          <p:nvPr/>
        </p:nvSpPr>
        <p:spPr>
          <a:xfrm>
            <a:off x="1143000" y="1066680"/>
            <a:ext cx="777240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062"/>
          <p:cNvSpPr/>
          <p:nvPr/>
        </p:nvSpPr>
        <p:spPr>
          <a:xfrm>
            <a:off x="320040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063"/>
          <p:cNvSpPr/>
          <p:nvPr/>
        </p:nvSpPr>
        <p:spPr>
          <a:xfrm>
            <a:off x="4708440" y="2133720"/>
            <a:ext cx="184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gresa iniciativa al S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068"/>
          <p:cNvSpPr/>
          <p:nvPr/>
        </p:nvSpPr>
        <p:spPr>
          <a:xfrm>
            <a:off x="4707720" y="2982960"/>
            <a:ext cx="13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forma 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069"/>
          <p:cNvSpPr/>
          <p:nvPr/>
        </p:nvSpPr>
        <p:spPr>
          <a:xfrm>
            <a:off x="2653200" y="321156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070"/>
          <p:cNvSpPr/>
          <p:nvPr/>
        </p:nvSpPr>
        <p:spPr>
          <a:xfrm>
            <a:off x="4594320" y="3581280"/>
            <a:ext cx="1501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071"/>
          <p:cNvSpPr/>
          <p:nvPr/>
        </p:nvSpPr>
        <p:spPr>
          <a:xfrm>
            <a:off x="4556160" y="3516480"/>
            <a:ext cx="181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olicita Asig.Pres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072"/>
          <p:cNvSpPr/>
          <p:nvPr/>
        </p:nvSpPr>
        <p:spPr>
          <a:xfrm>
            <a:off x="4628160" y="427824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sig. Presupuest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STEMA NACIONAL DE INVERSION PUBLIC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SUBSISTEM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BSISTEMA DE ANALISIS TECNICO ECONO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BSISTEMA DE FORMULACION PRESUPUEST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BSISTEMA EJECUCION PRESUPUEST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BSISTEMA DE EVALUACION EX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028"/>
          <p:cNvSpPr/>
          <p:nvPr/>
        </p:nvSpPr>
        <p:spPr>
          <a:xfrm>
            <a:off x="1295280" y="1600200"/>
            <a:ext cx="762012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BSISTEMA ANALISIS TECNICO ECONOMIC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conoce como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stema de Estadísticas Básicas de Inversión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.E.B.I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junto de normas, instrucciones y procedimientos que permite homogenizar y coordinar el proceso de identificación, formulación, presentación y evaluación de las iniciativas de inversión que llevan a cabo las distintas instituciones del sector púb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 objetivo es orientar el proceso de asignación de recursos hacia aquellas oportunidades de inversión más ren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990720" y="1295280"/>
            <a:ext cx="815328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BSISTEMA ANALISIS TECNICO ECONOMIC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NCIPALES ELEMEN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aboración y revisión anual de normas y procedimientos para el ingreso y presentación de proyectos al S.N.I. (manual SEB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visión y análisis de iniciativas de inve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bor desarrollada por las SERPLACs y Departamento de Inversiones de MIDE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eño de Metodologías de 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joramiento y actualización de las metodologías vig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fección de metodologías específicas por tipo de proy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029"/>
          <p:cNvSpPr/>
          <p:nvPr/>
        </p:nvSpPr>
        <p:spPr>
          <a:xfrm>
            <a:off x="1066680" y="1143000"/>
            <a:ext cx="807732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BSISTEMA ANALISIS TECNICO ECONOMIC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álculo y actualización de precios sociales, de manera que reflejen el verdadero valor para la socie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IDEPLAN calcula, estima y difun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asa social de descuent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costo de oportunidad del capital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alor social del tipo de cambi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costo que le significa al país producir una divisa adicional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alor social de la mano de obr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osto marginal en que incurre la sociedad por emplear un trabajador más de cierta calificació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alor social de combustib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proyectos de transpor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alor social del tiemp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proyectos de transporte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"/>
          <p:cNvSpPr/>
          <p:nvPr/>
        </p:nvSpPr>
        <p:spPr>
          <a:xfrm>
            <a:off x="1066680" y="1447920"/>
            <a:ext cx="807732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BSISTEMA ANALISIS TECNICO ECONOMIC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 establecimiento del S.N.I. requiere de la existencia de equipos profesionales calificados en el campo de formulación y evaluación social de proyectos distribuidos en toda la administración pública, capaces de identificar y preparar proyec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ctividades realizadas por MIDEPLA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Hasta el año 2006: Convenio con la U. Católic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rso Interamericano en Preparación y Evaluación de proyectos (CIAPE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rsos Regionales Intensivos (CIAPEP region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nvenio con el Instituto Latinoamericano de Planificación Económica y Social (ILP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rso Regional de Preparación y Evaluación de Proy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rso de Administración y Control de Proyect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"/>
          <p:cNvSpPr/>
          <p:nvPr/>
        </p:nvSpPr>
        <p:spPr>
          <a:xfrm>
            <a:off x="990720" y="914400"/>
            <a:ext cx="815328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BSISTEMA ANALISIS TECNICO ECONOMIC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sde el año 2007: Cursos Básicos ejecutados directamente por Midepl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sde 2007: Se licitan cada año Cursos Intermedios en todas las regiones: Convenios con Universidades regiona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sde 2008: Diploma en Preparación y Evaluación Social de Proyectos. Convenios vía licitación. A la fecha el Departamento de Ingeniería Industrial de la Universidad de Chile se ha adjudicado las tres primeras version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"/>
          <p:cNvSpPr/>
          <p:nvPr/>
        </p:nvSpPr>
        <p:spPr>
          <a:xfrm>
            <a:off x="990720" y="914400"/>
            <a:ext cx="815328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STRATEGIA NACIONAL DE  DESARROLL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finiciones y orientaciones principales de la Estrategia Nacional de Desarro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ofundización y perfeccionamiento de la inserción internacional de Chi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ctor privado como motor del crecimiento productivo. El Estado asume un rol subsidiario y mantiene, sólo por excepción, áreas de produc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 sector privado debe desempeñar su rol en un ambiente competitivo (mercados externos e interno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 Estado debe asumir y perfeccionar su rol regulador; por ejemplo, en mercados no competitivos, en aspectos ambientales y en áreas especiales (Sist. financiero, mercado laboral, entre otr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4"/>
          <p:cNvSpPr/>
          <p:nvPr/>
        </p:nvSpPr>
        <p:spPr>
          <a:xfrm>
            <a:off x="1219320" y="1219320"/>
            <a:ext cx="7924680" cy="0"/>
          </a:xfrm>
          <a:prstGeom prst="line">
            <a:avLst/>
          </a:prstGeom>
          <a:ln w="19080">
            <a:solidFill>
              <a:srgbClr val="5495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BSISTEMA ANALISIS TECNICO ECONOMIC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anco Integrado de Proy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stema de información computarizada de apoyo al S.N.I. , cuyos objetivos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ablecer una base de datos de proyectos de inversión pública a nivel nacional, regional y municip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mitir análisis agregados y específicos de la invers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mitir análisis de Evaluación Ex – Post de loas iniciativas de inve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1066680" y="1219320"/>
            <a:ext cx="807732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BSISTEMA DE FORMULACIÓN PRESUPUESTARI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73240" y="1523520"/>
            <a:ext cx="7361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 objetivo es asignar recursos financieros a los proyectos de interés sectorial, regional y de las Empresas del Estado que cuentan con la recomendación favorable de MIDE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mite a las instituciones contar con los recursos financieros necesarios para ejecutar sus proyec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DIPRES es la institución responsable de formular el Presupuesto del Sector Público, la que finalmente se aprueba co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ey de Presupuesto del Sector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dividualmente (caso Empresas del est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"/>
          <p:cNvSpPr/>
          <p:nvPr/>
        </p:nvSpPr>
        <p:spPr>
          <a:xfrm>
            <a:off x="1219320" y="1447920"/>
            <a:ext cx="792468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BSISTEMA DE FORMULACIÓN PRESUPUESTARI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437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.N.D.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PRES prepara marco presupues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BDERE prepara marco tentativo global para cada reg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giones elaboran y presentan Proyecto de Presupu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define y distribuye en forma definitiva el marco reg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promulga la Ley de Presupu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4"/>
          <p:cNvSpPr/>
          <p:nvPr/>
        </p:nvSpPr>
        <p:spPr>
          <a:xfrm>
            <a:off x="1295280" y="1828800"/>
            <a:ext cx="784872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954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LENDARIO DE FORMULACION PRESUPUESTARI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" name="Line 3"/>
          <p:cNvSpPr/>
          <p:nvPr/>
        </p:nvSpPr>
        <p:spPr>
          <a:xfrm>
            <a:off x="1066680" y="3657600"/>
            <a:ext cx="8077320" cy="0"/>
          </a:xfrm>
          <a:prstGeom prst="line">
            <a:avLst/>
          </a:prstGeom>
          <a:ln w="28440">
            <a:solidFill>
              <a:srgbClr val="547e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4"/>
          <p:cNvSpPr/>
          <p:nvPr/>
        </p:nvSpPr>
        <p:spPr>
          <a:xfrm>
            <a:off x="1066680" y="3886200"/>
            <a:ext cx="8077320" cy="0"/>
          </a:xfrm>
          <a:prstGeom prst="line">
            <a:avLst/>
          </a:prstGeom>
          <a:ln w="28440">
            <a:solidFill>
              <a:srgbClr val="547e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5"/>
          <p:cNvSpPr/>
          <p:nvPr/>
        </p:nvSpPr>
        <p:spPr>
          <a:xfrm>
            <a:off x="1295280" y="1600200"/>
            <a:ext cx="0" cy="167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6"/>
          <p:cNvSpPr/>
          <p:nvPr/>
        </p:nvSpPr>
        <p:spPr>
          <a:xfrm>
            <a:off x="1295280" y="41148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1127160" y="3241800"/>
            <a:ext cx="733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6144a"/>
                </a:solidFill>
                <a:latin typeface="Arial"/>
              </a:rPr>
              <a:t>E     F     M     A     M     J     J     A     S     O     N     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1"/>
          <p:cNvSpPr/>
          <p:nvPr/>
        </p:nvSpPr>
        <p:spPr>
          <a:xfrm>
            <a:off x="1447920" y="4114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3"/>
          <p:cNvSpPr/>
          <p:nvPr/>
        </p:nvSpPr>
        <p:spPr>
          <a:xfrm>
            <a:off x="1447920" y="46483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4"/>
          <p:cNvSpPr/>
          <p:nvPr/>
        </p:nvSpPr>
        <p:spPr>
          <a:xfrm flipV="1">
            <a:off x="3124080" y="4114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5"/>
          <p:cNvSpPr/>
          <p:nvPr/>
        </p:nvSpPr>
        <p:spPr>
          <a:xfrm flipV="1">
            <a:off x="243828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6"/>
          <p:cNvSpPr/>
          <p:nvPr/>
        </p:nvSpPr>
        <p:spPr>
          <a:xfrm>
            <a:off x="2438280" y="27432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7"/>
          <p:cNvSpPr/>
          <p:nvPr/>
        </p:nvSpPr>
        <p:spPr>
          <a:xfrm>
            <a:off x="464832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8"/>
          <p:cNvSpPr/>
          <p:nvPr/>
        </p:nvSpPr>
        <p:spPr>
          <a:xfrm flipV="1">
            <a:off x="5029200" y="2742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9"/>
          <p:cNvSpPr/>
          <p:nvPr/>
        </p:nvSpPr>
        <p:spPr>
          <a:xfrm>
            <a:off x="5029200" y="2743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20"/>
          <p:cNvSpPr/>
          <p:nvPr/>
        </p:nvSpPr>
        <p:spPr>
          <a:xfrm>
            <a:off x="586728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21"/>
          <p:cNvSpPr/>
          <p:nvPr/>
        </p:nvSpPr>
        <p:spPr>
          <a:xfrm>
            <a:off x="548640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22"/>
          <p:cNvSpPr/>
          <p:nvPr/>
        </p:nvSpPr>
        <p:spPr>
          <a:xfrm>
            <a:off x="4800600" y="18288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23"/>
          <p:cNvSpPr/>
          <p:nvPr/>
        </p:nvSpPr>
        <p:spPr>
          <a:xfrm>
            <a:off x="6172200" y="12193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24"/>
          <p:cNvSpPr/>
          <p:nvPr/>
        </p:nvSpPr>
        <p:spPr>
          <a:xfrm>
            <a:off x="7391520" y="12193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25"/>
          <p:cNvSpPr/>
          <p:nvPr/>
        </p:nvSpPr>
        <p:spPr>
          <a:xfrm>
            <a:off x="3200400" y="4114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27"/>
          <p:cNvSpPr/>
          <p:nvPr/>
        </p:nvSpPr>
        <p:spPr>
          <a:xfrm>
            <a:off x="3200400" y="46483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28"/>
          <p:cNvSpPr/>
          <p:nvPr/>
        </p:nvSpPr>
        <p:spPr>
          <a:xfrm flipV="1">
            <a:off x="4876920" y="4114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29"/>
          <p:cNvSpPr/>
          <p:nvPr/>
        </p:nvSpPr>
        <p:spPr>
          <a:xfrm>
            <a:off x="4495680" y="4114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30"/>
          <p:cNvSpPr/>
          <p:nvPr/>
        </p:nvSpPr>
        <p:spPr>
          <a:xfrm>
            <a:off x="4495680" y="5334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31"/>
          <p:cNvSpPr/>
          <p:nvPr/>
        </p:nvSpPr>
        <p:spPr>
          <a:xfrm flipV="1">
            <a:off x="5715000" y="41144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32"/>
          <p:cNvSpPr/>
          <p:nvPr/>
        </p:nvSpPr>
        <p:spPr>
          <a:xfrm>
            <a:off x="365760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3"/>
          <p:cNvSpPr/>
          <p:nvPr/>
        </p:nvSpPr>
        <p:spPr>
          <a:xfrm>
            <a:off x="1066680" y="575640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Y FORMUL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.N.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4"/>
          <p:cNvSpPr/>
          <p:nvPr/>
        </p:nvSpPr>
        <p:spPr>
          <a:xfrm>
            <a:off x="2819520" y="598500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ECOMEND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EC. – ECONOM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35"/>
          <p:cNvSpPr/>
          <p:nvPr/>
        </p:nvSpPr>
        <p:spPr>
          <a:xfrm>
            <a:off x="2895480" y="472428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NALISIS TEC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CONOMICO PRO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6"/>
          <p:cNvSpPr/>
          <p:nvPr/>
        </p:nvSpPr>
        <p:spPr>
          <a:xfrm>
            <a:off x="1447920" y="41911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IDEPLAN/SERPL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7"/>
          <p:cNvSpPr/>
          <p:nvPr/>
        </p:nvSpPr>
        <p:spPr>
          <a:xfrm>
            <a:off x="3260880" y="4079880"/>
            <a:ext cx="138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IDE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RPL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38"/>
          <p:cNvSpPr/>
          <p:nvPr/>
        </p:nvSpPr>
        <p:spPr>
          <a:xfrm>
            <a:off x="1355760" y="4689360"/>
            <a:ext cx="146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ESENT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39"/>
          <p:cNvSpPr/>
          <p:nvPr/>
        </p:nvSpPr>
        <p:spPr>
          <a:xfrm>
            <a:off x="4648320" y="49528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40"/>
          <p:cNvSpPr/>
          <p:nvPr/>
        </p:nvSpPr>
        <p:spPr>
          <a:xfrm>
            <a:off x="2666880" y="2895480"/>
            <a:ext cx="16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IP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41"/>
          <p:cNvSpPr/>
          <p:nvPr/>
        </p:nvSpPr>
        <p:spPr>
          <a:xfrm>
            <a:off x="2362320" y="1793880"/>
            <a:ext cx="2133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REPAR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RESUPUESTO EXPLORATORIO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RCO FINANCI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2"/>
          <p:cNvSpPr/>
          <p:nvPr/>
        </p:nvSpPr>
        <p:spPr>
          <a:xfrm>
            <a:off x="3962520" y="1219320"/>
            <a:ext cx="198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EPARACION Y PRESENT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Y. PRESUPUE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3"/>
          <p:cNvSpPr/>
          <p:nvPr/>
        </p:nvSpPr>
        <p:spPr>
          <a:xfrm>
            <a:off x="5181480" y="57456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ESENTAC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Y. PRES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NGRESO N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44"/>
          <p:cNvSpPr/>
          <p:nvPr/>
        </p:nvSpPr>
        <p:spPr>
          <a:xfrm>
            <a:off x="7147080" y="650880"/>
            <a:ext cx="1539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MULG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EY DE PRES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45"/>
          <p:cNvSpPr/>
          <p:nvPr/>
        </p:nvSpPr>
        <p:spPr>
          <a:xfrm>
            <a:off x="7467480" y="2819520"/>
            <a:ext cx="1676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PLEMENT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EY PRES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46"/>
          <p:cNvSpPr/>
          <p:nvPr/>
        </p:nvSpPr>
        <p:spPr>
          <a:xfrm>
            <a:off x="7375680" y="4079880"/>
            <a:ext cx="153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47"/>
          <p:cNvSpPr/>
          <p:nvPr/>
        </p:nvSpPr>
        <p:spPr>
          <a:xfrm>
            <a:off x="7604280" y="4003560"/>
            <a:ext cx="1311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EPAR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8"/>
          <p:cNvSpPr/>
          <p:nvPr/>
        </p:nvSpPr>
        <p:spPr>
          <a:xfrm>
            <a:off x="4343400" y="548640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ROCESO PRIORIZACION PROYECTOS F.N.D.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9"/>
          <p:cNvSpPr/>
          <p:nvPr/>
        </p:nvSpPr>
        <p:spPr>
          <a:xfrm>
            <a:off x="6248520" y="1295280"/>
            <a:ext cx="129528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PROBA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ES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EPARA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Y. 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 PRES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PRESENTA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L CONGR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BSISTEMA EJECUCION PRESUPUESTARI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 objetivo es regular y supervisar la ejecución del gasto público y su respectivo financia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DIPRES tiene como función regular y supervisar la ejecución del gasto público; sin perjuicio de las atribuciones de Contraloría General de la Repúbl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información de ejecución financiera se ingresa en el B.I.P. , mientras que la información de avance físico se maneja en forma man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5"/>
          <p:cNvSpPr/>
          <p:nvPr/>
        </p:nvSpPr>
        <p:spPr>
          <a:xfrm>
            <a:off x="1143000" y="1752480"/>
            <a:ext cx="800100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BSISTEMA DE EVALUACION EX - POS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36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asta la fecha este sistema no ha sido aplicado en su totalidad, sólo se han evalu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gunas iniciativas de inversión en forma indivi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grama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bjetivo Gene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terminar la eficiencia y eficacia de las iniciativas de inversión, mediante el control de su gestión y la medición de los resultados de corto, mediano y largo plazo que esa iniciativa tiene sobre la población 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5"/>
          <p:cNvSpPr/>
          <p:nvPr/>
        </p:nvSpPr>
        <p:spPr>
          <a:xfrm>
            <a:off x="1295280" y="1676520"/>
            <a:ext cx="784872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STRATEGIA NACIONAL DE  DESARROLL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05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Estado debe jugar un rol promotor de la innovación y crecimiento productivo de la pequeña y mediana empre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Estado debe promover la equidad (Igualdad de oportunidades y superación de la pobrez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centralización y desconcentración de la administración del  Estado, como parte de un proceso más global de modernización y democratización de la socie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"/>
          <p:cNvSpPr/>
          <p:nvPr/>
        </p:nvSpPr>
        <p:spPr>
          <a:xfrm>
            <a:off x="1295280" y="1752480"/>
            <a:ext cx="7848720" cy="0"/>
          </a:xfrm>
          <a:prstGeom prst="line">
            <a:avLst/>
          </a:prstGeom>
          <a:ln w="19080">
            <a:solidFill>
              <a:srgbClr val="5495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sultados de la Estrategia Nacional de Desarroll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aspectos positiv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ecimiento econó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asa de Inve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ducción de la inf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ducción de la pobreza y la indig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vances en los indicadores so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quilibrio Fi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arrollo del comercio ex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lujo de capitales exter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1143000" y="1371600"/>
            <a:ext cx="8001000" cy="0"/>
          </a:xfrm>
          <a:prstGeom prst="line">
            <a:avLst/>
          </a:prstGeom>
          <a:ln w="12600">
            <a:solidFill>
              <a:srgbClr val="5495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sultados de la Estrategia Nacional de Desarroll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74674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s desafí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antener el crecimiento acelerado en el mediano plazo: Más y mejor inversión, entre otros aspec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gualdad de oportunidades y superación de la pobrez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ducción desemple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oblemas ambienta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éficit de infraestructu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ejoramiento de la Educación y la Salu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ejoramiento de la calidad de vida urbana y rur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4"/>
          <p:cNvSpPr/>
          <p:nvPr/>
        </p:nvSpPr>
        <p:spPr>
          <a:xfrm>
            <a:off x="1066680" y="1600200"/>
            <a:ext cx="8077320" cy="0"/>
          </a:xfrm>
          <a:prstGeom prst="line">
            <a:avLst/>
          </a:prstGeom>
          <a:ln w="19080">
            <a:solidFill>
              <a:srgbClr val="5495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l Sistema Nacional de Inversiones al servicio de la Estrategia Nacional de Desarroll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ital para Chile generar más y mejores proyectos (ojalá sobren buenos proyectos para que la Autoridad deci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n embargo, no se debe sobredimensionar la capacidad de la inversión pública para resolver problemas (representa aproximadamente entre un 16 - 18% de la inversión total del paí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un contexto donde los recursos son escasos es primordial asignarlos en forma eficiente, esto implica necesariamente formular y evaluar bien los proyec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1143000" y="1523880"/>
            <a:ext cx="8001000" cy="0"/>
          </a:xfrm>
          <a:prstGeom prst="line">
            <a:avLst/>
          </a:prstGeom>
          <a:ln w="19080">
            <a:solidFill>
              <a:srgbClr val="5495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l Sistema Nacional de Inversiones al servicio de la Estrategia Nacional de Desarroll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ficienc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écnico-económ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Con los mismos recursos se pueden resolver más necesidades y de mejor manera (“Eficiencia crea recursos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olít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La eficiencia pública legitima la acción del Gobierno y prestigia la democra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t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La ineficiencia contribuye a mantener o profundizar la desigualdad de oportun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INEFICIENCIA EN UN PROYECTO ALGUIEN LA PA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028"/>
          <p:cNvSpPr/>
          <p:nvPr/>
        </p:nvSpPr>
        <p:spPr>
          <a:xfrm>
            <a:off x="1219320" y="1752480"/>
            <a:ext cx="7924680" cy="0"/>
          </a:xfrm>
          <a:prstGeom prst="line">
            <a:avLst/>
          </a:prstGeom>
          <a:ln w="19080">
            <a:solidFill>
              <a:srgbClr val="5495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STEMA NACIONAL DE INVERSION PUBLIC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696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ablece las bases y condiciones sobre las cuales se desarrolla el proceso de inversión pública en el país, de manera de impulsar aquellas iniciativas de inversión más rentables para la sociedad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gún los lineamientos de la política de Gobi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poyar la toma de decisiones sobre invers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elar por una eficiente asignación de recursos públicos, que son esca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ribuir a aumentar el bienestar general de la comunida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4"/>
          <p:cNvSpPr/>
          <p:nvPr/>
        </p:nvSpPr>
        <p:spPr>
          <a:xfrm>
            <a:off x="1066680" y="914400"/>
            <a:ext cx="807732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STEMA NACIONAL DE INVERSION PUBLIC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391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S.N.I. se basa en la asignación de recursos por proyectos específic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los que previament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han sido evaluados desde un punto de vista socioeconómic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S.N.I. abarca todo el proceso de inversión y permi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nsformar ideas en proyectos de inversión,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ferenciar aquellos cuya realización se justifica de aquellos cuya ejecución no es recomendable, desde el punto de vista de bienestar de la socie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"/>
          <p:cNvSpPr/>
          <p:nvPr/>
        </p:nvSpPr>
        <p:spPr>
          <a:xfrm>
            <a:off x="990720" y="1219320"/>
            <a:ext cx="815328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8T17:10:39Z</dcterms:created>
  <dc:creator>Inversiones</dc:creator>
  <dc:description/>
  <dc:language>en-US</dc:language>
  <cp:lastModifiedBy>Eduardo Contreras Villablanca</cp:lastModifiedBy>
  <dcterms:modified xsi:type="dcterms:W3CDTF">2010-06-20T17:36:35Z</dcterms:modified>
  <cp:revision>24</cp:revision>
  <dc:subject/>
  <dc:title>SISTEMA NACIONAL DE INVERSION PUBLICA</dc:title>
</cp:coreProperties>
</file>