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DB2A-C374-4CA1-B9E0-1945CEFF5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4FF5-6BB0-4611-B211-2A28222AA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5A3A-9C1E-418E-9427-AB3711B15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3989-704A-45C6-9298-7C876517F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0F485-A7EC-4334-8EA7-2F4CE9DF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3193C-D522-4A8B-9F8D-439D87D3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0C3B1-BC24-495D-B694-18D186CB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07929-FB4C-471C-82ED-5D0751FB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7AB3E-C694-47D4-BEDC-C5C94337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D8524-C078-4BBA-9D63-A5177A68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AE86C-C688-45DA-A63E-3E5ABF4D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20C6-1B24-4BB9-8D22-1E174F2B0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12A73-F1E9-4848-99B6-468C0738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CDCB6-42A0-44C4-8E5C-907E0A34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446EB-D550-4AE3-ADFF-CCBBF735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CFD6-F7C7-4ACB-AF44-4CB9EB58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7C1AB-0335-4A79-978A-E443E2D2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795A-326D-43B8-BA60-D7BBB5DFB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A295-42C6-4669-9625-342999F8D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AAD6-7417-4A4A-84B1-F6F1A8E59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CA3A-8E33-4B3E-AEC9-A3323FF01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07A06-40F7-4D71-AE9C-508B8AD5E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C84D-2450-41F8-BD80-786A6CF07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10DA-2745-41E6-82A9-D16E7EE01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2C98-00E5-4D68-8DE6-AE60F935E2A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24DF-941F-4AB9-9F54-7BE97067A900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8955-0BEE-4186-B75D-B0555D06199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6D64-2F77-4BFB-B8D9-1A719E4EF24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E3E-3C0F-49D3-938A-E34D31780AA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o Estudio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93A7-3E60-4A8D-9F24-5A6DF787FCA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06E-5F7F-44AF-B05B-83982983337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3B6-29DB-4FCC-B7A5-4FF5F1DBEAD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19D2-C9AD-44E9-AB59-136CA741C09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25B-5C95-4E9D-9E78-ABEDF5AC81C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B2C9-104F-4E79-B370-C951CFA111F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C528-4AB4-4C64-B59A-F83520EA855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EB94-E732-480F-B92C-F4DF8CD6E09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c, fue líder en la venta de PCs durante los 80 al pronosticar efectivamente el crecimi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d acertó al estimar la demanda por un auto más sencillo y bar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acaso al no pronosticar la necesidad de diversificar (Slogan de G.M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81FC-BEE9-48E4-9138-FE326390085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558C-DD67-4434-9940-0DDC50F6D40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G Times"/>
              </a:rPr>
              <a:t>Períodos más largos, mayor estabilidad pero menor velocidad de respuesta a los camb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981080" y="3000240"/>
                <a:ext cx="3886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9967-C15F-4D71-B7DF-1A7733E891A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ser complejo el cálculo adecuado de los p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CC99-B8DF-4D44-9268-F953A59BB89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F109-FEA1-4E6D-B996-20AC82676F8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7218-B327-46E9-A72D-318DECC91EE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1CE8-9DCD-45E0-918F-6C1B3503BB7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55D6-F211-48EA-8F76-B35D150C88C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4090-A6AE-4A6D-B2E9-B108DFB4F37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7E2D-4CF2-4CED-8A98-EDFB1AAD713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iación media absoluta suavizada (se suaviza M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forma análoga a como se suaviza el promedi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cular para distintos valores de alfa entre 0 y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CD42-760E-4C85-8CBE-5024E5E99BF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98680" y="4416480"/>
            <a:ext cx="82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Se llama muestreo censurado al proceso de conteo en que las deman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yores al stock disponible no se registran. Existen métodos estadísticos que trat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extrapolar los datos que se tiene para estimar la demanda más probable. C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éstos se mejora significativamente el pronóst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B22A-5467-4BB2-9373-4041371CDE3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831F-606E-4BA6-B808-D82F4632120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 Model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94F5-AA80-4D99-AA2F-DE9A762D6A2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AE7C-740E-4B66-877E-FEDA7A0A01A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eficiente de determinación: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2584-7BAF-41DE-AA9C-B9BEAC56E93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8FF8-8455-42A1-B7C9-8FBE40BE7AD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B17A-69D2-46D9-831B-777B6F05D4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EE68-FA97-4F45-8C8A-73268306E69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A9A7-D469-407B-9DBF-FD6306F7E3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9199-A283-4E7B-A03A-49280680645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x-Jenkins es una serie de tiempo autocorrelacionada (por ejemplo, si demanda sube en t, es probable que siga subiendo en ( t+1), que exige mas de 60 datos (60 mes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8595-104F-4386-AC12-B9DEAD849CB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4398-89DB-4D9E-82B3-35F72F4DF7C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5CAE-7244-4A45-B39B-A968AC67D1A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acterísticas de Pronós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fallar. Debe tenerse flexibilidad de re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no es sólo en número, mas bien un rango o tener una varianza de la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agregados son más exactos. Si demandas son independientes, la varianza del promedio es menor que la varianza de cada i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 pronósticar demanda  por una línea de productos por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mayor horizonte, menor exactitud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información adicional. Ejemplo: Se acaba de instalar supermercado al lado de mi almacé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5ECB-D8B4-4897-A4FD-7C5E2061FC2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6E4A-F44B-4991-A0D5-D342468C988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D240-F685-456F-A6F8-86464E97C67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Consuelo</cp:lastModifiedBy>
  <cp:lastPrinted>2002-03-21T07:38:08Z</cp:lastPrinted>
  <dcterms:modified xsi:type="dcterms:W3CDTF">2011-03-18T14:09:49Z</dcterms:modified>
  <cp:revision>185</cp:revision>
  <dc:subject/>
  <dc:title>Comercio Electrónico</dc:title>
</cp:coreProperties>
</file>