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72690-30AB-42E4-9C18-0921545E2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D8C04-5DFF-44B3-B824-3BF917EAA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99480-D285-43B0-9602-183EFA0C7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63C38-555C-4E3A-8155-1A1D60F49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7009F-385B-4521-90C1-C4355A7B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8BC1D-D41F-4EE1-B608-482940AF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45923-4271-4D16-B05A-26747810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C09AB-4175-40F8-BFDC-F1FF29A2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0E22E-7A8F-4120-BB97-FC392DF6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B330B-7905-4B77-9F90-9C0AE4D4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5D297-F25A-457B-B8A1-0EB417F9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26FA7-4E21-4546-9E6C-67A4D437A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B1C16-9AA0-4D44-B402-CD9925C3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83F0D-E404-43DB-B6B6-D9701E62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441B9-6264-4B1A-831F-8ACB30AC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DB28B-BDC0-44D2-9289-11364F50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F25CF-572D-4F02-8C66-35A2A862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A253-22E9-4CB2-8257-23A4B78D5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F897B-74FE-4865-838F-E98C5C859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94CA-B676-4E28-9B98-DD6A083C7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B4440-7E75-4F78-AFD7-58785C393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092C8-2F78-4BCF-8F83-3087D8C16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D6966-0F83-4EE3-9E67-C20446632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FBC19-8A11-4BCA-BBAA-A7D106E82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576F-ACD6-421E-92E5-69A6DC2044F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DB79-A64F-48EE-92D9-2C7DF7159137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71600" y="34290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2:  Pronósticos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C598-C059-452A-BE6F-00EB7C5D157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Método Delph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rupo de expertos que se reúne durante varias sesiones de reconsideraciones en busca de consensos respecto a un grupo de preguntas adecuado a la situación que se enfr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sa en la introducción de nuevos productos y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regular en exactitud y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 costo mediano 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4010-B230-4E74-8B11-8BFB7941080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Empresa que requiere pronóstico de ventas a 5 años y que posee una baja capacidad, lo que hace difícil usar ventas como información de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cipación de 23 administr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tos: PGB, ventas del sector y ventas de la empresa por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rias preguntas para obligar a pensar en rel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ltado: Mucha dispersión al comienzo, pero se convergió a un buen pro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12AE-6D6C-419F-A541-D128E47AFF6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Encuestas o Estudio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básicamente a paneles, cuestionarios y pruebas de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se usan para probar nuevos productos (yoghurt) o en test políticos (encues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buenos a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alt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n identificar puntos de camb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59C0-9809-4EB3-AAB8-DFB93C5E50E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nalogía a los Ciclos de V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identificar en que fase de su vida se encuentra un producto, para esto se analizan las curvas de crecimiento de productos simila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t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895B-50BD-4AC0-9760-0CA8460BD50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a exactitud reg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capta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 a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FFEB-392A-43EA-9B21-ECE16120748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Juicio Bien Inform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sólo en la experiencia y en la intui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en un gran u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a exactitud baj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r en la identificación de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dificios de departa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368E-6F1A-4F08-924A-4AB686B14B2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s métodos utilizan datos históricos y los proyecta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contar con datos inter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captan patron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4CCD-785D-4D61-854A-98786D2AD72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866680" y="55627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1893960" y="1752480"/>
            <a:ext cx="5268960" cy="3824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5023440" y="3740040"/>
            <a:ext cx="21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erie de tiempo origi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4245120" y="507852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1"/>
          <p:cNvSpPr/>
          <p:nvPr/>
        </p:nvSpPr>
        <p:spPr>
          <a:xfrm rot="16183800">
            <a:off x="1334160" y="33220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DAEA-4A0C-4C57-93F3-B3796EC0564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1"/>
          <a:stretch/>
        </p:blipFill>
        <p:spPr>
          <a:xfrm>
            <a:off x="2124000" y="1600200"/>
            <a:ext cx="4810320" cy="37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91400" y="5562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Descompu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384800" y="51814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 rot="16183800">
            <a:off x="1486440" y="31698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930640" y="19051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ic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891040" y="2743200"/>
            <a:ext cx="164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atr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 estacion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5916600" y="34290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nd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5928840" y="40384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Ni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5911200" y="457200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leato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AEF0-DAAB-4BA4-B172-D71EB4F7E72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onen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uido: parte aleatoria (si es muy alto es difícil hacer pronóstic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(bas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el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s al esta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C16F-BF5D-4200-9981-54AC2414C0E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n estudiar la demanda futura, acción importante en el diseño de un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c, fue líder en la venta de PCs durante los 80 al pronosticar efectivamente el crecimiento de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d acertó al estimar la demanda por un auto más sencillo y bara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acaso al no pronosticar la necesidad de diversificar (Slogan de G.M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BA8F-9209-403C-938B-57DD1091C5C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observada en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para el período t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medio calculado para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 se conocen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-k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.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y se busca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C618-0410-46B1-AF64-8B003B8D5A3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Promedios Móvi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sugiere que la serie de tiempo tiene componentes de valor pro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toma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=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G Times"/>
              </a:rPr>
              <a:t>Períodos más largos, mayor estabilidad pero menor velocidad de respuesta a los cambi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hay variabilidad en la demanda se pueden usar promedios móviles ponderados, asignando mayor ponderación a los últimos perío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1981080" y="3000240"/>
                <a:ext cx="38862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5790-DBE6-4097-A074-9BB3E58FFBF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medios Móviles Pond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 ser complejo el cálculo adecuado de los p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2057400" y="2479680"/>
                <a:ext cx="563868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so anterior,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4C9C-B0D0-446E-A6D6-A09290867B7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lisamiento Exponencial Si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fleja la his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última demanda            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historia                          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057400" y="2514600"/>
                <a:ext cx="6172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6578640" y="4572000"/>
                <a:ext cx="1066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6583320" y="5029200"/>
                <a:ext cx="1133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CFB4-8A58-4307-B9E3-7471D6DA52C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fecto de los primeros períodos se va atenuando en forma exponenc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1523880" y="2895480"/>
                <a:ext cx="6934320" cy="21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1881-AEDB-4E26-8538-5BD6641F4A5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de U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requiere de las demandas históricas (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de un promedio inicial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 calibrando    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de Zap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4343400" y="430524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5"/>
              <p:cNvSpPr txBox="1"/>
              <p:nvPr/>
            </p:nvSpPr>
            <p:spPr>
              <a:xfrm>
                <a:off x="2374920" y="2997360"/>
                <a:ext cx="397656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CEAE-0FAA-4160-8E47-CEBF4930A9E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Tend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la 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515960" y="2644920"/>
                <a:ext cx="70945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671E-3E38-4F7C-8F42-EDD975E97C4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Estacionalidad de Larg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el factor de 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1204920" y="2494080"/>
                <a:ext cx="7558200" cy="34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F749-230F-4A7E-8A20-AF3E5AD739F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rrores de Pronóst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indicadores de error sirven para ver en qué momento el pronóstico falla o los datos no sirv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dicado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viación media absolu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1981080" y="4724280"/>
                <a:ext cx="2438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9AD8-5250-4F85-BEEE-69D0ACB601F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iación media absoluta suavizada (se suaviza MA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forma análoga a como se suaviza el promedi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cular para distintos valores de alfa entre 0 y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2379600" y="2057400"/>
                <a:ext cx="5583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46D5-2F07-4A7C-9F67-002216C36AF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nóstico - Plane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manda - Ven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98680" y="4416480"/>
            <a:ext cx="821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Nota: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Se llama muestreo censurado al proceso de conteo en que las demand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mayores al stock disponible no se registran. Existen métodos estadísticos que trat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 extrapolar los datos que se tiene para estimar la demanda más probable. C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éstos se mejora significativamente el pronóstic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156F-49ED-4306-A762-59D3AFA409D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ñal de Rastre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el numerador corresponde al sesgo y el denominador al último MAD observ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T                (confiabilidad menor al 97%), entonces debe revisarse el modelo ya que esta ses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905120" y="2362320"/>
                <a:ext cx="6248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a acumulada de la desviación del pronóst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5"/>
              <p:cNvSpPr txBox="1"/>
              <p:nvPr/>
            </p:nvSpPr>
            <p:spPr>
              <a:xfrm>
                <a:off x="2946240" y="4114800"/>
                <a:ext cx="9907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9DD8-2941-4799-AEB6-656B8A3DD98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resión: Modelo lin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dea es ajustar una curva a los puntos con que se cu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981080" y="2209680"/>
                <a:ext cx="16765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1905120" y="3048120"/>
                <a:ext cx="369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1373040" y="4700520"/>
                <a:ext cx="723600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5071-190D-41C2-9F90-B70F60B6713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resultado se obtie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1981080" y="2286000"/>
                <a:ext cx="4915080" cy="33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BF1E-253B-4CF9-BB4C-EEE2601DD50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eficiente de determinación: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ide la proporción de la variación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xplicada por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es sobre 0,95 se consideran bue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1676520" y="1616040"/>
                <a:ext cx="6858000" cy="23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A0B5-C55D-4BD3-ADB6-57FCB9C50DB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 de periód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habi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greso per cap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extender a formulaciones complej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1981080" y="4800600"/>
                <a:ext cx="2057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5A0B-EBC1-40FE-AA70-EBAFE4032CE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ales 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útil cuando existen fuertes relacione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típico para horizontes de corto y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 identificar bien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F6A7-B86A-40F9-8B9D-9447A531574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odelos Econométr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ecuaciones de regresión interdependientes para describir un proceso comple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o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5782-1054-4FFA-9671-EE89A24155E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cio cob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ctores de la econom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2F59-FD1B-4ADF-8B60-7B3C33642CF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imulación de sistemas es comple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 de implemen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izonte de corto a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tribución en cadena, para ver demanda de distintos ele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os de producción, para conocer la demanda por insum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 urbano, para ver equilibrio vehic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CE26-BFD5-46E9-9751-E59009F9071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riterio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- Sofisticación del usuario y d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se deben dar saltos brus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- Tiempo y recursos dispon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3.- Tipo de deci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de-off entre costo y calidad del pronóst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jemplo: Falabella vs Negocio ch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4.- Disponibilidad de d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x-Jenkins es una serie de tiempo autocorrelacionada (por ejemplo, si demanda sube en t, es probable que siga subiendo en ( t+1), que exige mas de 60 datos (60 mese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5.- Patrón de d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es causal no se pueden usar series de tiemp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8118-EBDF-4500-ABA1-F42AC1E7597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ver el horizonte y nivel de agregación que se requiere para el pronóstico de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y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s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2CA7-F5E0-4961-82A0-2F918B75E02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all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Fábrica de 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Estratég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globales a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línea para la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óxima tempo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modelo y númer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próxima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5865-4BF7-4DB3-8046-DE2DD69AF25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acterísticas de Pronóst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n fallar. Debe tenerse flexibilidad de re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s no es sólo en número, mas bien un rango o tener una varianza de la distrib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s agregados son más exactos. Si demandas son independientes, la varianza del promedio es menor que la varianza de cada i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jor pronósticar demanda  por una línea de productos por cada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 mayor horizonte, menor exactitud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considerar información adicional. Ejemplo: Se acaba de instalar supermercado al lado de mi almacé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C657-0162-4963-8033-39B3CB9C822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os tip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litativos: son aquellos que dependen de ju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ntitativos: son aquellos que poseen un modelo subyac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datos y patrones de datos se utilizan como indicadores confiables para predecir el futu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cluyen Series de Tiempo y Modelo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AAA9-1346-4CB6-8540-480EDE93B75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419040" y="2590920"/>
            <a:ext cx="83822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4197-1CA3-464E-9DA1-647064C5B0C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osee poca infor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alta incertidumb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escasa capacidad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mediano o larg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típ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nue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Consuelo</cp:lastModifiedBy>
  <cp:lastPrinted>2002-03-21T07:38:08Z</cp:lastPrinted>
  <dcterms:modified xsi:type="dcterms:W3CDTF">2011-03-18T14:09:49Z</dcterms:modified>
  <cp:revision>185</cp:revision>
  <dc:subject/>
  <dc:title>Comercio Electrónico</dc:title>
</cp:coreProperties>
</file>