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68E5F-3694-4B35-9F22-47A68B6B5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D71E1-9C61-41C9-A870-6205E2047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5FD68-9710-4688-AF8B-D0267840F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8C68D-849E-4D7A-8670-3E0E8CF93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28C71-2A04-41C6-8BCA-CCDD0893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5C31F-E8B5-4348-89B3-1553DD5E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ED540-C301-465C-8679-147B0136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9512B-9BAF-47FC-8573-9222D3AD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29306-1884-475A-82A4-A9C5D56C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8F03B-229B-476E-A5D5-54C4A483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A9043-E78A-4FDC-8091-6966370D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1AD96-3695-4137-AB11-251EE1CFE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76076-5A43-4CCB-B8CC-45A5FCC9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D24A0-FBA4-47DA-9418-413A940E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2E925-1FC2-4543-8BC1-83C0760E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54FBD-EC01-41D7-AD45-39B9BAB4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80BE9-B928-4A78-BE00-0B616822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7A87D-A941-4B25-8F95-3E9E47EEA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59521-EE51-4B39-B19E-CDE14DB25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0F8FB-5619-43B4-A951-B1E801AA9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3C801-91E6-43B7-843E-97AC7F988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7AB8B-F402-4202-AD6A-F9F6CA4F7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8D50-4A5B-45D6-AA72-1997BEAECA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E223D-D69E-4F47-92EF-C13E1E6B6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44A2-6286-4521-B168-927E22D4EF6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5ECD-2042-4F8A-890B-1C1780021927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371600" y="34290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2:  Pronósticos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1989-30C7-4CB5-B225-AF914EA405C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Método Delph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rupo de expertos que se reúne durante varias sesiones de reconsideraciones en busca de consensos respecto a un grupo de preguntas adecuado a la situación que se enfr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sa en la introducción de nuevos productos y cambios tecnoló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regular en exactitud y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 costo mediano 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C0E2-E125-42E5-ACEB-2D8DCC9B5CB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Empresa que requiere pronóstico de ventas a 5 años y que posee una baja capacidad, lo que hace difícil usar ventas como información de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cipación de 23 administr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tos: PGB, ventas del sector y ventas de la empresa por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rias preguntas para obligar a pensar en rel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ltado: Mucha dispersión al comienzo, pero se convergió a un buen pronóstic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9AEE-E419-4A9F-A9BE-8EEF348D0DF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Encuestas o Estudio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n básicamente a paneles, cuestionarios y pruebas de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ípicamente se usan para probar nuevos productos (yoghurt) o en test políticos (encues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buenos a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 alto 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n identificar puntos de camb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07E0-DBC5-4446-BA7D-0AA054930BC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nalogía a los Ciclos de Vi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ste en identificar en que fase de su vida se encuentra un producto, para esto se analizan las curvas de crecimiento de productos simila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ec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d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t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71BA-126F-4327-95DA-EC85EAA5593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a exactitud reg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capta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 a 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Jugue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D8E8-39C5-450B-9553-64492C76A11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Juicio Bien Inform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asa sólo en la experiencia y en la intui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en un gran u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a exactitud baj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r en la identificación de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dificios de departa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C456-6E66-438B-8EBB-6970C55F9DD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os métodos utilizan datos históricos y los proyectan a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necesario contar con datos inter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captan patron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A16B-E90B-4AAB-B803-38E0551855C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866680" y="55627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/>
          <a:stretch/>
        </p:blipFill>
        <p:spPr>
          <a:xfrm>
            <a:off x="1893960" y="1752480"/>
            <a:ext cx="5268960" cy="3824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5023440" y="3740040"/>
            <a:ext cx="21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erie de tiempo origi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4245120" y="507852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1"/>
          <p:cNvSpPr/>
          <p:nvPr/>
        </p:nvSpPr>
        <p:spPr>
          <a:xfrm rot="16183800">
            <a:off x="1334160" y="332208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8C3C-C64C-4893-AB3A-B57A204E86F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9" descr=""/>
          <p:cNvPicPr/>
          <p:nvPr/>
        </p:nvPicPr>
        <p:blipFill>
          <a:blip r:embed="rId1"/>
          <a:stretch/>
        </p:blipFill>
        <p:spPr>
          <a:xfrm>
            <a:off x="2124000" y="1600200"/>
            <a:ext cx="4810320" cy="3774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91400" y="556272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Descompue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384800" y="518148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 rot="16183800">
            <a:off x="1486440" y="316980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5930640" y="19051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ic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891040" y="2743200"/>
            <a:ext cx="164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atr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 estacion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5916600" y="34290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nd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5928840" y="403848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Ni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5911200" y="457200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Aleator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03BF-5C04-458F-8863-8B185F5DA6F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onent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uido: parte aleatoria (si es muy alto es difícil hacer pronóstic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(bas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el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radas al esta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61FC-BAA2-4114-9F6C-A67E7452FF4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jetiv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miten estudiar la demanda futura, acción importante en el diseño de un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c, fue líder en la venta de PCs durante los 80 al pronosticar efectivamente el crecimiento de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d acertó al estimar la demanda por un auto más sencillo y bara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acaso al no pronosticar la necesidad de diversificar (Slogan de G.M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A205-C358-49EE-8EEE-BB6E6422F6B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observada en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 para el período t+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medio calculado para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-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 de pronós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ípicamente se conocen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-k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.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y se busca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40E5-8A68-40B4-B157-34042C16F29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Promedios Móvi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sugiere que la serie de tiempo tiene componentes de valor pro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toma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=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G Times"/>
              </a:rPr>
              <a:t>Períodos más largos, mayor estabilidad pero menor velocidad de respuesta a los cambi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hay variabilidad en la demanda se pueden usar promedios móviles ponderados, asignando mayor ponderación a los últimos perío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1981080" y="3000240"/>
                <a:ext cx="38862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C23D-036A-48B5-B21E-BA0EFB440ED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romedios Móviles Ponder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 ser complejo el cálculo adecuado de los p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2057400" y="2479680"/>
                <a:ext cx="563868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aso anterior,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0431-3016-48C4-A877-6F48D8DC1E6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lisamiento Exponencial Si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fleja la hist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última demanda             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historia                          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2057400" y="2514600"/>
                <a:ext cx="6172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6578640" y="4572000"/>
                <a:ext cx="1066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>
                <a:off x="6583320" y="5029200"/>
                <a:ext cx="1133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7860-6282-453A-A965-CF27F4F1CBB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fecto de los primeros períodos se va atenuando en forma exponenc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1523880" y="2895480"/>
                <a:ext cx="6934320" cy="21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2604-5608-491A-B029-62570A1C783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 de U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requiere de las demandas históricas (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y de un promedio inicial (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 calibrando    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de Zap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4343400" y="430524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5"/>
              <p:cNvSpPr txBox="1"/>
              <p:nvPr/>
            </p:nvSpPr>
            <p:spPr>
              <a:xfrm>
                <a:off x="2374920" y="2997360"/>
                <a:ext cx="397656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C808-151B-475B-A1CB-1A75C26427A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Tende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la 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1515960" y="2644920"/>
                <a:ext cx="70945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4750-9083-4935-8C58-0EE04E3D0B7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Estacionalidad de Largo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el factor de 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1204920" y="2494080"/>
                <a:ext cx="7558200" cy="34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712F-095C-420B-B2B7-519144391AD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rrores de Pronóst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indicadores de error sirven para ver en qué momento el pronóstico falla o los datos no sirv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dicado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viación media absolu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1981080" y="4724280"/>
                <a:ext cx="2438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</m:sub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397E-1EC2-4006-AE30-98F91A27A35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viación media absoluta suavizada (se suaviza MA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forma análoga a como se suaviza el promedi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cular para distintos valores de alfa entre 0 y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5"/>
              <p:cNvSpPr txBox="1"/>
              <p:nvPr/>
            </p:nvSpPr>
            <p:spPr>
              <a:xfrm>
                <a:off x="2379600" y="2057400"/>
                <a:ext cx="55832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455B-45AE-4C7C-9897-E2492CBD3C5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nóstico - Plane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manda - Ven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98680" y="4416480"/>
            <a:ext cx="821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Nota: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Se llama muestreo censurado al proceso de conteo en que las demand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mayores al stock disponible no se registran. Existen métodos estadísticos que trat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 extrapolar los datos que se tiene para estimar la demanda más probable. C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éstos se mejora significativamente el pronóstic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4124-3FF8-418C-BA68-377110EE1E3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ñal de Rastre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el numerador corresponde al sesgo y el denominador al último MAD observ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T                (confiabilidad menor al 97%), entonces debe revisarse el modelo ya que esta ses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905120" y="2362320"/>
                <a:ext cx="6248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ma acumulada de la desviación del pronóst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5"/>
              <p:cNvSpPr txBox="1"/>
              <p:nvPr/>
            </p:nvSpPr>
            <p:spPr>
              <a:xfrm>
                <a:off x="2946240" y="4114800"/>
                <a:ext cx="9907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EC84-53F1-460D-A4D5-06275C6A8CA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gresión: Modelo lin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dea es ajustar una curva a los puntos con que se cu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981080" y="2209680"/>
                <a:ext cx="16765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1905120" y="3048120"/>
                <a:ext cx="369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1373040" y="4700520"/>
                <a:ext cx="723600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6F6C-7F62-4634-806E-4E846DC844C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o resultado se obtie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1981080" y="2286000"/>
                <a:ext cx="4915080" cy="331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1E76-BC25-4D02-B1FB-DF338AE0083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eficiente de determinación: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ide la proporción de la variación de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xplicada por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es sobre 0,95 se consideran bue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5"/>
              <p:cNvSpPr txBox="1"/>
              <p:nvPr/>
            </p:nvSpPr>
            <p:spPr>
              <a:xfrm>
                <a:off x="1676520" y="1616040"/>
                <a:ext cx="6858000" cy="23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44FD-8E32-453F-98D0-B5FE70C1533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 de periód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úmero de habi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greso per capi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et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extender a formulaciones complej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1981080" y="4800600"/>
                <a:ext cx="2057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8159-2337-4A4E-9ED2-34D23C14E54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ncipales 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útil cuando existen fuertes relacione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típico para horizontes de corto y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 identificar bien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BC93-5E1C-4068-9821-D47DF46EA32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Modelos Econométr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ecuaciones de regresión interdependientes para describir un proceso comple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ejidad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os para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7468-CB24-48F3-BF00-27986368AA9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cio cob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ctores de la econom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8F88-4F23-4CDB-ACD8-71EF36F7C75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Simul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imulación de sistemas es comple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 de implemen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rizonte de corto a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ede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tribución en cadena, para ver demanda de distintos ele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os de producción, para conocer la demanda por insum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 urbano, para ver equilibrio vehic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9F04-CEFE-4282-AAA8-CCDBF653326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riterio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- Sofisticación del usuario y de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se deben dar saltos brus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- Tiempo y recursos disponi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3.- Tipo de deci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de-off entre costo y calidad del pronósti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jemplo: Falabella vs Negocio chi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4.- Disponibilidad de d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ox-Jenkins es una serie de tiempo autocorrelacionada (por ejemplo, si demanda sube en t, es probable que siga subiendo en ( t+1), que exige mas de 60 datos (60 mese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5.- Patrón de d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es causal no se pueden usar series de tiemp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86D2-79A0-4BD7-94A5-A3D52F6F29B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importante ver el horizonte y nivel de agregación que se requiere para el pronóstico de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Estratég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y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s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0E72-96F5-401B-A880-487F3575A53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all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Fábrica de 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Estratég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globales a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línea para la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óxima tempor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modelo y númer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 próxima sem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FC4B-89B4-4C5F-BDA0-EFA120CA1E6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acterísticas de Pronóst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n fallar. Debe tenerse flexibilidad de re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s no es sólo en número, mas bien un rango o tener una varianza de la distribu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s agregados son más exactos. Si demandas son independientes, la varianza del promedio es menor que la varianza de cada it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jor pronósticar demanda  por una línea de productos por cada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 mayor horizonte, menor exactitud de pronós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considerar información adicional. Ejemplo: Se acaba de instalar supermercado al lado de mi almacé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DB66-BD98-4DC0-A918-3F545BDBF4C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os tip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litativos: son aquellos que dependen de ju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ntitativos: son aquellos que poseen un modelo subyac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datos y patrones de datos se utilizan como indicadores confiables para predecir el futu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cluyen Series de Tiempo y Modelo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7E43-39B0-48B0-A967-F7B5B1A459A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419040" y="2590920"/>
            <a:ext cx="83822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6414-DAD5-46E6-9AED-6F2B7AC56AE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osee poca inform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alta incertidumb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iene escasa capacidad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de mediano o larg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típ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nue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Consuelo</cp:lastModifiedBy>
  <cp:lastPrinted>2002-03-21T07:38:08Z</cp:lastPrinted>
  <dcterms:modified xsi:type="dcterms:W3CDTF">2011-03-18T14:09:49Z</dcterms:modified>
  <cp:revision>185</cp:revision>
  <dc:subject/>
  <dc:title>Comercio Electrónico</dc:title>
</cp:coreProperties>
</file>