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CC3D0-B155-47AF-9BE4-95D446DD8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C77B5-621B-48D4-8EC5-1B055B51F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55404-A33B-46E5-A020-CC463BB1F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648DD-6D81-4416-B54B-182E325B8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4840A-9FB5-4D73-BF11-1F531755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3CED6-BF35-4C87-B2E6-471EDC58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69D3B-217D-463F-8599-F3F759C1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0170B-4332-4AC7-A308-CE083B40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4A382-B3E9-469F-BF52-8805CBD3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4697F-16A0-4D36-9B32-8C16467E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CBB6B-0CB6-463A-ADB2-A27BD91C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70AB-C233-43D4-8124-21929D94E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A7258-BC7C-46D5-9316-58BC7F81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407A9-F4FF-46D4-8ACB-A1663BC2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9EF05-821B-46F9-870E-E9EE3C54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70C5A-874B-4B06-B56F-1A24C709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FDCC1-71F3-4E11-B42C-DA4BCE33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82D9-902B-4342-A73F-530155B18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0E1E-BBE2-41A4-88AA-24393CAC3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6EFB-E324-40B5-9932-FC6A999A4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9161-33CF-4D69-B0A2-9B8C6D647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5D0C-0653-4697-B820-C5FD14B74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640F-8D82-4787-AE16-1E02578AC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BC8EF-D2E1-4515-BEC5-4500DDE90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2696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1C93-42F1-49A2-A2D3-4E1D47ED5AE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6D68-8265-420F-B836-90BB28792756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: La Fun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tor importante  en costos en muchos bienes y servi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rre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label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ábrica de cemen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ederal Exp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rgencias Méd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6550D-D11A-4173-8B62-A086624B75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vent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 central en producción de bie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tocks de Materia Pri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intermed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ario para proteger por incertidumbre 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(productos fina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entrega (materia prima, componen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producción (productos intermedi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A3DCB-D711-40F5-A577-91803F7B95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stema que calcula cuando se va a necesitar cada materia prima, productos intermedios y producto fi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segura que todos esten a tiemp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5445-3DDC-457F-9D6A-7109270A95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J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cepto de producción magra, efic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ue cada item este sólo cuando se requiere, no de bod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ta de eliminar inven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quiere manufactura flexible para hacer lotes pequeñ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BEBCF-D7B3-4D7D-8101-3F1F2E93F3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laneación Agreg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o nos organizamos para el próximo año, temporad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sonal requer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as de p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peracio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levar a cabo las tareas del día a dí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br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B32B-8B1C-439A-B4C3-7FA2AFD67B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dena de suministr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gística de manejo del desarrollo del producto desde materia prima a producto fi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rdinar todas los act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jorar efici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ar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legar rápido al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Compact perdió entre $500 y $1000 millones de dólares en 1994 por no llegar a tiempo al mercado con PC’s y laptops de alt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gística se puede subcontratar, alianz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14D64-759F-440C-A722-F305AA3B46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dena de suministr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yder Trucks, maneja la cadena de Saturn Division, General Mo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ederal Express maneja la distribución de National Semiconductor y Laura Ashle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PS maneja distribución de Amaz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ter and Gamble maneja productos en estantes de Wal Mart (JIT I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Wal Mart: Logística como ventaja estratégic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75CD-DCC3-4952-B05A-7918B43A73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eingenieria de Negocios y Proce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pto de cambio sistémico en procesos. Revisar integralmente procedimientos, cambio más bien radic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En IBM, un crédito para nuevos clientes se reduce de 1-2 semanas a 4 horas, reemplazando varios procesos y personal por uno so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foques de reingenier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grar varias tareas en unos. Simplificar número de pas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r más independencia a operadores en decisiones (no preguntar de má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uir orden y lógica natural del proce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r flexibilidad al proce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be verse con cuidado, analizar riesgos, costos, benefi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E275-1BC2-483A-9C02-8D03287C4E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artesanal de comienzos de sig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en línea (Ford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ser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o flex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digma hasta 197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B292-15C8-4079-A01C-7C198BA8EF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volución Japones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 que no aporta valor agregado es desperdic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iezas fall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exibilidad: ajuste rápido a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 bicicletas en Jap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 Aserrad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: cumplir con las expectativas de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an Manufacturing, Total Quality y Just in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F3FA3-226E-4C76-9C96-80A4AA591C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CC84-39CF-422E-BBEF-A45358E398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en la 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 en la respues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muchos casos uso de Sistemas Computacionales y 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3C964-FD8F-4D30-88AB-6F1DE0001C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eva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cada vez un componente más importante de la econom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do negocio tiene componentes de SERVICIO  y componentes MANUFACTURERAS (pocas excepcion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ONTINUO DE LAS OPER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05120" y="5029200"/>
            <a:ext cx="6618600" cy="1069200"/>
            <a:chOff x="1905120" y="5029200"/>
            <a:chExt cx="6618600" cy="1069200"/>
          </a:xfrm>
        </p:grpSpPr>
        <p:sp>
          <p:nvSpPr>
            <p:cNvPr id="146" name=""/>
            <p:cNvSpPr/>
            <p:nvPr/>
          </p:nvSpPr>
          <p:spPr>
            <a:xfrm>
              <a:off x="1905120" y="502920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Manufactura P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5800" y="5029200"/>
              <a:ext cx="23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ervicios Pu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21240" y="5638680"/>
              <a:ext cx="30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Operaciones Mix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7400" y="5562720"/>
              <a:ext cx="6324120" cy="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9378-E697-4C43-86E8-74EF38CA2A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liente es parte integral del proceso de negocios (Una radio se puede fabricar sin el cliente, en cambio un corte de pelo no se puede realizar sin és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intang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se pueden almacen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cupan una dimensión temporal: Se producen en el mismo momento en que se entregan a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elen ser más intensivos en mano de o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19F54-EDEB-4D76-BAC4-6675BE5582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mensión y momento de inversión en plantas, decisión sobre tecnología y proceso, estrategia de op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ificación agregada (anual), decisiones de contratación de personal y planta de trabajo, uso de canales de distribución, diseño de flota de transporte, metas de calidad de servicio,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9D4AB-E579-43B7-BD07-AD41DDE809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: compras, producción, asignación de personal, manejo de inventario, transporte, control de c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8D21-5ED2-4418-8F20-3DE52D8A1A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he gap, con sede en San Francis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cisiones estratég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7520" indent="-357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calización y tamaño de centros de distribu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17520" indent="-357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tratos de largo plazo con proveed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17520" indent="-357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 red de suministro (que se outsource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Decisiones táct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íneas de ropa para próxima estación, contratación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Decisiones oper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rdenes diarias de reposición de cada artículo (se demora un día desde bodega, si hay disponibilida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D912B-BEE0-4E7C-AB9D-48097E9114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228EC-68B4-45E2-9E22-817511FDF12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AF96-6FEC-4122-BCDA-57583ED995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71000"/>
            <a:ext cx="818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es de Decisiones, Marco Deci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cisiones Estrategic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ablecer políticas de administración y desarrollar recursos necesarios para satisfacer requerimientos consistentes con metas específ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metas, recursos necesarios, políticas básico para éxi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92A3E-9AA1-4594-B591-72CB239406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171000"/>
            <a:ext cx="818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es de Decisiones, Marco Decisió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868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 I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VS. Tecn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rientación a Consultor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s pequeñ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Intel-Microso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pec-Celulosa Arau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3. Empresas Fores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gración vert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sión en otros paí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4. Linotip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5. Kaiser Alumin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2E97-5710-4904-B9F5-BA9457ED8C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04" name="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3505320"/>
              <a:ext cx="1371600" cy="7617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3D3C-1EDC-43DA-8E2C-8471692835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171000"/>
            <a:ext cx="818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es de Decisiones, Marco Deci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 B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7. Bart-Met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8. Cadenas Farma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9. Cadenas Supermercados, Almace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. Universidades Priv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1. Concesiones de Cami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2. Lomit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3. Textiles Frente a Importa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48EC-239B-4914-A95B-C2C2CA9D11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584F-B549-4F55-A367-DA96E3EB08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6FDCA-70D7-4958-BAD1-15F6472C77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176" name="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127A-D525-42F1-9A32-FBF1EB915D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 de la relación entre los distintos niveles: Fábrica de Zap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a acce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ción anu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se hace mañana.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necesario que exista consistencia ent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4A0F1-FFF2-4858-A59B-BE3BAAA9C34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Industria de Electrodomésticos (Manufactur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mercados queremos “atacar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tener ideas de lo que el mercado necesita y su potencial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 implementar la forma de fabric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dir si se necesitarán nuevas instalaciones, de qué características y en qué lug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6C2CA-1D44-49E5-8197-13A0E13BEB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producción, hacer planes sobre requerimientos para los próximos doce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mana a semana programar todos los procesos para cumplir con los pla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 a día “apagar los incendios” que se produzc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legar los pedid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los requerimientos de servicios en garantía y de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BBD53-6FA6-4093-800B-43F6BA69E20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Industria Comida Rápida         (Servici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el mercado que se quiere ata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tipo de comidas ofrecer y cuál será el “tamaño” d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los distintos menú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cómo se preparará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as instalaciones: cuántos restaurantes tendremos y dón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C482-7A90-4E5F-AC79-C0086A4B662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os equipos y tecnología que necesitare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funcionamiento, hacer planes sobre los requerimientos para los próximos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a día, coordinar todo, controlarlo todo y cumplir con la atención adecuada a nuestr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ener abastecidos a los diversos locales desde nuestras bodegas cent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reclamos y sugere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63CBF-F306-45A2-BF7C-34B9FAEEE8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que tener en cuenta que existen decisiones que son comunes para manufacturas y servic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ar mercados y su tamaño: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productos y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instalaciones, equipos, tecnología y financi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r” para los próximos meses o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olver los problemas de “logístic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C6D9-68D2-463B-8FFC-B7540A3250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Temas del Cur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manda: Necesario para apoyar decisiones de largo, mediano y corto plaz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rgo Plazo, estratégico-invertir en pla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capacidad según ventas a 10 a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ano Plazo;táctico: contratación de personal. Ventas en el 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to Plazo : Que productos para la próxima sema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FEBB7-2C17-49FC-B188-9CCFD84F81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r la calidad de los producto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adecuadamente  a los clientes, en la venta y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6E44B-252A-4B7A-A42C-FB51E4596B7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2CCCD-27E7-4817-B6B5-1EF896D0A60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3769-D2CF-480B-9A82-4D4BA2106F0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tir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$100.0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B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8% con probabilidad 0.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 con probabilidad 0.5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% con probabilidad 0.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maximizar el retorno esperado, elegir B (10,2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quiere minimizar el riesgo, elegir 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E7B7E-B1BF-4792-A173-960E4A2D968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o estaría dispuesto a pagar por información adicional (IPC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ólo vale si se nos dice 8%, me cambio de B a A con una ganancia de $2.000 con probabilidad 0.2, es decir con un valor de $400 (2.000*0.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formación sólo vale en la medida que mejo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D3DF-470A-456A-B66D-B4EE9C04C1E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iseño de produc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ué vamos a vender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ienes:PC, auto,blue jea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rvicio: Seguro de vida, transporte, restaur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o entendemos para que productos hay deman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ómo diseñamos producto rentable,factib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3340B-F06C-4622-9B94-ABEE6847A9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iseño de 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ómo lo vamos a fabrica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ué tipo de proceso de fabricació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sivo, standarizad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pecífico por client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an automatizad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produ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proce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4ED1A-1D20-4887-8AB8-9787774BA3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ómo se instala la distribución interna del loc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fic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áb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ermerc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c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27F6-CC52-4739-A292-A2014AF6AB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conomías de escala (ahorros por volúm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conomías de rango (economías por mezcla de productos que comparten infraestructura, oper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pansión de capacidad por demanda crec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1287A-F471-4C30-B44B-D882D9CEE2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7417080" cy="46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F3B8-5702-4D5B-A282-4BF49E5C5F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GarB</cp:lastModifiedBy>
  <cp:lastPrinted>2001-04-12T20:51:56Z</cp:lastPrinted>
  <dcterms:modified xsi:type="dcterms:W3CDTF">2004-03-29T01:59:25Z</dcterms:modified>
  <cp:revision>205</cp:revision>
  <dc:subject/>
  <dc:title>Comercio Electrónico</dc:title>
</cp:coreProperties>
</file>