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3EBC-A995-4110-AF38-CD40DC8DF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AADD-A5FF-4CAA-BF2D-D4E09B583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7FBB-896E-4674-9330-00A8C1AEB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8E99-B30E-452F-8DDC-B348F3B9B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E0E08-0A52-408B-B95D-FEA87DB1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BFAC2-2C52-443D-A6FD-B2F33E5B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648CC-F493-43F0-937A-41AA855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1864C-889E-43F7-BC9B-8EE04785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7D5A4-F5E1-4D16-939E-520C0F2D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0F9BC-CF77-412C-BF2A-56446D79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13FED-63C4-461E-8528-159BCC7A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B6C3-2641-4865-9FD3-31CE1C6A2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B7DAE-A5D1-4B50-8F86-A05051C6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3AE7B-3868-4019-BA73-FF2A5F2D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7593C-D65A-4A5F-B1AD-F10F8F54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C5ED8-28C3-480C-9077-6E7C4C5D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E52CC-6D87-4FC3-AA33-1FDCAC86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F7A6-CD91-422D-A1B0-0C7FCDD29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5118-5BB5-44F9-B564-CB7DB15C2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E991-CD4F-46C9-826C-DCD02CA80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03EB-C3D3-46EC-A0D5-329F1AB0B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BF90-3D8E-447B-9B71-B8315AC00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B3FB-2061-4F05-B590-64EF98287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C1AAE-D700-4F8D-90D4-8C511215D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7B68-01E7-4E20-9A51-9FA8DE6DAF2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7398-23B1-4EF8-802B-1A1AC6E35F3E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 importante  en costos en muchos bienes y servi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rre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label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ábrica de ceme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ederal Exp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rgencias Méd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D1FC-62AC-42C2-884E-B089ED3DE1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vent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 central en producción de bie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tocks de Materia Pri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intermed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ario para proteger por incertidumbre 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(productos fina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entrega (materia prima, componen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oducción (productos intermedi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A555-30AB-4D36-8C99-58916373CD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stema que calcula cuando se va a necesitar cada materia prima, productos intermedios y producto fi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gura que todos esten a tiem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5F86-7AAE-4BF1-9701-19C3E12094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cepto de producción magra, efic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e cada item este sólo cuando se requiere, no de bod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ta de eliminar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iere manufactura flexible para hacer lotes pequeñ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C337-B3AB-4BB8-A614-8940D4DB0E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laneación Agreg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o nos organizamos para el próximo año, tempora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sonal requer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s de p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peraci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levar a cabo las tareas del día a dí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br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1944-3132-42DC-A09D-3F34BE70E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dena de suministr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gística de manejo del desarrollo del producto desde materia prima a producto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rdinar todas los act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jorar efici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ar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legar rápido al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ompact perdió entre $500 y $1000 millones de dólares en 1994 por no llegar a tiempo al mercado con PC’s y laptops de alt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gística se puede subcontratar, alianz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761D-F2F4-423C-93C1-1310DB5B7B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dena de suministr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yder Trucks, maneja la cadena de Saturn Division, General Mo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ederal Express maneja la distribución de National Semiconductor y Laura Ashle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PS maneja distribución de Amaz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ter and Gamble maneja productos en estantes de Wal Mart (JIT I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Wal Mart: Logística como ventaja estratég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B173-BCB0-4D9C-A413-666CD4727D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ingenieria de Negocios y Proce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pto de cambio sistémico en procesos. Revisar integralmente procedimientos, cambio más bien radic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En IBM, un crédito para nuevos clientes se reduce de 1-2 semanas a 4 horas, reemplazando varios procesos y personal por uno so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foques de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grar varias tareas en unos. Simplificar número de pa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r más independencia a operadores en decisiones (no preguntar de má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ir orden y lógica natural del proce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r flexibilidad al proce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verse con cuidado, analizar riesgos, costos, benefi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CF34-3475-40E2-B1FE-E7BE15A4BC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artesanal de comienzos de sig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en línea (For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ser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hasta 197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9722-6DB0-4A0E-82EF-B9C8BE5384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E8B8-4902-4339-898E-4B59F5D2E5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8FB1-5994-4502-88F3-B1E4C4C5D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en la 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 en la respue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uchos casos uso de Sistemas Computacionales y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FD75-0692-4058-AD7C-E9E021E0E4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146" name="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8866-5F96-473D-AED2-B5612E159A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F0FF-47BA-456C-AEB1-EBC5E91991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mensión y momento de inversión en plantas, decisión sobre tecnología y proceso, estrategia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ificación agregada (anual), decisiones de contratación de personal y planta de trabajo, uso de canales de distribución, diseño de flota de transporte, metas de calidad de servicio,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0CD0-A719-45F0-83F5-43F77FDD18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: compras, producción, asignación de personal, manejo de inventario, transporte, control de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49F5-30D0-4A8F-B10B-B7D6B4A3BE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he gap, con sede en San Francis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cisiones estratég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calización y tamaño de centros de distribu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ratos de largo plazo con provee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 red de suministro (que se outsource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Decisiones táct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de ropa para próxima estación, contratación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Decisiones oper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rdenes diarias de reposición de cada artículo (se demora un día desde bodega, si hay disponibilida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E824-5A19-4975-8FAA-4F7426BF65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037D-AB90-4AE8-9601-9C3FB37F8C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0BD1-C1A6-4824-B26D-621C8C0730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71000"/>
            <a:ext cx="81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es de Decisiones, Marco Deci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cisiones Estrategic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ablecer políticas de administración y desarrollar recursos necesarios para satisfacer requerimientos consistentes con metas específ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metas, recursos necesarios, políticas básico para éxi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21A1-B7FE-4480-981A-A3E9354D5F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171000"/>
            <a:ext cx="81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es de Decisiones, Marco Decisió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 I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VS. 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rientación a Consulto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s pequeñ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Intel-Microso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pec-Celulosa Arau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3. Empresas Fores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vert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ón en otros paí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4. Linotip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5. Kaiser Alumin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0430-7032-4134-B149-B670CA51B4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CDAA-4DE7-43C7-8C75-D0BA3F913F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171000"/>
            <a:ext cx="81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es de Decisiones, Marco Deci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 B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7. Bart-Met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8. Cadenas Farma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9. Cadenas Supermercados, Almace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. Universidades Priv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. Concesiones de Cami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2. Lomit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3. Textiles Frente a Import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E739-E5B8-4835-A272-B3D1F8A022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E589-AC64-4A11-B8E5-47A2260025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C80D-D64B-4A18-8D81-394250243A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76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4074-6A11-4BDD-8BDA-A6BF4FA1C1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 de la relación entre los distintos niveles: Fábrica de Zap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a acce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an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se hace mañana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ecesario que exista consistencia ent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5E92-BC74-457F-B49D-A3B3491065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C697-A75F-446F-9AD4-D827A3F479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7C68-B64E-427B-9CF8-FB53278598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Comida Rápida        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DBC9-7817-4517-8F58-4512D50F73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55DB-D2C3-4AE4-AF76-34A9852FE4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tener en cuenta que 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6FE6-064A-4FA1-B4AA-E008154366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Temas del Cur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manda: Necesario para apoyar decisiones de largo, mediano y corto plaz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rgo Plazo, estratégico-invertir en pla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capacidad según ventas a 10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ano Plazo;táctico: contratación de personal. Ventas en el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to Plazo : Que productos para la próxima sema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0BE3-E872-4D81-8E0C-EE7AEDB1D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8339-D958-4FF8-B48D-61BA70CBD9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CD47-5171-4507-BB8C-A5FB2F5E01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1875-C835-4F50-8FC2-4FAD8B231F9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47E1-8C58-485D-9057-CB925D7B934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E649-E025-4793-9D41-107F5D90DC7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seño de produc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é vamos a vende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ienes:PC, auto,blue jea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vicio: Seguro de vida, transporte, restaur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o entendemos para que productos hay deman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o diseñamos producto rentable,factib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D3A8-5D3E-4B61-A93C-5194249A68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seño de 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o lo vamos a fabrica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é tipo de proceso de fabricació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sivo, standariza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pecífico por clien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n automatiza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pro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830B-2759-4318-B183-CB03F0AED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o se instala la distribución interna del lo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fic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áb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ermer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F855-70AA-4851-A821-DC1C1154B6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conomías de escala (ahorros por volúm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conomías de rango (economías por mezcla de productos que comparten infraestructura, oper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pansión de capacidad por demanda crec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1FA6-A596-4F8B-8A7E-E2AEA5E55A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417080" cy="46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C953-A1E2-40C8-81C0-DAB2566A8A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GarB</cp:lastModifiedBy>
  <cp:lastPrinted>2001-04-12T20:51:56Z</cp:lastPrinted>
  <dcterms:modified xsi:type="dcterms:W3CDTF">2004-03-29T01:59:25Z</dcterms:modified>
  <cp:revision>205</cp:revision>
  <dc:subject/>
  <dc:title>Comercio Electrónico</dc:title>
</cp:coreProperties>
</file>