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DFCE-FBCF-4AAE-AA58-93F171CDC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A864-3F26-42A8-A767-EC7AD82AB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C3B7-9559-4223-BF07-E309CA297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CF34-5358-41F1-AA70-914C4D9FD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6CF66-97B4-4A86-A13D-39C2A30F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9098E-236F-40DE-8967-9739DFA3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5917A-8875-4A8F-AFD5-DE1513B5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45FEE-9CA0-4D30-9594-B00111D9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A7475-6E2F-4B48-A802-CF6AEC10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CD568-494D-474D-8F43-217EB492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8EED0-464F-4311-9F1E-626A4BC1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80B7-895B-4707-AEF1-DCAF07C40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B6DB1-B5FB-4D97-A864-584F0C07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145D6-221E-468E-9ED9-CFA532E8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C0D4C-5ED3-4C4E-95F3-E4B2DD7B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1D5B2-00CE-4C6C-8FC1-79F1DCED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7FCE5-B42C-47FB-93C5-6057CAA0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279B-FFE1-4282-8465-7B3DBFA0E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387C-EA90-4D31-BB1D-1088C7D83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C2E8-654D-494A-A197-F0CDD9994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84EA-D4AD-46CE-B339-E6272FDE8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0318-5622-471B-A40B-BFCCF9495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115E-7FF9-4312-AC87-9DC1DDBCC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543D-ABEC-4DD4-B8B1-6DFB0254C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3AA1-F8C0-4F41-ADBB-40DDADDE92E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1BA5-258D-4FEC-8C5D-88CAB6A09B9A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84EC-4FB2-430F-82BF-608A8962F8A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FC58-D764-4372-BA93-893AB7A7EFF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6830-9A84-4333-BE32-8C53A27F33A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o Estudio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4576-94C4-4A35-99EC-1FAF019028D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a los Ciclos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B6EC-7B83-4FA2-B7FF-C1C1F4F1CF3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2DA6-652F-489E-BDB9-87E97F2B2A7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A665-189C-4E7C-ABF7-AA303D988BD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D25E-154E-4C14-BDB9-D5EB0D6278A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730C-3B45-4211-AAB4-BFBE6AC33D7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A348-4680-484A-8FB1-66E6B1C22D6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52DE-0554-4A6F-B017-E890D20F1E4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c, fue líder en la venta de PCs durante los 80 al pronosticar efectivamente el crecimiento de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d acertó al estimar la demanda por un auto más sencillo y bara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acaso al no pronosticar la necesidad de diversificar (Slogan de G.M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FC32-CD45-4295-86B0-5227ACFE46A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F7BB-2445-4D66-8C19-DFC2A8CB841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G Times"/>
              </a:rPr>
              <a:t>Períodos más largos, mayor estabilidad pero menor velocidad de respuesta a los cambi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981080" y="3000240"/>
                <a:ext cx="3886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4C93-3D1C-48EF-91D1-A29E6772211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ser complejo el cálculo adecuado de los p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BFBD-5E5C-477E-AE45-EB4E1FCE3E6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6976-5919-4237-944E-E362FE60CC0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93AE-3A28-409E-9A97-5EBC2C92D8C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0B69-830C-4696-93C4-2A4BEACFEA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0F98-A6F8-45C5-A26D-2D5B8789D3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204920" y="2494080"/>
                <a:ext cx="7558200" cy="34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BE16-4DB4-471E-89EA-3C67BCEDE36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682C-A684-492F-A6E2-923E1898DBD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iación media absoluta suavizada (se suaviza MA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forma análoga a como se suaviza el promedi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cular para distintos valores de alfa entre 0 y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6D13-CBCE-450E-8A60-BED4BCF955F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98680" y="4416480"/>
            <a:ext cx="82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Se llama muestreo censurado al proceso de conteo en que las deman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yores al stock disponible no se registran. Existen métodos estadísticos que trat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extrapolar los datos que se tiene para estimar la demanda más probable. C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éstos se mejora significativamente el pronóst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780F-FB16-4D15-818E-098AE1ED3C6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5F45-E457-4ACC-9C69-CDC8E59AD18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 Model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1373040" y="470052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ECFA-C2B3-4554-962A-80776A10588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A8B0-34B5-48A4-BFBE-B6CA37C8EC5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eficiente de determinación: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1C52-040A-43DF-93FC-836AF53F7AE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0AFB-F638-43D2-BCA5-CC771148F33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6A1E-641E-489B-965B-3CE0A40C368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9D99-4695-4100-B40F-C8D486A9CE0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23F1-D8D4-4DFD-AA0F-0D665C01738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41EC-3527-43C0-AE58-C1F677CDB6A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x-Jenkins es una serie de tiempo autocorrelacionada (por ejemplo, si demanda sube en t, es probable que siga subiendo en ( t+1), que exige mas de 60 datos (60 mes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7166-BDEF-4B36-87EA-5564C1A64CD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E3EB-7FEF-4A48-AAB3-CDF82C62912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B6A7-B3CB-40F9-A863-B67CE199229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acterísticas de Pronós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fallar. Debe tenerse flexibilidad de re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no es sólo en número, mas bien un rango o tener una varianza de la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agregados son más exactos. Si demandas son independientes, la varianza del promedio es menor que la varianza de cada i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jor pronósticar demanda  por una línea de productos por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mayor horizonte, menor exactitud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considerar información adicional. Ejemplo: Se acaba de instalar supermercado al lado de mi almacé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BF2F-1CE7-43AE-BE12-7FE0C1DFBC0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 y Model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4746-C6F4-43D8-A224-DCA00B62B96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094C-2B35-42BB-8E5A-392D6BB3D95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Consuelo</cp:lastModifiedBy>
  <cp:lastPrinted>2002-03-21T07:38:08Z</cp:lastPrinted>
  <dcterms:modified xsi:type="dcterms:W3CDTF">2011-03-18T14:09:49Z</dcterms:modified>
  <cp:revision>185</cp:revision>
  <dc:subject/>
  <dc:title>Comercio Electrónico</dc:title>
</cp:coreProperties>
</file>