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1DF5B-429C-4651-9B4C-6A60B91306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C23BD-E440-453C-8479-E7006213D7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D3DAD-C0BA-4F6D-A005-D4BE9F8944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A5986-1FDD-4A7B-82D1-C7613E7E70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83839-278C-44D9-B49E-A04E88D1A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9C346-E682-4905-9528-ED7E5EB3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5E458-6851-412B-90DD-2F93D2AD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53CBD-4B61-432E-852E-49CC05B3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BC182-FBC0-4257-A397-1FEFC78A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71255-1B22-4E2D-BBB2-27B07080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1BC80-DD2C-4CCD-9601-2FCA0F53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379D0-B885-4820-BA2A-A6D5BAAA2A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99FE6-4CDA-4500-A733-C42C721F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C06F4E-E1A4-471B-BCFC-4AD4C67B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7E4765-6200-418A-9313-5B462E40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F400A-F529-4E23-A9AC-EBF8B75DB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827B96-04D7-4C3E-B0D5-A6EA753D5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1377E-467D-4F53-97DE-15E7E95212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79B18-33E0-44DC-8498-9508F8F393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0C68B-74C1-4C8A-8E5D-AB016420A7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61AA3-1078-4D22-9452-5CE5197CF9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3A46A-79B0-4E97-B63F-EF06EB0EE3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A16F3-1A35-44C0-8351-CF3B93C1A2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59008-C0DE-4C8E-A303-5CD1774292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88A6-FAD4-41A0-BFE3-1364B81D741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9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1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2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0198-8474-452A-8EEE-9DA9C40C8210}" type="slidenum">
              <a:rPr b="0" lang="es-ES_tradnl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371600" y="342900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2:  Pronósticos de Dem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5BC4-6D93-46CA-BEC6-BC2586B5611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Método Delph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Grupo de expertos que se reúne durante varias sesiones de reconsideraciones en busca de consensos respecto a un grupo de preguntas adecuado a la situación que se enfr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usa en la introducción de nuevos productos y cambios tecnológ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regular en exactitud y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 un costo mediano o al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F7E9-C9C5-4F83-8473-E2942E669FD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 Empresa que requiere pronóstico de ventas a 5 años y que posee una baja capacidad, lo que hace difícil usar ventas como información de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ticipación de 23 administra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tos: PGB, ventas del sector y ventas de la empresa por 5 añ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rias preguntas para obligar a pensar en rel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ultado: Mucha dispersión al comienzo, pero se convergió a un buen pronóstic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203B-4781-4805-88AA-893B182BA32B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Encuestas o Estudios de Merca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n básicamente a paneles, cuestionarios y pruebas de mer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ípicamente se usan para probar nuevos productos (yoghurt) o en test políticos (encuest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n buenos a cort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n un alto cos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rmiten identificar puntos de camb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A345-AF6A-4E1D-85EA-3A761C515FD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Analogía a los Ciclos de Vi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siste en identificar en que fase de su vida se encuentra un producto, para esto se analizan las curvas de crecimiento de productos simila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t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reci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du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atu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456D-0DD2-4703-B766-93251FC821D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n de larg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n una exactitud regul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capta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bajo a med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Jugue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F5B0-7E3E-440C-8EF7-46FC0506041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Juicio Bien Informad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basa sólo en la experiencia y en la intui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nen un gran u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see una exactitud baj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ba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gular en la identificación de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dificios de departamen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D829-AB88-49CC-A4BF-9EFAD73CCE4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os métodos utilizan datos históricos y los proyectan a futur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on de corto plaz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necesario contar con datos intern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captan patrones de camb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149D-5EF6-455C-8D22-2D628DB4E8A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2866680" y="5562720"/>
            <a:ext cx="37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Serie de Tiempo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7" descr=""/>
          <p:cNvPicPr/>
          <p:nvPr/>
        </p:nvPicPr>
        <p:blipFill>
          <a:blip r:embed="rId1"/>
          <a:stretch/>
        </p:blipFill>
        <p:spPr>
          <a:xfrm>
            <a:off x="1893960" y="1752480"/>
            <a:ext cx="5268960" cy="38242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8"/>
          <p:cNvSpPr/>
          <p:nvPr/>
        </p:nvSpPr>
        <p:spPr>
          <a:xfrm>
            <a:off x="5023440" y="3740040"/>
            <a:ext cx="21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erie de tiempo origin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4245120" y="5078520"/>
            <a:ext cx="89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11"/>
          <p:cNvSpPr/>
          <p:nvPr/>
        </p:nvSpPr>
        <p:spPr>
          <a:xfrm rot="16183800">
            <a:off x="1334160" y="3322080"/>
            <a:ext cx="11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eman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84DC-A3E7-450C-841E-C4D10C50756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Picture 9" descr=""/>
          <p:cNvPicPr/>
          <p:nvPr/>
        </p:nvPicPr>
        <p:blipFill>
          <a:blip r:embed="rId1"/>
          <a:stretch/>
        </p:blipFill>
        <p:spPr>
          <a:xfrm>
            <a:off x="2124000" y="1600200"/>
            <a:ext cx="4810320" cy="3774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2291400" y="5562720"/>
            <a:ext cx="47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Serie de Tiempo Descompues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4384800" y="5181480"/>
            <a:ext cx="89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7"/>
          <p:cNvSpPr/>
          <p:nvPr/>
        </p:nvSpPr>
        <p:spPr>
          <a:xfrm rot="16183800">
            <a:off x="1486440" y="3169800"/>
            <a:ext cx="11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eman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5930640" y="19051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icl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5891040" y="2743200"/>
            <a:ext cx="164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Patr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 estacionalid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5916600" y="342900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Tendenc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5928840" y="4038480"/>
            <a:ext cx="5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Nive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5911200" y="457200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Aleatori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8500-AF65-4F4E-9FFD-A115524FADA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mponente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uido: parte aleatoria (si es muy alto es difícil hacer pronóstico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aciona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nd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(bas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Zapa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el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tradas al estad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ED51-A661-4607-B015-580D49FB716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Objetiv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rmiten estudiar la demanda futura, acción importante en el diseño de un produ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ac, fue líder en la venta de PCs durante los 80 al pronosticar efectivamente el crecimiento de l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ord acertó al estimar la demanda por un auto más sencillo y bara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racaso al no pronosticar la necesidad de diversificar (Slogan de G.M.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4FDB-94A5-4052-9FD1-A5AA581D7E2D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observada en el período 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nóstico para el período t+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medio calculado para el período 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=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-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rror de pronóst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ípicamente se conocen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-k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.....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y se busca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t+2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...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BD67-BE3E-4CE1-90A8-80B902ACBF8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- Promedios Móvi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sugiere que la serie de tiempo tiene componentes de valor promed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toma 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ahoma"/>
              </a:rPr>
              <a:t>t+1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=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G Times"/>
              </a:rPr>
              <a:t>Períodos más largos, mayor estabilidad pero menor velocidad de respuesta a los cambio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hay variabilidad en la demanda se pueden usar promedios móviles ponderados, asignando mayor ponderación a los últimos perío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4"/>
              <p:cNvSpPr txBox="1"/>
              <p:nvPr/>
            </p:nvSpPr>
            <p:spPr>
              <a:xfrm>
                <a:off x="1981080" y="3000240"/>
                <a:ext cx="388620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6956-6C36-471C-B7B7-48733D8705EF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Promedios Móviles Ponderad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ede ser complejo el cálculo adecuado de los pes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4"/>
              <p:cNvSpPr txBox="1"/>
              <p:nvPr/>
            </p:nvSpPr>
            <p:spPr>
              <a:xfrm>
                <a:off x="2057400" y="2479680"/>
                <a:ext cx="5638680" cy="15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aso anterior,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23AC-C105-47B0-A7B7-E5B700E4B46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Alisamiento Exponencial Simp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-1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fleja la histor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cree en la última demanda              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cree en la historia                          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5"/>
              <p:cNvSpPr txBox="1"/>
              <p:nvPr/>
            </p:nvSpPr>
            <p:spPr>
              <a:xfrm>
                <a:off x="2057400" y="2514600"/>
                <a:ext cx="61722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0</m:t>
                        </m:r>
                        <m:r>
                          <m:t xml:space="preserve">&lt;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6"/>
              <p:cNvSpPr txBox="1"/>
              <p:nvPr/>
            </p:nvSpPr>
            <p:spPr>
              <a:xfrm>
                <a:off x="6578640" y="4572000"/>
                <a:ext cx="10666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7"/>
              <p:cNvSpPr txBox="1"/>
              <p:nvPr/>
            </p:nvSpPr>
            <p:spPr>
              <a:xfrm>
                <a:off x="6583320" y="5029200"/>
                <a:ext cx="11336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3C85-73FB-4BBB-9CB4-376BD97EAB6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efecto de los primeros períodos se va atenuando en forma exponenci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4"/>
              <p:cNvSpPr txBox="1"/>
              <p:nvPr/>
            </p:nvSpPr>
            <p:spPr>
              <a:xfrm>
                <a:off x="1523880" y="2895480"/>
                <a:ext cx="6934320" cy="215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1C44-4099-44BD-9BDB-4559788865F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orma de Us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requiere de las demandas históricas (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 y de un promedio inicial (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va calibrando     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ábrica de Zapa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hilect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4343400" y="4305240"/>
                <a:ext cx="29844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5"/>
              <p:cNvSpPr txBox="1"/>
              <p:nvPr/>
            </p:nvSpPr>
            <p:spPr>
              <a:xfrm>
                <a:off x="2374920" y="2997360"/>
                <a:ext cx="3976560" cy="102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9C62-A518-4498-B1D2-A7DE7D10426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Alisamiento Exponencial con Tendenc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onde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s la tend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4"/>
              <p:cNvSpPr txBox="1"/>
              <p:nvPr/>
            </p:nvSpPr>
            <p:spPr>
              <a:xfrm>
                <a:off x="1515960" y="2644920"/>
                <a:ext cx="709452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0</m:t>
                        </m:r>
                        <m:r>
                          <m:t xml:space="preserve">&lt;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0</m:t>
                        </m:r>
                        <m:r>
                          <m:t xml:space="preserve">&lt;</m:t>
                        </m:r>
                        <m:r>
                          <m:t xml:space="preserve">β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324F-7499-4671-9112-F132F82BCCE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Alisamiento Exponencial con Estacionalidad de Largo 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onde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s el factor de estaciona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4"/>
              <p:cNvSpPr txBox="1"/>
              <p:nvPr/>
            </p:nvSpPr>
            <p:spPr>
              <a:xfrm>
                <a:off x="1204920" y="2494080"/>
                <a:ext cx="7558200" cy="34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0</m:t>
                        </m:r>
                        <m:r>
                          <m:t xml:space="preserve">&lt;</m:t>
                        </m:r>
                        <m:r>
                          <m:t xml:space="preserve">α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R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0</m:t>
                        </m:r>
                        <m:r>
                          <m:t xml:space="preserve">&lt;</m:t>
                        </m:r>
                        <m:r>
                          <m:t xml:space="preserve">γ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19FA-5DD9-4910-B9E3-7A57446A764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rrores de Pronóstic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indicadores de error sirven para ver en qué momento el pronóstico falla o los datos no sirv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dicador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viación media absolu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4"/>
              <p:cNvSpPr txBox="1"/>
              <p:nvPr/>
            </p:nvSpPr>
            <p:spPr>
              <a:xfrm>
                <a:off x="1981080" y="4724280"/>
                <a:ext cx="24386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D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t</m:t>
                            </m:r>
                          </m:sub>
                          <m:sup/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44D4-98B8-4FAE-A76F-D5C4A313794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viación media absoluta suavizada (se suaviza MA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forma análoga a como se suaviza el promedio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cular para distintos valores de alfa entre 0 y 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5"/>
              <p:cNvSpPr txBox="1"/>
              <p:nvPr/>
            </p:nvSpPr>
            <p:spPr>
              <a:xfrm>
                <a:off x="2379600" y="2057400"/>
                <a:ext cx="55832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D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923A-AE5D-460B-AE10-7AC7342346CA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tener en cuen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onóstico - Plane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emanda - Vent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598680" y="4416480"/>
            <a:ext cx="8215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Nota: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Se llama muestreo censurado al proceso de conteo en que las demanda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mayores al stock disponible no se registran. Existen métodos estadísticos que trata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de extrapolar los datos que se tiene para estimar la demanda más probable. Con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éstos se mejora significativamente el pronóstic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0DA7-A23F-4829-B3B0-76A5F95C611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ies de Tiem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ñal de Rastre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onde el numerador corresponde al sesgo y el denominador al último MAD observ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T                (confiabilidad menor al 97%), entonces debe revisarse el modelo ya que esta sesg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1905120" y="2362320"/>
                <a:ext cx="62481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uma acumulada de la desviación del pronóstic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A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5"/>
              <p:cNvSpPr txBox="1"/>
              <p:nvPr/>
            </p:nvSpPr>
            <p:spPr>
              <a:xfrm>
                <a:off x="2946240" y="4114800"/>
                <a:ext cx="9907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107C-6A1E-4136-9921-83D0C33DB5A1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Regresión: Modelo line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ariable independ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ariable depend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idea es ajustar una curva a los puntos con que se cu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4"/>
              <p:cNvSpPr txBox="1"/>
              <p:nvPr/>
            </p:nvSpPr>
            <p:spPr>
              <a:xfrm>
                <a:off x="1981080" y="2209680"/>
                <a:ext cx="167652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5"/>
              <p:cNvSpPr txBox="1"/>
              <p:nvPr/>
            </p:nvSpPr>
            <p:spPr>
              <a:xfrm>
                <a:off x="1905120" y="3048120"/>
                <a:ext cx="3697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6"/>
              <p:cNvSpPr txBox="1"/>
              <p:nvPr/>
            </p:nvSpPr>
            <p:spPr>
              <a:xfrm>
                <a:off x="1373040" y="4700520"/>
                <a:ext cx="723600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303E-0769-47D6-AD86-F297734F6ED4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o resultado se obtien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4"/>
              <p:cNvSpPr txBox="1"/>
              <p:nvPr/>
            </p:nvSpPr>
            <p:spPr>
              <a:xfrm>
                <a:off x="1981080" y="2286000"/>
                <a:ext cx="4915080" cy="331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82D0-76AB-409D-BAB1-9856E894C2A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eficiente de determinación: R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ahoma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onde R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mide la proporción de la variación de 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explicada por 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alores sobre 0,95 se consideran bue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5"/>
              <p:cNvSpPr txBox="1"/>
              <p:nvPr/>
            </p:nvSpPr>
            <p:spPr>
              <a:xfrm>
                <a:off x="1676520" y="1616040"/>
                <a:ext cx="6858000" cy="234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  <m:r>
                                  <m:t xml:space="preserve">⋅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E507-773B-41C3-B625-4CF3150C7F3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y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 de periód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úmero de habit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greso per capi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etenc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 extender a formulaciones complej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4"/>
              <p:cNvSpPr txBox="1"/>
              <p:nvPr/>
            </p:nvSpPr>
            <p:spPr>
              <a:xfrm>
                <a:off x="1981080" y="4800600"/>
                <a:ext cx="20574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AC3C-00DD-466E-8EEF-17C19FBE81F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incipales 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útil cuando existen fuertes relaciones caus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so típico para horizontes de corto y median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rmite identificar bien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9572-3460-41D7-9A73-2BBBD524772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Modelos Econométric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ecuaciones de regresión interdependientes para describir un proceso complej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lejidad al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al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n de larg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enos para identificar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E611-F2C0-47BE-996A-FAC3E00EA26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cio cob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ctores de la econom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5BD8-E133-4FD4-AD4E-1655386AE0B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aus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Simul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simulación de sistemas es comple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 de implement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orizonte de corto a median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uede identificar puntos de camb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stribución en cadena, para ver demanda de distintos elemen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os de producción, para conocer la demanda por insum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nsporte urbano, para ver equilibrio vehicul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B37F-105A-4F37-B850-418A27C74F1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riterios de Ele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.- Sofisticación del usuario y del siste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o se deben dar saltos brusc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2.- Tiempo y recursos disponi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3.- Tipo de decis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rade-off entre costo y calidad del pronóstic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jemplo: Falabella vs Negocio chic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4.- Disponibilidad de da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ox-Jenkins es una serie de tiempo autocorrelacionada (por ejemplo, si demanda sube en t, es probable que siga subiendo en ( t+1), que exige mas de 60 datos (60 meses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5.- Patrón de da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es causal no se pueden usar series de tiemp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7E3A-9EC7-4688-9EB9-06580F32BFC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 importante ver el horizonte y nivel de agregación que se requiere para el pronóstico de deman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Estratégico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rg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uy agreg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Táctic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dian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s agreg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73A0-CFFA-4525-91F2-C31A12AAFE2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Operativ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rto pla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tall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 Fábrica de Zapa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ivel Estratégic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s globales a 5 añ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ivel Táctic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por línea para la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óxima tempora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ivel Operativ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por modelo y número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a la próxima seman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4F20-E12A-48EA-8505-607C2F9287EC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acterísticas de Pronósti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eden fallar. Debe tenerse flexibilidad de rea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nósticos no es sólo en número, mas bien un rango o tener una varianza de la distribu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nósticos agregados son más exactos. Si demandas son independientes, la varianza del promedio es menor que la varianza de cada it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jor pronósticar demanda  por una línea de productos por cada produ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 mayor horizonte, menor exactitud de pronóst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considerar información adicional. Ejemplo: Se acaba de instalar supermercado al lado de mi almacé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C888-EADC-49FF-BCC8-711091CDE73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de Pronóst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xisten dos tip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Cualitativos: son aquellos que dependen de ju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Cuantitativos: son aquellos que poseen un modelo subyac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s datos y patrones de datos se utilizan como indicadores confiables para predecir el futu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cluyen Series de Tiempo y Modelos Caus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9270-CB30-4551-9008-1CC48596E31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de Pronóst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s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419040" y="2590920"/>
            <a:ext cx="838224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3 Marcador de pie de página"/>
          <p:cNvSpPr/>
          <p:nvPr/>
        </p:nvSpPr>
        <p:spPr>
          <a:xfrm rot="21562800">
            <a:off x="4952520" y="62766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pítulo 2: Pronósticos de Demanda      #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4 Marcador de número de diapositiva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F042-0D54-49E8-88C4-4CFC2A3DE275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étodos Cualitativ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 Genera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osee poca inform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xiste alta incertidumb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tiene escasa capacidad de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orizonte de mediano o largo plaz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so típic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nuev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Consuelo</cp:lastModifiedBy>
  <cp:lastPrinted>2002-03-21T07:38:08Z</cp:lastPrinted>
  <dcterms:modified xsi:type="dcterms:W3CDTF">2011-03-18T14:09:49Z</dcterms:modified>
  <cp:revision>185</cp:revision>
  <dc:subject/>
  <dc:title>Comercio Electrónico</dc:title>
</cp:coreProperties>
</file>