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65A45-155A-439C-BC4F-E612492D35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135D5-E202-42C7-AA41-02C524472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A1BD2-5614-436E-B28A-94D9A032D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5A904-43F0-40BB-BA35-1AFCA75608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3C7CC-62AA-4EBD-98C6-4CB18F9C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D49C4-1B16-4B13-B2F7-594BED35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B61B8-D00D-4262-90D5-EF32A952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956B7-A118-4D86-9D4E-09209C24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363B9-F466-458C-A083-ADA639F6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07D6B-D8C9-4048-B8B9-F0DF0CD3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76DC7-C00B-4483-BD4C-3B416909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A40D9-DC9B-478F-B663-8AD1F676E9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A7858-1BA2-416B-B785-82BDD18E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0D52F-DF61-4A4A-8632-B87114C5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A7EBE-283B-439B-8FA2-68BB640E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2343D-D16F-49DE-ADA2-4846E58A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DEDC2-727B-40C6-9B38-14D3F105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40A9E-40D7-4CB4-B763-B818EFFBF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F7366-7653-46CF-903D-1EE9F3620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BC6A8-B3CC-4162-8AB3-FA1FC8C12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0DCB6-FD5A-4582-AF32-41363C5C5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FC25F-AE1A-4891-BDB3-3183273AA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2BFF5-0BA1-408F-A434-6EC23DB87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7E09B-7D38-4445-872E-5A6DA56A7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8AEF-4D17-439F-A7E5-A8E2BFA6746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C209-12D9-4B6D-A716-341AD62266A4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371600" y="342900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2:  Pronósticos 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D4FA-79BA-4B95-8FFC-E9F0ACE7823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Método Delph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rupo de expertos que se reúne durante varias sesiones de reconsideraciones en busca de consensos respecto a un grupo de preguntas adecuado a la situación que se enfr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usa en la introducción de nuevos productos y cambios tecnológ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regular en exactitud y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 un costo mediano o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24B7-C819-4A3B-99A4-E5DBE7E7720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Empresa que requiere pronóstico de ventas a 5 años y que posee una baja capacidad, lo que hace difícil usar ventas como información de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icipación de 23 administr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tos: PGB, ventas del sector y ventas de la empresa por 5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rias preguntas para obligar a pensar en rel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ultado: Mucha dispersión al comienzo, pero se convergió a un buen pronóstic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4D78-AFC5-46FA-BFCD-C53B4EFCB47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Encuestas o Estudio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n básicamente a paneles, cuestionarios y pruebas de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ípicamente se usan para probar nuevos productos (yoghurt) o en test políticos (encuest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buenos a 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 alto 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miten identificar puntos de camb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5786-7582-42FC-B435-E319E0F6CBE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Analogía a los Ciclos de Vi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iste en identificar en que fase de su vida se encuentra un producto, para esto se analizan las curvas de crecimiento de productos simila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eci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du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tu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C7C1-29B6-47C7-8E58-7DC5BFE909E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a exactitud reg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capta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bajo a med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Jugue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3BC1-CD33-495D-BD1D-9D73B2E0590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Juicio Bien Inform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asa sólo en la experiencia y en la intui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nen un gran u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 una exactitud baj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gular en la identificación de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dificios de departa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A549-B0E9-431C-A73B-325141DB131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os métodos utilizan datos históricos y los proyectan a futu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de corto plaz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necesario contar con datos intern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captan patron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0B02-F15B-4F27-B310-33F283ECD4F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866680" y="556272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Serie de Tiempo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1"/>
          <a:stretch/>
        </p:blipFill>
        <p:spPr>
          <a:xfrm>
            <a:off x="1893960" y="1752480"/>
            <a:ext cx="5268960" cy="38242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5023440" y="3740040"/>
            <a:ext cx="21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erie de tiempo origi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4245120" y="507852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1"/>
          <p:cNvSpPr/>
          <p:nvPr/>
        </p:nvSpPr>
        <p:spPr>
          <a:xfrm rot="16183800">
            <a:off x="1334160" y="332208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534D-16DB-4A57-A87C-B9B00FB6291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9" descr=""/>
          <p:cNvPicPr/>
          <p:nvPr/>
        </p:nvPicPr>
        <p:blipFill>
          <a:blip r:embed="rId1"/>
          <a:stretch/>
        </p:blipFill>
        <p:spPr>
          <a:xfrm>
            <a:off x="2124000" y="1600200"/>
            <a:ext cx="4810320" cy="3774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291400" y="5562720"/>
            <a:ext cx="47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Serie de Tiempo Descompues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384800" y="518148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7"/>
          <p:cNvSpPr/>
          <p:nvPr/>
        </p:nvSpPr>
        <p:spPr>
          <a:xfrm rot="16183800">
            <a:off x="1486440" y="316980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5930640" y="19051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ic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5891040" y="2743200"/>
            <a:ext cx="164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atr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 estaciona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5916600" y="342900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nd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5928840" y="403848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Ni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5911200" y="457200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Aleator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364E-B172-4AB9-AEDB-A192799BD36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ponent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uido: parte aleatoria (si es muy alto es difícil hacer pronóstico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cio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n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(bas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Zap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el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tradas al estad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C45D-8A27-478C-BEBF-8E705C50F45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bjetiv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rmiten estudiar la demanda futura, acción importante en el diseño de un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ac, fue líder en la venta de PCs durante los 80 al pronosticar efectivamente el crecimiento de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d acertó al estimar la demanda por un auto más sencillo y bara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racaso al no pronosticar la necesidad de diversificar (Slogan de G.M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6127-DAB2-4DBA-8607-4BA080D4F8B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observada en el períod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 para el período t+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medio calculado para el períod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=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-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rror de pronós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ípicamente se conocen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-k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.....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y se busca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..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353C-58AA-432F-83F4-56E9AA17437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Promedios Móvi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sugiere que la serie de tiempo tiene componentes de valor promed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toma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=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G Times"/>
              </a:rPr>
              <a:t>Períodos más largos, mayor estabilidad pero menor velocidad de respuesta a los cambio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hay variabilidad en la demanda se pueden usar promedios móviles ponderados, asignando mayor ponderación a los últimos perío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1981080" y="3000240"/>
                <a:ext cx="38862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0779-8C03-4B58-9D18-6B8C12B5543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romedios Móviles Pondera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ede ser complejo el cálculo adecuado de los p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2057400" y="2479680"/>
                <a:ext cx="563868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aso anterior,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DF84-73BE-4DB1-A031-CBFC3AC4158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Alisamiento Exponencial Si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fleja la histo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ree en la última demanda             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ree en la historia                          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2057400" y="2514600"/>
                <a:ext cx="61722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6578640" y="4572000"/>
                <a:ext cx="1066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>
                <a:off x="6583320" y="5029200"/>
                <a:ext cx="1133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0AD1-E914-4290-A08B-ADACDB39E76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fecto de los primeros períodos se va atenuando en forma exponenci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1523880" y="2895480"/>
                <a:ext cx="6934320" cy="21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C675-2B2B-46C3-B8BF-9E58332613F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a de Us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requiere de las demandas históricas (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y de un promedio inicial (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va calibrando     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brica de Zap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4343400" y="4305240"/>
                <a:ext cx="298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5"/>
              <p:cNvSpPr txBox="1"/>
              <p:nvPr/>
            </p:nvSpPr>
            <p:spPr>
              <a:xfrm>
                <a:off x="2374920" y="2997360"/>
                <a:ext cx="397656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2D0D-FBAF-4865-81FE-3C5F4312B9B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lisamiento Exponencial con Tendenc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la ten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1515960" y="2644920"/>
                <a:ext cx="70945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19E6-DAEF-4AF0-8D5C-61488F55FED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lisamiento Exponencial con Estacionalidad de Largo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el factor de estacio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1204920" y="2494080"/>
                <a:ext cx="7558200" cy="34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0</m:t>
                        </m:r>
                        <m:r>
                          <m:t xml:space="preserve">&lt;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68FE-3441-46F3-8955-9203C51D57F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rrores de Pronóst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indicadores de error sirven para ver en qué momento el pronóstico falla o los datos no sirv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dicador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viación media absolu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1981080" y="4724280"/>
                <a:ext cx="2438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t</m:t>
                            </m:r>
                          </m:sub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BF62-28C9-42F4-99C8-AEB4CB83360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viación media absoluta suavizada (se suaviza MA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forma análoga a como se suaviza el promedi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cular para distintos valores de alfa entre 0 y 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5"/>
              <p:cNvSpPr txBox="1"/>
              <p:nvPr/>
            </p:nvSpPr>
            <p:spPr>
              <a:xfrm>
                <a:off x="2379600" y="2057400"/>
                <a:ext cx="55832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14DE-6348-42E5-BE9C-4B36EBC1B79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onóstico - Plane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manda - Ven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98680" y="4416480"/>
            <a:ext cx="821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Nota: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Se llama muestreo censurado al proceso de conteo en que las demand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mayores al stock disponible no se registran. Existen métodos estadísticos que trat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 extrapolar los datos que se tiene para estimar la demanda más probable. C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éstos se mejora significativamente el pronóstic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15C6-B7C1-4B0A-8F8F-5FB28BB83F6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ñal de Rastre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nde el numerador corresponde al sesgo y el denominador al último MAD observ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T                (confiabilidad menor al 97%), entonces debe revisarse el modelo ya que esta ses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1905120" y="2362320"/>
                <a:ext cx="6248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ma acumulada de la desviación del pronósti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5"/>
              <p:cNvSpPr txBox="1"/>
              <p:nvPr/>
            </p:nvSpPr>
            <p:spPr>
              <a:xfrm>
                <a:off x="2946240" y="4114800"/>
                <a:ext cx="9907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8B5B-EAC3-4088-8AA2-9DDF81BB933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gresión: Modelo line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 in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 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dea es ajustar una curva a los puntos con que se cu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1981080" y="2209680"/>
                <a:ext cx="16765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1905120" y="3048120"/>
                <a:ext cx="3697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1373040" y="4700520"/>
                <a:ext cx="723600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CFB6-FBC1-49D5-9B1F-843AE80AAAB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o resultado se obtie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1981080" y="2286000"/>
                <a:ext cx="4915080" cy="331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2458-E047-4739-BB7F-5D58F605961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eficiente de determinación: R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nde R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ide la proporción de la variación de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xplicada por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es sobre 0,95 se consideran bue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5"/>
              <p:cNvSpPr txBox="1"/>
              <p:nvPr/>
            </p:nvSpPr>
            <p:spPr>
              <a:xfrm>
                <a:off x="1676520" y="1616040"/>
                <a:ext cx="6858000" cy="234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0D39-0DB9-4099-8665-05FB17CF0BE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 de periód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úmero de habi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greso per capi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et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extender a formulaciones complej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1981080" y="4800600"/>
                <a:ext cx="2057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B59E-05C1-4DD1-8BFC-E3EAC4EB4B1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incipales 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útil cuando existen fuertes relaciones caus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o típico para horizontes de corto y 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mite identificar bien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0ED0-D0A1-43FD-AAFE-17BB0029754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Modelos Econométric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ecuaciones de regresión interdependientes para describir un proceso comple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lejidad al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enos para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C95F-E745-42A1-A180-0CED2F98D7F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cio cob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ctores de la econom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EA05-E818-41FA-AE06-F7488000059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Simul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imulación de sistemas es comple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 de implement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rizonte de corto a 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uede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tribución en cadena, para ver demanda de distintos ele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os de producción, para conocer la demanda por insum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porte urbano, para ver equilibrio vehic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F85D-F9F5-4075-BEF8-BF3DE69A7DF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riterio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- Sofisticación del usuario y del sis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 se deben dar saltos brusc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- Tiempo y recursos disponi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3.- Tipo de decis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de-off entre costo y calidad del pronósti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jemplo: Falabella vs Negocio chi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4.- Disponibilidad de d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ox-Jenkins es una serie de tiempo autocorrelacionada (por ejemplo, si demanda sube en t, es probable que siga subiendo en ( t+1), que exige mas de 60 datos (60 mese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5.- Patrón de d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es causal no se pueden usar series de tiemp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15F7-75DB-4D1F-9AE7-6581AC83401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 importante ver el horizonte y nivel de agregación que se requiere para el pronóstico de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Estratégic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y agre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s agre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1CF9-0E39-4DC1-89F6-3E265A4ED82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all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Fábrica de Zap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Estratégi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globales a 5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or línea para la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óxima tempor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or modelo y número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a próxima sema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6FDF-FF32-4EBB-AADF-4126DA47DDB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acterísticas de Pronóst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eden fallar. Debe tenerse flexibilidad de rea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s no es sólo en número, mas bien un rango o tener una varianza de la distribu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s agregados son más exactos. Si demandas son independientes, la varianza del promedio es menor que la varianza de cada it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jor pronósticar demanda  por una línea de productos por cada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 mayor horizonte, menor exactitud de pronós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considerar información adicional. Ejemplo: Se acaba de instalar supermercado al lado de mi almacé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70DD-DECF-46F3-96E6-13AA2D20A9D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 dos tip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Cualitativos: son aquellos que dependen de ju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Cuantitativos: son aquellos que poseen un modelo subyac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datos y patrones de datos se utilizan como indicadores confiables para predecir el futu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cluyen Series de Tiempo y Modelos Caus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D88E-B8A3-4E5C-9F8A-63CF60A0E1D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419040" y="2590920"/>
            <a:ext cx="838224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7D0B-38C4-4226-B4C1-C6F4409F9D2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osee poca inform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 alta incertidumb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tiene escasa capacidad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de mediano o largo plaz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 típ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nue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Consuelo</cp:lastModifiedBy>
  <cp:lastPrinted>2002-03-21T07:38:08Z</cp:lastPrinted>
  <dcterms:modified xsi:type="dcterms:W3CDTF">2011-03-18T14:09:49Z</dcterms:modified>
  <cp:revision>185</cp:revision>
  <dc:subject/>
  <dc:title>Comercio Electrónico</dc:title>
</cp:coreProperties>
</file>