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01507-FED3-4EA3-A977-99D9756169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A3735-3C25-4F12-9253-AF8010279D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73D2E-E868-45A9-87EE-9F9CDCA9BB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F3442-BAED-42D7-9C13-FA537ED655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C90CA3-4E7D-4BBC-8B73-E6E700000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C848FC-FD97-464C-948F-48EF62D24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604947-2516-42D3-9F62-0C773D87A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958688-074B-40E9-9745-DF1A9498B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411B1A-C91F-429A-8447-E3C6F7AD3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D20242-5611-482E-A836-4AF9EFC3B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3A075A-E9CF-4A37-9C8B-8577BB33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3DC92-C9B2-4A51-A813-63FDCCA85B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085A13-2664-4ED2-90FD-410863F3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41C52C-F170-484F-8A33-9F003E21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201BAF-AB24-4BD5-9D5C-912F25C90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A8B763-06C9-4147-8E85-6218DCC74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457A4D-2FAA-43EF-9E0B-AA92DF9BC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74177-2F1F-471C-8D65-59829555FF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5AB18-1BCA-4C44-A2E7-E183C3DB58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7FCEF-FB2D-4212-A0B9-37BF187377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6B480-07DB-40B5-B35D-9FEF6C51F1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2667D-98DE-4FE9-98CB-64E6ED8F03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594ED-3005-4D48-9F42-33FCDE90C0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3F445-D934-4504-8DEE-503E492DF2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86C59-787F-4B16-8643-ED59F4BF4ABE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49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1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2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4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imes New Roman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23E49-FF72-471A-9A99-5A1575268A3A}" type="slidenum">
              <a:rPr b="0" lang="es-ES_tradnl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371600" y="3429000"/>
            <a:ext cx="716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pítulo 2:  Pronósticos de Deman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E7AC1-DA4B-4BDE-BAAA-E517F061DB16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Método Delphi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Grupo de expertos que se reúne durante varias sesiones de reconsideraciones en busca de consensos respecto a un grupo de preguntas adecuado a la situación que se enfren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usa en la introducción de nuevos productos y cambios tecnológ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 regular en exactitud y puntos de camb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see un costo mediano o al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BE1ED-2703-47E2-805E-5D53D489B41F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 Empresa que requiere pronóstico de ventas a 5 años y que posee una baja capacidad, lo que hace difícil usar ventas como información de de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rticipación de 23 administrado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atos: PGB, ventas del sector y ventas de la empresa por 5 añ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arias preguntas para obligar a pensar en relac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sultado: Mucha dispersión al comienzo, pero se convergió a un buen pronóstico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A2640-EED7-49C4-A8D2-5F8D3996257F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Encuestas o Estudios de Mercad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rresponden básicamente a paneles, cuestionarios y pruebas de merca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ípicamente se usan para probar nuevos productos (yoghurt) o en test políticos (encuesta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n buenos a cort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seen un alto cos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ermiten identificar puntos de camb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B760F-E365-41E4-82B9-8737B3D67E73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Analogía a los Ciclos de Vid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siste en identificar en que fase de su vida se encuentra un producto, para esto se analizan las curvas de crecimiento de productos similar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a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troduc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recimien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dur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atur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AA60C-DAFA-4876-B70D-F1AB0DEFC8BC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n de larg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seen una exactitud regul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 capta puntos de camb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bajo a med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Jugue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3E964-AC21-42AA-9122-BC27FCA7B676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Juicio Bien Informad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basa sólo en la experiencia y en la intui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enen un gran us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see una exactitud baj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baj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gular en la identificación de puntos de camb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dificios de departamen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9668F-AFA9-4F69-9B6A-8D649630FDD0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os métodos utilizan datos históricos y los proyectan a futur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on de corto plaz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necesario contar con datos intern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o captan patrones de camb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4F453-633E-4CF3-820C-5E82BAB0A0E7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2866680" y="5562720"/>
            <a:ext cx="372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Tahoma"/>
              </a:rPr>
              <a:t>Serie de Tiempo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Picture 7" descr=""/>
          <p:cNvPicPr/>
          <p:nvPr/>
        </p:nvPicPr>
        <p:blipFill>
          <a:blip r:embed="rId1"/>
          <a:stretch/>
        </p:blipFill>
        <p:spPr>
          <a:xfrm>
            <a:off x="1893960" y="1752480"/>
            <a:ext cx="5268960" cy="38242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8"/>
          <p:cNvSpPr/>
          <p:nvPr/>
        </p:nvSpPr>
        <p:spPr>
          <a:xfrm>
            <a:off x="5023440" y="3740040"/>
            <a:ext cx="21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erie de tiempo origin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4245120" y="5078520"/>
            <a:ext cx="89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Tiemp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11"/>
          <p:cNvSpPr/>
          <p:nvPr/>
        </p:nvSpPr>
        <p:spPr>
          <a:xfrm rot="16183800">
            <a:off x="1334160" y="3322080"/>
            <a:ext cx="111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Demand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14DC8-EFB5-47A3-AC5E-470679414468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Picture 9" descr=""/>
          <p:cNvPicPr/>
          <p:nvPr/>
        </p:nvPicPr>
        <p:blipFill>
          <a:blip r:embed="rId1"/>
          <a:stretch/>
        </p:blipFill>
        <p:spPr>
          <a:xfrm>
            <a:off x="2124000" y="1600200"/>
            <a:ext cx="4810320" cy="3774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2291400" y="5562720"/>
            <a:ext cx="47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Tahoma"/>
              </a:rPr>
              <a:t>Serie de Tiempo Descompues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4384800" y="5181480"/>
            <a:ext cx="89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Tiemp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7"/>
          <p:cNvSpPr/>
          <p:nvPr/>
        </p:nvSpPr>
        <p:spPr>
          <a:xfrm rot="16183800">
            <a:off x="1486440" y="3169800"/>
            <a:ext cx="111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Demand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5930640" y="190512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icl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Text Box 11"/>
          <p:cNvSpPr/>
          <p:nvPr/>
        </p:nvSpPr>
        <p:spPr>
          <a:xfrm>
            <a:off x="5891040" y="2743200"/>
            <a:ext cx="164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Patró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e estacionalida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Text Box 12"/>
          <p:cNvSpPr/>
          <p:nvPr/>
        </p:nvSpPr>
        <p:spPr>
          <a:xfrm>
            <a:off x="5916600" y="342900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ndenci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Text Box 13"/>
          <p:cNvSpPr/>
          <p:nvPr/>
        </p:nvSpPr>
        <p:spPr>
          <a:xfrm>
            <a:off x="5928840" y="4038480"/>
            <a:ext cx="59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Ni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Text Box 14"/>
          <p:cNvSpPr/>
          <p:nvPr/>
        </p:nvSpPr>
        <p:spPr>
          <a:xfrm>
            <a:off x="5911200" y="4572000"/>
            <a:ext cx="94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Aleatori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13930-67BE-48DD-B2D0-A179CF995B9E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mponente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uido: parte aleatoria (si es muy alto es difícil hacer pronóstico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aciona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end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ivel (bas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Zapa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el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tradas al estad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D520A-6D92-44A9-8490-24EC308A8EBA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Objetiv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rmiten estudiar la demanda futura, acción importante en el diseño de un produc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s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pac, fue líder en la venta de PCs durante los 80 al pronosticar efectivamente el crecimiento de la de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ord acertó al estimar la demanda por un auto más sencillo y bara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racaso al no pronosticar la necesidad de diversificar (Slogan de G.M.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64480-B8FB-4903-85FE-00D6EF780D19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Not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a observada en el período 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nóstico para el período t+1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medio calculado para el período 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=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-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rror de pronósti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ípicamente se conocen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-k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.....,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y se busca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+2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...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F9458-9961-41A0-82C3-34F101803CBC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.- Promedios Móvi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sugiere que la serie de tiempo tiene componentes de valor promed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toma </a:t>
            </a: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=A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G Times"/>
              </a:rPr>
              <a:t>Períodos más largos, mayor estabilidad pero menor velocidad de respuesta a los cambio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 hay variabilidad en la demanda se pueden usar promedios móviles ponderados, asignando mayor ponderación a los últimos perío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4"/>
              <p:cNvSpPr txBox="1"/>
              <p:nvPr/>
            </p:nvSpPr>
            <p:spPr>
              <a:xfrm>
                <a:off x="1981080" y="3000240"/>
                <a:ext cx="388620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16CF2-9869-4EBB-84EB-8A562CB29049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Promedios Móviles Ponderad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uede ser complejo el cálculo adecuado de los pes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4"/>
              <p:cNvSpPr txBox="1"/>
              <p:nvPr/>
            </p:nvSpPr>
            <p:spPr>
              <a:xfrm>
                <a:off x="2057400" y="2479680"/>
                <a:ext cx="5638680" cy="15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aso anterior, 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8DAE4-7BEF-423A-8FD9-10291C16783F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Alisamiento Exponencial Simpl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ahoma"/>
              </a:rPr>
              <a:t>t-1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fleja la histor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se cree en la última demanda              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se cree en la historia                          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5"/>
              <p:cNvSpPr txBox="1"/>
              <p:nvPr/>
            </p:nvSpPr>
            <p:spPr>
              <a:xfrm>
                <a:off x="2057400" y="2514600"/>
                <a:ext cx="617220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0</m:t>
                        </m:r>
                        <m:r>
                          <m:t xml:space="preserve">&lt;</m:t>
                        </m:r>
                        <m:r>
                          <m:t xml:space="preserve">α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6"/>
              <p:cNvSpPr txBox="1"/>
              <p:nvPr/>
            </p:nvSpPr>
            <p:spPr>
              <a:xfrm>
                <a:off x="6578640" y="4572000"/>
                <a:ext cx="106668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7"/>
              <p:cNvSpPr txBox="1"/>
              <p:nvPr/>
            </p:nvSpPr>
            <p:spPr>
              <a:xfrm>
                <a:off x="6583320" y="5029200"/>
                <a:ext cx="113364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586AD-1C3F-4EFF-92D9-84ABC54175F6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efecto de los primeros períodos se va atenuando en forma exponenci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4"/>
              <p:cNvSpPr txBox="1"/>
              <p:nvPr/>
            </p:nvSpPr>
            <p:spPr>
              <a:xfrm>
                <a:off x="1523880" y="2895480"/>
                <a:ext cx="6934320" cy="215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α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98E32-74ED-4B05-9267-90E9BA9BB153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orma de Us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requiere de las demandas históricas (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 y de un promedio inicial (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va calibrando     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ábrica de Zapa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hilect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4"/>
              <p:cNvSpPr txBox="1"/>
              <p:nvPr/>
            </p:nvSpPr>
            <p:spPr>
              <a:xfrm>
                <a:off x="4343400" y="4305240"/>
                <a:ext cx="29844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5"/>
              <p:cNvSpPr txBox="1"/>
              <p:nvPr/>
            </p:nvSpPr>
            <p:spPr>
              <a:xfrm>
                <a:off x="2374920" y="2997360"/>
                <a:ext cx="3976560" cy="102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03A25-A2C2-467F-9E1E-1CB6071CB0CB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Alisamiento Exponencial con Tendenci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onde 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es la tend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4"/>
              <p:cNvSpPr txBox="1"/>
              <p:nvPr/>
            </p:nvSpPr>
            <p:spPr>
              <a:xfrm>
                <a:off x="1515960" y="2644920"/>
                <a:ext cx="7094520" cy="17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   0</m:t>
                        </m:r>
                        <m:r>
                          <m:t xml:space="preserve">&lt;</m:t>
                        </m:r>
                        <m:r>
                          <m:t xml:space="preserve">α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β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0</m:t>
                        </m:r>
                        <m:r>
                          <m:t xml:space="preserve">&lt;</m:t>
                        </m:r>
                        <m:r>
                          <m:t xml:space="preserve">β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F63AC-84E8-45EE-B782-754A778D6C16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Alisamiento Exponencial con Estacionalidad de Largo </a:t>
            </a:r>
            <a:r>
              <a:rPr b="0" i="1" lang="es-ES_tradnl" sz="28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onde 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es el factor de estaciona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4"/>
              <p:cNvSpPr txBox="1"/>
              <p:nvPr/>
            </p:nvSpPr>
            <p:spPr>
              <a:xfrm>
                <a:off x="1204920" y="2494080"/>
                <a:ext cx="7558200" cy="34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0</m:t>
                        </m:r>
                        <m:r>
                          <m:t xml:space="preserve">&lt;</m:t>
                        </m:r>
                        <m:r>
                          <m:t xml:space="preserve">α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γ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R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0</m:t>
                        </m:r>
                        <m:r>
                          <m:t xml:space="preserve">&lt;</m:t>
                        </m:r>
                        <m:r>
                          <m:t xml:space="preserve">γ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5412C-5582-4E6D-A78A-CD06EC10DF0A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rrores de Pronóstic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s indicadores de error sirven para ver en qué momento el pronóstico falla o los datos no sirv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dicador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sviación media absolut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4"/>
              <p:cNvSpPr txBox="1"/>
              <p:nvPr/>
            </p:nvSpPr>
            <p:spPr>
              <a:xfrm>
                <a:off x="1981080" y="4724280"/>
                <a:ext cx="243864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D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t</m:t>
                            </m:r>
                          </m:sub>
                          <m:sup/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2358F-7E88-486E-AE57-D043FC72A4D7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sviación media absoluta suavizada (se suaviza MA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 forma análoga a como se suaviza el promedio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lcular para distintos valores de alfa entre 0 y 1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5"/>
              <p:cNvSpPr txBox="1"/>
              <p:nvPr/>
            </p:nvSpPr>
            <p:spPr>
              <a:xfrm>
                <a:off x="2379600" y="2057400"/>
                <a:ext cx="55832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D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D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B6601-125B-4C9B-ADE1-D64F636922C7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ra tener en cuent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ronóstico - Plane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Demanda - Vent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598680" y="4416480"/>
            <a:ext cx="8215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Nota: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Se llama muestreo censurado al proceso de conteo en que las demanda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mayores al stock disponible no se registran. Existen métodos estadísticos que trata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de extrapolar los datos que se tiene para estimar la demanda más probable. Con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éstos se mejora significativamente el pronóstico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24C94-9C6D-4690-A683-2D438EB7FEC4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ñal de Rastre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onde el numerador corresponde al sesgo y el denominador al último MAD observ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 T                (confiabilidad menor al 97%), entonces debe revisarse el modelo ya que esta sesg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4"/>
              <p:cNvSpPr txBox="1"/>
              <p:nvPr/>
            </p:nvSpPr>
            <p:spPr>
              <a:xfrm>
                <a:off x="1905120" y="2362320"/>
                <a:ext cx="62481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uma acumulada de la desviación del pronóstic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A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5"/>
              <p:cNvSpPr txBox="1"/>
              <p:nvPr/>
            </p:nvSpPr>
            <p:spPr>
              <a:xfrm>
                <a:off x="2946240" y="4114800"/>
                <a:ext cx="99072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,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960F4-2CCB-44F5-B6CC-938427E41995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Regresión: Modelo line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ariable independi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ariable dependi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idea es ajustar una curva a los puntos con que se cuen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4"/>
              <p:cNvSpPr txBox="1"/>
              <p:nvPr/>
            </p:nvSpPr>
            <p:spPr>
              <a:xfrm>
                <a:off x="1981080" y="2209680"/>
                <a:ext cx="167652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5"/>
              <p:cNvSpPr txBox="1"/>
              <p:nvPr/>
            </p:nvSpPr>
            <p:spPr>
              <a:xfrm>
                <a:off x="1905120" y="3048120"/>
                <a:ext cx="3697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6"/>
              <p:cNvSpPr txBox="1"/>
              <p:nvPr/>
            </p:nvSpPr>
            <p:spPr>
              <a:xfrm>
                <a:off x="1373040" y="4700520"/>
                <a:ext cx="7236000" cy="11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5522B-9049-44E1-BB84-1CBD9932C6CD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o resultado se obtien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4"/>
              <p:cNvSpPr txBox="1"/>
              <p:nvPr/>
            </p:nvSpPr>
            <p:spPr>
              <a:xfrm>
                <a:off x="1981080" y="2286000"/>
                <a:ext cx="4915080" cy="331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f>
                          <m:num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  <m:r>
                                  <m:t xml:space="preserve">⋅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</m:d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5360C-95F3-4EE1-9F8B-81F19B38B0E8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eficiente de determinación: R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ahoma"/>
              </a:rPr>
              <a:t>2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onde R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mide la proporción de la variación de </a:t>
            </a: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explicada por </a:t>
            </a: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alores sobre 0,95 se consideran buen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5"/>
              <p:cNvSpPr txBox="1"/>
              <p:nvPr/>
            </p:nvSpPr>
            <p:spPr>
              <a:xfrm>
                <a:off x="1676520" y="1616040"/>
                <a:ext cx="6858000" cy="234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⋅</m:t>
                                    </m:r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nary>
                                <m:r>
                                  <m:t xml:space="preserve">−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  <m:r>
                                  <m:t xml:space="preserve">⋅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9169D-5620-4220-964F-FDD82BCBF481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y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nta de periód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úmero de habita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greso per capi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etenci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uede extender a formulaciones complej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Object 4"/>
              <p:cNvSpPr txBox="1"/>
              <p:nvPr/>
            </p:nvSpPr>
            <p:spPr>
              <a:xfrm>
                <a:off x="1981080" y="4800600"/>
                <a:ext cx="205740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D6052-48CE-4D81-91F3-D264606AE4D5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incipales 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 útil cuando existen fuertes relaciones causa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so típico para horizontes de corto y median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ermite identificar bien puntos de camb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82D55-DB48-4F0A-AD2C-950085BB4879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Modelos Econométric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 de ecuaciones de regresión interdependientes para describir un proceso complej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lejidad al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al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n de larg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uenos para identificar puntos de camb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C0A0B-14F9-4786-82AF-C6A550AD7E42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cio cob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ctores de la economí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7F196-A9D6-494A-81C8-F1DECC99D93F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Simul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simulación de sistemas es complej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a de implement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orizonte de corto a median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uede identificar puntos de camb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istribución en cadena, para ver demanda de distintos elemen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lanos de producción, para conocer la demanda por insum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ransporte urbano, para ver equilibrio vehicul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E44E4-7D53-40F8-8689-3B5C54B43FD6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riterios de Ele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1.- Sofisticación del usuario y del sistem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o se deben dar saltos brusc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2.- Tiempo y recursos disponib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3.- Tipo de decis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rade-off entre costo y calidad del pronóstic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jemplo: Falabella vs Negocio chic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4.- Disponibilidad de da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ox-Jenkins es una serie de tiempo autocorrelacionada (por ejemplo, si demanda sube en t, es probable que siga subiendo en ( t+1), que exige mas de 60 datos (60 meses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5.- Patrón de da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i es causal no se pueden usar series de tiemp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F7269-819F-4964-B977-734E14D7B006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s importante ver el horizonte y nivel de agregación que se requiere para el pronóstico de demand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ivel Estratégico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rg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uy agreg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ivel Táctic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dian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nos agreg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6E526-AC90-4DBE-9E6D-3FB038F9A01D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ivel Operativ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rt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tall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 Fábrica de Zapa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ivel Estratégico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s globales a 5 añ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ivel Táctico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 por línea para la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óxima tempora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ivel Operativo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 por modelo y número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ra la próxima seman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759B4-9C9F-482D-928F-7C35639D36FC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racterísticas de Pronóstic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ueden fallar. Debe tenerse flexibilidad de reac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nósticos no es sólo en número, mas bien un rango o tener una varianza de la distribu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nósticos agregados son más exactos. Si demandas son independientes, la varianza del promedio es menor que la varianza de cada it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ejor pronósticar demanda  por una línea de productos por cada produc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 mayor horizonte, menor exactitud de pronósti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be considerar información adicional. Ejemplo: Se acaba de instalar supermercado al lado de mi almacé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8DF97-D8D8-4DCD-A055-D8E5981EFAF1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de Pronóst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xisten dos tip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étodos Cualitativos: son aquellos que dependen de juic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étodos Cuantitativos: son aquellos que poseen un modelo subyac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os datos y patrones de datos se utilizan como indicadores confiables para predecir el futur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cluyen Series de Tiempo y Modelos Causa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EFAE1-9364-4DE5-9A7E-965E136C976C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de Pronóst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s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419040" y="2590920"/>
            <a:ext cx="838224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CAA9E-45EB-42CC-9689-DFB71C205FDD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 Genera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osee poca inform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xiste alta incertidumb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tiene escasa capacidad de proces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orizonte de mediano o largo plaz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so típic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s nuev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14:21:15Z</dcterms:created>
  <dc:creator>Dpto. Ingeniería Industrial</dc:creator>
  <dc:description/>
  <dc:language>en-US</dc:language>
  <cp:lastModifiedBy>Consuelo</cp:lastModifiedBy>
  <cp:lastPrinted>2002-03-21T07:38:08Z</cp:lastPrinted>
  <dcterms:modified xsi:type="dcterms:W3CDTF">2011-03-18T14:09:49Z</dcterms:modified>
  <cp:revision>185</cp:revision>
  <dc:subject/>
  <dc:title>Comercio Electrónico</dc:title>
</cp:coreProperties>
</file>